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media/image10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6642000" cy="99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3"/>
          </p:nvPr>
        </p:nvSpPr>
        <p:spPr>
          <a:xfrm>
            <a:off x="3762000" y="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body"/>
          </p:nvPr>
        </p:nvSpPr>
        <p:spPr>
          <a:xfrm>
            <a:off x="884160" y="4703400"/>
            <a:ext cx="4872240" cy="44578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ftr" idx="4"/>
          </p:nvPr>
        </p:nvSpPr>
        <p:spPr>
          <a:xfrm>
            <a:off x="-36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 type="sldNum" idx="5"/>
          </p:nvPr>
        </p:nvSpPr>
        <p:spPr>
          <a:xfrm>
            <a:off x="3762000" y="9408960"/>
            <a:ext cx="2878200" cy="4953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753E2B08-9B43-49E3-A262-AFF46DE57F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844560" y="743040"/>
            <a:ext cx="4951440" cy="371304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84160" y="4703400"/>
            <a:ext cx="4872240" cy="445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éthodes et techniques avancées pour l'analyse Environnementale dans les zones à haute Densité indUstrielle à l'aide des Sondes optoÉlectron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8A1B-2707-47DD-BE28-DA6EC13A05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44D0-9BE2-440E-A535-1DFD6B7CC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2307C-3053-49BA-9C14-FFB2175C2F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416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1430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64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1416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A2E3-5842-4B44-B1E1-7408B2CCEE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CF93-077A-4574-BF6D-A38C4A8574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CFE5-EEA5-45E8-886B-E6FB82B13A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4CB87-EACE-47EF-B573-CEB969816E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AF9D6-062E-4216-906D-52BE3EA8E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64298-39FC-40EB-BED3-C59D461E90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8001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B853-0000-4BC8-9568-373A988DA8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727D-02C8-4433-9F8A-222E4468D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648A-E54F-477B-857E-6FE8F29A96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98B7E-AA3B-4B5C-941E-5553CEF54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56773-60F7-4C1B-9BA8-7F8007B244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32D4-105C-444B-9419-122422D7F9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252BB-0AD9-480F-9F86-3F0FB50E51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64248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41600" y="182844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1430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64248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41600" y="4057200"/>
            <a:ext cx="23799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3EA7-1419-4E80-97DD-8E1DE55B6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DC84-48DD-4298-9F23-52DCB9D57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F98C-BFD5-421A-A6D6-298E15382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88A02-02BB-4807-85B8-4B6C55A00B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80010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5E0FB-7A8F-44A8-BDFF-E93AAD9B0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5AE2-71A9-48EA-B180-2B9713B4A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30560" y="405720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3C255-7891-49C7-BCD4-6D962BCE1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0560" y="1828440"/>
            <a:ext cx="360684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43000" y="4057200"/>
            <a:ext cx="739152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3600-CC5F-48F4-B0EA-35986BDFE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51992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035000" cy="6858000"/>
          </a:xfrm>
          <a:prstGeom prst="rect">
            <a:avLst/>
          </a:prstGeom>
          <a:gradFill rotWithShape="0">
            <a:gsLst>
              <a:gs pos="0">
                <a:srgbClr val="2dffaa"/>
              </a:gs>
              <a:gs pos="100000">
                <a:srgbClr val="005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0920" y="125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80920" y="582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80920" y="1041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0920" y="1268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80920" y="14986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0920" y="1725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80920" y="1955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880920" y="2184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80920" y="812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12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685800" y="1138320"/>
            <a:ext cx="8152920" cy="382320"/>
            <a:chOff x="685800" y="1138320"/>
            <a:chExt cx="8152920" cy="382320"/>
          </a:xfrm>
        </p:grpSpPr>
        <p:sp>
          <p:nvSpPr>
            <p:cNvPr id="21" name=""/>
            <p:cNvSpPr/>
            <p:nvPr/>
          </p:nvSpPr>
          <p:spPr>
            <a:xfrm>
              <a:off x="3115080" y="1138320"/>
              <a:ext cx="5723640" cy="382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00a05f"/>
                </a:gs>
                <a:gs pos="100000">
                  <a:srgbClr val="0052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040560" y="1178280"/>
              <a:ext cx="5726880" cy="302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00d27d"/>
                </a:gs>
                <a:gs pos="100000">
                  <a:srgbClr val="0052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999880" y="1230480"/>
              <a:ext cx="5722920" cy="19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00ff99"/>
                </a:gs>
                <a:gs pos="100000">
                  <a:srgbClr val="0052a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685800" y="1310040"/>
              <a:ext cx="7918560" cy="3960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Futura Md BT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26" name=""/>
          <p:cNvSpPr/>
          <p:nvPr/>
        </p:nvSpPr>
        <p:spPr>
          <a:xfrm>
            <a:off x="331920" y="6407280"/>
            <a:ext cx="3859200" cy="4492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sldNum" idx="1"/>
          </p:nvPr>
        </p:nvSpPr>
        <p:spPr>
          <a:xfrm>
            <a:off x="341280" y="6424560"/>
            <a:ext cx="40449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" name=""/>
          <p:cNvGraphicFramePr/>
          <p:nvPr/>
        </p:nvGraphicFramePr>
        <p:xfrm>
          <a:off x="8386920" y="6172200"/>
          <a:ext cx="757080" cy="473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6920" y="6172200"/>
                    <a:ext cx="757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" name="logoIFAC%20con%20fondo%20trasparente" descr=""/>
          <p:cNvPicPr/>
          <p:nvPr/>
        </p:nvPicPr>
        <p:blipFill>
          <a:blip r:embed="rId4"/>
          <a:stretch/>
        </p:blipFill>
        <p:spPr>
          <a:xfrm>
            <a:off x="22320" y="57240"/>
            <a:ext cx="947520" cy="5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" name=""/>
          <p:cNvGraphicFramePr/>
          <p:nvPr/>
        </p:nvGraphicFramePr>
        <p:xfrm>
          <a:off x="7432560" y="6218280"/>
          <a:ext cx="87336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32560" y="6218280"/>
                    <a:ext cx="8733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" name=""/>
          <p:cNvGraphicFramePr/>
          <p:nvPr/>
        </p:nvGraphicFramePr>
        <p:xfrm>
          <a:off x="12600" y="614520"/>
          <a:ext cx="101448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600" y="614520"/>
                    <a:ext cx="1014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1035000" cy="6858000"/>
          </a:xfrm>
          <a:prstGeom prst="rect">
            <a:avLst/>
          </a:prstGeom>
          <a:gradFill rotWithShape="0">
            <a:gsLst>
              <a:gs pos="0">
                <a:srgbClr val="2dffaa"/>
              </a:gs>
              <a:gs pos="100000">
                <a:srgbClr val="005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80920" y="125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80920" y="582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80920" y="1041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80920" y="1268280"/>
            <a:ext cx="66960" cy="669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0920" y="14986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0920" y="1725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80920" y="1955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80920" y="2184480"/>
            <a:ext cx="66960" cy="651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80920" y="812880"/>
            <a:ext cx="66960" cy="63360"/>
          </a:xfrm>
          <a:prstGeom prst="ellipse">
            <a:avLst/>
          </a:prstGeom>
          <a:solidFill>
            <a:srgbClr val="003d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838080"/>
            <a:ext cx="8837640" cy="3276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240" y="144792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331920" y="6407280"/>
            <a:ext cx="3859200" cy="4492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4538520" y="6670800"/>
            <a:ext cx="4332600" cy="64800"/>
            <a:chOff x="4538520" y="6670800"/>
            <a:chExt cx="4332600" cy="64800"/>
          </a:xfrm>
        </p:grpSpPr>
        <p:sp>
          <p:nvSpPr>
            <p:cNvPr id="85" name=""/>
            <p:cNvSpPr/>
            <p:nvPr/>
          </p:nvSpPr>
          <p:spPr>
            <a:xfrm>
              <a:off x="45385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483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5784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6732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97716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86640" y="6670800"/>
              <a:ext cx="6660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196120" y="6670800"/>
              <a:ext cx="669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05960" y="6670800"/>
              <a:ext cx="65160" cy="6480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2"/>
          <p:cNvSpPr>
            <a:spLocks noGrp="1"/>
          </p:cNvSpPr>
          <p:nvPr>
            <p:ph type="sldNum" idx="2"/>
          </p:nvPr>
        </p:nvSpPr>
        <p:spPr>
          <a:xfrm>
            <a:off x="341280" y="6424560"/>
            <a:ext cx="404496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–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logoIFAC%20con%20fondo%20trasparente" descr=""/>
          <p:cNvPicPr/>
          <p:nvPr/>
        </p:nvPicPr>
        <p:blipFill>
          <a:blip r:embed="rId2"/>
          <a:stretch/>
        </p:blipFill>
        <p:spPr>
          <a:xfrm>
            <a:off x="22320" y="57240"/>
            <a:ext cx="947520" cy="5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8386920" y="6172200"/>
          <a:ext cx="757080" cy="47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6920" y="6172200"/>
                    <a:ext cx="7570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7432560" y="6218280"/>
          <a:ext cx="873360" cy="40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432560" y="6218280"/>
                    <a:ext cx="87336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600" y="614520"/>
          <a:ext cx="1014480" cy="28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600" y="614520"/>
                    <a:ext cx="10144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139760"/>
            <a:ext cx="8839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600" spc="-1" strike="noStrike">
                <a:solidFill>
                  <a:srgbClr val="ffff99"/>
                </a:solidFill>
                <a:latin typeface="Verdana"/>
              </a:rPr>
              <a:t>MEDUSE</a:t>
            </a:r>
            <a:endParaRPr b="1" lang="en-US" sz="96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82160" y="4184280"/>
            <a:ext cx="80614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99"/>
                </a:solidFill>
                <a:latin typeface="Lucida Sans Unicode"/>
              </a:rPr>
              <a:t>GIOVANNA CECCHI</a:t>
            </a:r>
            <a:r>
              <a:rPr b="0" lang="it-IT" sz="2800" spc="-1" strike="noStrike">
                <a:solidFill>
                  <a:srgbClr val="ffff99"/>
                </a:solidFill>
                <a:latin typeface="Lucida Sans Unicode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99"/>
                </a:solidFill>
                <a:latin typeface="Lucida Sans Unicode"/>
              </a:rPr>
              <a:t>Istituto di Fisica Applicata “N.Carrara” - CNR Polo Scientifico SestoFiorentino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0340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Metodi e tecniche </a:t>
            </a:r>
            <a:br>
              <a:rPr sz="4000"/>
            </a:b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optoelettroniche avanzate </a:t>
            </a:r>
            <a:br>
              <a:rPr sz="4000"/>
            </a:b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per l’analisi ambientale</a:t>
            </a:r>
            <a:br>
              <a:rPr sz="4000"/>
            </a:br>
            <a:r>
              <a:rPr b="1" lang="it-IT" sz="4000" spc="-1" strike="noStrike">
                <a:solidFill>
                  <a:srgbClr val="ffff99"/>
                </a:solidFill>
                <a:latin typeface="Lucida Sans Unicode"/>
              </a:rPr>
              <a:t> in zone ad alta densità industrial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4B06B-A89E-4DEC-A860-BA60A7E7C4E0}" type="slidenum">
              <a:t>1</a:t>
            </a:fld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9907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OLIDI IN SOSPENSION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0.1 - 100 FTU e accuratezza: +/- 5 mg/l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10 - 5,000 mg/l in acque di scarico ( possibile misure sino a 10g/l )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TORBIDITA’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 0.001 - 500 FNU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OSTANZE ORGANICH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TOCeq-DOCeq range:  0 - 500mg/l  e accuratezza: +/- 0.1 mg/l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CODeq-BODeq range: 10 - 100 mg/l e accuratezza: +/- 5 mg/l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INGOLE SOSTANZE ORGANICHE</a:t>
            </a:r>
            <a:br>
              <a:rPr sz="2000"/>
            </a:b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Benzene, Xylene,Toluene, Naftalene, Nitrobenzene, Fenolo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0.01 - 100 mg/l (benzene, toluene, xylene) accuratezza: +/- 0.05 mg/l (possibile sino a +/- 0.005)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Nitrati 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0.1 - 100mg/l e Accuratezza: +/- 0.1 mg/l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H</a:t>
            </a:r>
            <a:r>
              <a:rPr b="1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62 mg/l - 1g/l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Ione Solfuro di Idrogeno HS</a:t>
            </a:r>
            <a:r>
              <a:rPr b="1" lang="it-IT" sz="2000" spc="-1" strike="noStrike" baseline="30000">
                <a:solidFill>
                  <a:srgbClr val="ffff66"/>
                </a:solidFill>
                <a:latin typeface="Comic Sans MS"/>
              </a:rPr>
              <a:t>-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 (non per H</a:t>
            </a:r>
            <a:r>
              <a:rPr b="1" lang="it-IT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S disciolto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812880" indent="-2570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Range: 1 </a:t>
            </a:r>
            <a:r>
              <a:rPr b="1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g/l - 10 mg/L (cella 6 cm) , 75 </a:t>
            </a:r>
            <a:r>
              <a:rPr b="1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g/l - 62 mg/l (cella 0.1 cm)</a:t>
            </a:r>
            <a:br>
              <a:rPr sz="1400"/>
            </a:br>
            <a:r>
              <a:rPr b="1" lang="it-IT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ASSORBIMENTO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3E8F-B849-4281-91A8-814A4A2D289A}" type="slidenum">
              <a:t>10</a:t>
            </a:fld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990360" y="12949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  <a:ea typeface="Arial"/>
              </a:rPr>
              <a:t>CLOROFILLA</a:t>
            </a:r>
            <a:r>
              <a:rPr b="1" lang="it-IT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Eccitazione a 470 nm rilevamento a 685 n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Range: 0-10/0-1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  <a:ea typeface="Arial"/>
              </a:rPr>
              <a:t>CIANOBATTERI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Eccitazione a 620 nm rilevamento a 655 n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Range: 0-10/0-1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  <a:ea typeface="Arial"/>
              </a:rPr>
              <a:t>CDO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isura del COLORE delle sostanze organiche disciolte nelle acqu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Eccitazione a 370 nm rilevamento a 460 nm 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 0-2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IDROCARBURI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Eccitazione a 254 nm rilevamento a 360 nm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 0-500/0-5.000 </a:t>
            </a:r>
            <a:r>
              <a:rPr b="1" lang="it-IT" sz="1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g/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1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66"/>
                </a:solidFill>
                <a:latin typeface="Comic Sans MS"/>
              </a:rPr>
              <a:t>OSSIGENO DISCIOLTO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S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ensore ottico registra la fluorescenza e la reazione di estinzione di un componente di Rutenio che è immobilizzato in una matrice colloidale in forma liquida (sol-gel).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lvl="1" marL="903240" indent="-285840">
              <a:lnSpc>
                <a:spcPct val="110000"/>
              </a:lnSpc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 0.0 a 25.0 mg/l</a:t>
            </a: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FLUORESCENZA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819E6-ABD6-430E-901F-CBAAF9AF7B6E}" type="slidenum">
              <a:t>11</a:t>
            </a:fld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Futura Md BT"/>
              </a:rPr>
              <a:t>COD Chemical Oxygen Demand </a:t>
            </a:r>
            <a:endParaRPr b="1" lang="en-US" sz="36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259" name=""/>
          <p:cNvSpPr/>
          <p:nvPr/>
        </p:nvSpPr>
        <p:spPr>
          <a:xfrm>
            <a:off x="1143000" y="1600200"/>
            <a:ext cx="3581280" cy="3581280"/>
          </a:xfrm>
          <a:prstGeom prst="rect">
            <a:avLst/>
          </a:prstGeom>
          <a:noFill/>
          <a:ln w="381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6840" indent="-96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ETODO CLAS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Ossidazione chimica delle sostanza carboniose mediante metodo al bicromato di potass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Inefficace per prodotti volatili, non considera ammoniaca e interferenza per presenza di clorur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Preliev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Tempo misura &gt;3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Uso di reagen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1600200"/>
            <a:ext cx="4190760" cy="3581280"/>
          </a:xfrm>
          <a:prstGeom prst="rect">
            <a:avLst/>
          </a:prstGeom>
          <a:noFill/>
          <a:ln w="3816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6840" indent="-968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ETODO OPTOELETTRONICO IN LINE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isure di assorbimento a lunghezze d’onda specifiche (es. 254n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Calibrazione tramite misurazioni effettuate con metodo clas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Misure in line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Tempo misura ~ 10 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Range: 0-20000 mg/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96840" indent="-9684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Comic Sans MS"/>
              </a:rPr>
              <a:t>No operatore, No reagenti, Basso costo strumentazi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43000" y="5334120"/>
            <a:ext cx="800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ff"/>
                </a:solidFill>
                <a:latin typeface="Comic Sans MS"/>
                <a:ea typeface="Arial"/>
              </a:rPr>
              <a:t>Le molecole organiche insature ( come la cellulosa ed i suoi derivati) hanno un buon assorbimento della radiazione UV a 254 nm ed essa è facilmente correlabile e lineare con la misura di concentrazione ottenuta con l’analisi di laboratorio del COD.</a:t>
            </a:r>
            <a:r>
              <a:rPr b="0" i="1" lang="it-IT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861080" y="1574640"/>
            <a:ext cx="4190760" cy="3657600"/>
            <a:chOff x="4861080" y="1574640"/>
            <a:chExt cx="4190760" cy="3657600"/>
          </a:xfrm>
        </p:grpSpPr>
        <p:sp>
          <p:nvSpPr>
            <p:cNvPr id="263" name=""/>
            <p:cNvSpPr/>
            <p:nvPr/>
          </p:nvSpPr>
          <p:spPr>
            <a:xfrm>
              <a:off x="4861080" y="1574640"/>
              <a:ext cx="4190760" cy="36576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13000" y="2641680"/>
              <a:ext cx="1447560" cy="1447560"/>
            </a:xfrm>
            <a:prstGeom prst="ellipse">
              <a:avLst/>
            </a:prstGeom>
            <a:solidFill>
              <a:srgbClr val="0099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7375320" y="2260440"/>
              <a:ext cx="685440" cy="2286000"/>
              <a:chOff x="7375320" y="2260440"/>
              <a:chExt cx="685440" cy="2286000"/>
            </a:xfrm>
          </p:grpSpPr>
          <p:sp>
            <p:nvSpPr>
              <p:cNvPr id="266" name=""/>
              <p:cNvSpPr/>
              <p:nvPr/>
            </p:nvSpPr>
            <p:spPr>
              <a:xfrm>
                <a:off x="7375320" y="2260440"/>
                <a:ext cx="685440" cy="2286000"/>
              </a:xfrm>
              <a:custGeom>
                <a:avLst/>
                <a:gdLst/>
                <a:ahLst/>
                <a:rect l="l" t="t" r="r" b="b"/>
                <a:pathLst>
                  <a:path w="432" h="1440">
                    <a:moveTo>
                      <a:pt x="0" y="1440"/>
                    </a:moveTo>
                    <a:lnTo>
                      <a:pt x="0" y="1008"/>
                    </a:lnTo>
                    <a:lnTo>
                      <a:pt x="96" y="912"/>
                    </a:lnTo>
                    <a:lnTo>
                      <a:pt x="96" y="480"/>
                    </a:lnTo>
                    <a:lnTo>
                      <a:pt x="0" y="384"/>
                    </a:lnTo>
                    <a:lnTo>
                      <a:pt x="0" y="0"/>
                    </a:lnTo>
                    <a:lnTo>
                      <a:pt x="432" y="0"/>
                    </a:lnTo>
                    <a:lnTo>
                      <a:pt x="432" y="384"/>
                    </a:lnTo>
                    <a:lnTo>
                      <a:pt x="336" y="480"/>
                    </a:lnTo>
                    <a:lnTo>
                      <a:pt x="336" y="912"/>
                    </a:lnTo>
                    <a:lnTo>
                      <a:pt x="432" y="1008"/>
                    </a:lnTo>
                    <a:lnTo>
                      <a:pt x="432" y="1440"/>
                    </a:lnTo>
                    <a:lnTo>
                      <a:pt x="0" y="14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2f75"/>
                  </a:gs>
                  <a:gs pos="50000">
                    <a:srgbClr val="6666ff"/>
                  </a:gs>
                  <a:gs pos="100000">
                    <a:srgbClr val="2f2f75"/>
                  </a:gs>
                </a:gsLst>
                <a:lin ang="10800000"/>
              </a:gra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603560" y="3936600"/>
                <a:ext cx="228240" cy="457200"/>
              </a:xfrm>
              <a:prstGeom prst="upArrow">
                <a:avLst>
                  <a:gd name="adj1" fmla="val 50000"/>
                  <a:gd name="adj2" fmla="val 50079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603560" y="2412720"/>
                <a:ext cx="228240" cy="457200"/>
              </a:xfrm>
              <a:prstGeom prst="upArrow">
                <a:avLst>
                  <a:gd name="adj1" fmla="val 50000"/>
                  <a:gd name="adj2" fmla="val 50079"/>
                </a:avLst>
              </a:prstGeom>
              <a:solidFill>
                <a:srgbClr val="0099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7965720" y="3070080"/>
              <a:ext cx="952200" cy="609840"/>
              <a:chOff x="7965720" y="3070080"/>
              <a:chExt cx="952200" cy="609840"/>
            </a:xfrm>
          </p:grpSpPr>
          <p:sp>
            <p:nvSpPr>
              <p:cNvPr id="270" name=""/>
              <p:cNvSpPr/>
              <p:nvPr/>
            </p:nvSpPr>
            <p:spPr>
              <a:xfrm>
                <a:off x="8727480" y="3252960"/>
                <a:ext cx="190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727480" y="3435840"/>
                <a:ext cx="1904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965720" y="3070080"/>
                <a:ext cx="634680" cy="6098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583320" y="4302000"/>
              <a:ext cx="609120" cy="533520"/>
              <a:chOff x="6583320" y="4302000"/>
              <a:chExt cx="609120" cy="533520"/>
            </a:xfrm>
          </p:grpSpPr>
          <p:sp>
            <p:nvSpPr>
              <p:cNvPr id="274" name=""/>
              <p:cNvSpPr/>
              <p:nvPr/>
            </p:nvSpPr>
            <p:spPr>
              <a:xfrm>
                <a:off x="6977880" y="4594320"/>
                <a:ext cx="0" cy="15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95360" y="4594320"/>
                <a:ext cx="0" cy="1598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5400000">
                <a:off x="6621120" y="4264200"/>
                <a:ext cx="533520" cy="609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5851440" y="3174840"/>
              <a:ext cx="1675800" cy="38124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66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41800" y="3556080"/>
              <a:ext cx="152280" cy="53316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66cc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08840" y="3251160"/>
              <a:ext cx="380520" cy="228600"/>
            </a:xfrm>
            <a:prstGeom prst="rect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0066cc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2790000">
              <a:off x="6446880" y="3264480"/>
              <a:ext cx="863640" cy="745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27600" y="3203640"/>
              <a:ext cx="380880" cy="303120"/>
            </a:xfrm>
            <a:prstGeom prst="rect">
              <a:avLst/>
            </a:prstGeom>
            <a:solidFill>
              <a:srgbClr val="0099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98800" y="2946240"/>
              <a:ext cx="152280" cy="76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66cc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775120" y="2349360"/>
              <a:ext cx="0" cy="596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775120" y="3708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9320" y="2031840"/>
              <a:ext cx="13712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Lampada UV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994440" y="1803240"/>
              <a:ext cx="144720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Cella Fluss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2520" y="4699080"/>
              <a:ext cx="1142640" cy="30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Rivelato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232320" y="4546080"/>
              <a:ext cx="30456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089320" y="4470480"/>
              <a:ext cx="1142640" cy="520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ffffff"/>
                  </a:solidFill>
                  <a:latin typeface="Arial"/>
                </a:rPr>
                <a:t>Rivelatore Rif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8594640" y="3860280"/>
              <a:ext cx="75600" cy="838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AF088-167F-430F-B334-7FD93D9ECE18}" type="slidenum">
              <a:t>12</a:t>
            </a:fld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990720" y="696960"/>
            <a:ext cx="815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99"/>
                </a:solidFill>
                <a:latin typeface="Tahoma"/>
              </a:rPr>
              <a:t>COD: Chemical Oxygen Demand</a:t>
            </a:r>
            <a:r>
              <a:rPr b="1" lang="it-IT" sz="44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523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Le molecole organiche insature presentano un buon assorbimento della radiazione UV a 254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 E’ possibile mettere in relazione lineare l’analisi di laboratorio del COD con questo parametro facilmente misurabile in linea.</a:t>
            </a:r>
            <a:r>
              <a:rPr b="0" lang="en-US" sz="17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066680" y="2590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’ possibile migliorare i risultati ottenuti prendendo in considerazione anche altri parametri misurabili in linea e relazioni più complesse di quella line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2209680" y="3429000"/>
            <a:ext cx="5867640" cy="2743200"/>
            <a:chOff x="2209680" y="3429000"/>
            <a:chExt cx="5867640" cy="2743200"/>
          </a:xfrm>
        </p:grpSpPr>
        <p:sp>
          <p:nvSpPr>
            <p:cNvPr id="295" name=""/>
            <p:cNvSpPr/>
            <p:nvPr/>
          </p:nvSpPr>
          <p:spPr>
            <a:xfrm>
              <a:off x="3429000" y="34290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ffff"/>
                  </a:solidFill>
                  <a:latin typeface="Times New Roman"/>
                </a:rPr>
                <a:t>RETI NEURAL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2209680" y="3962520"/>
              <a:ext cx="5867640" cy="2209680"/>
              <a:chOff x="2209680" y="3962520"/>
              <a:chExt cx="5867640" cy="2209680"/>
            </a:xfrm>
          </p:grpSpPr>
          <p:sp>
            <p:nvSpPr>
              <p:cNvPr id="297" name=""/>
              <p:cNvSpPr/>
              <p:nvPr/>
            </p:nvSpPr>
            <p:spPr>
              <a:xfrm>
                <a:off x="3276720" y="41911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276720" y="48769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800600" y="48769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800600" y="57913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00600" y="39625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48520" y="48769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03" name=""/>
              <p:cNvCxnSpPr>
                <a:stCxn id="297" idx="3"/>
                <a:endCxn id="301" idx="1"/>
              </p:cNvCxnSpPr>
              <p:nvPr/>
            </p:nvCxnSpPr>
            <p:spPr>
              <a:xfrm flipV="1">
                <a:off x="3733560" y="4152240"/>
                <a:ext cx="1067400" cy="2293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4" name=""/>
              <p:cNvCxnSpPr>
                <a:stCxn id="297" idx="3"/>
                <a:endCxn id="299" idx="1"/>
              </p:cNvCxnSpPr>
              <p:nvPr/>
            </p:nvCxnSpPr>
            <p:spPr>
              <a:xfrm>
                <a:off x="3733560" y="4381200"/>
                <a:ext cx="1067400" cy="6865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5" name=""/>
              <p:cNvCxnSpPr>
                <a:stCxn id="297" idx="3"/>
                <a:endCxn id="300" idx="1"/>
              </p:cNvCxnSpPr>
              <p:nvPr/>
            </p:nvCxnSpPr>
            <p:spPr>
              <a:xfrm>
                <a:off x="3733560" y="4381200"/>
                <a:ext cx="1067400" cy="16009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6" name=""/>
              <p:cNvCxnSpPr>
                <a:stCxn id="298" idx="3"/>
                <a:endCxn id="301" idx="1"/>
              </p:cNvCxnSpPr>
              <p:nvPr/>
            </p:nvCxnSpPr>
            <p:spPr>
              <a:xfrm flipV="1">
                <a:off x="3733560" y="4152600"/>
                <a:ext cx="106740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7" name=""/>
              <p:cNvCxnSpPr>
                <a:stCxn id="298" idx="3"/>
                <a:endCxn id="299" idx="1"/>
              </p:cNvCxnSpPr>
              <p:nvPr/>
            </p:nvCxnSpPr>
            <p:spPr>
              <a:xfrm>
                <a:off x="3733560" y="5067000"/>
                <a:ext cx="106740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8" name=""/>
              <p:cNvCxnSpPr>
                <a:stCxn id="298" idx="3"/>
                <a:endCxn id="300" idx="1"/>
              </p:cNvCxnSpPr>
              <p:nvPr/>
            </p:nvCxnSpPr>
            <p:spPr>
              <a:xfrm>
                <a:off x="3733560" y="5067360"/>
                <a:ext cx="106740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09" name=""/>
              <p:cNvCxnSpPr>
                <a:stCxn id="301" idx="3"/>
                <a:endCxn id="302" idx="1"/>
              </p:cNvCxnSpPr>
              <p:nvPr/>
            </p:nvCxnSpPr>
            <p:spPr>
              <a:xfrm>
                <a:off x="5257800" y="4152960"/>
                <a:ext cx="99144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10" name=""/>
              <p:cNvCxnSpPr>
                <a:stCxn id="299" idx="3"/>
                <a:endCxn id="302" idx="1"/>
              </p:cNvCxnSpPr>
              <p:nvPr/>
            </p:nvCxnSpPr>
            <p:spPr>
              <a:xfrm>
                <a:off x="5257800" y="5067000"/>
                <a:ext cx="9914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11" name=""/>
              <p:cNvCxnSpPr>
                <a:stCxn id="300" idx="3"/>
                <a:endCxn id="302" idx="1"/>
              </p:cNvCxnSpPr>
              <p:nvPr/>
            </p:nvCxnSpPr>
            <p:spPr>
              <a:xfrm flipV="1">
                <a:off x="5257800" y="5067000"/>
                <a:ext cx="991440" cy="9151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2" name=""/>
              <p:cNvSpPr/>
              <p:nvPr/>
            </p:nvSpPr>
            <p:spPr>
              <a:xfrm>
                <a:off x="7238880" y="4648320"/>
                <a:ext cx="838440" cy="83808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COD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13" name=""/>
              <p:cNvCxnSpPr>
                <a:stCxn id="302" idx="3"/>
                <a:endCxn id="312" idx="2"/>
              </p:cNvCxnSpPr>
              <p:nvPr/>
            </p:nvCxnSpPr>
            <p:spPr>
              <a:xfrm>
                <a:off x="6705360" y="5067000"/>
                <a:ext cx="53388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4" name=""/>
              <p:cNvSpPr/>
              <p:nvPr/>
            </p:nvSpPr>
            <p:spPr>
              <a:xfrm>
                <a:off x="2209680" y="4800600"/>
                <a:ext cx="533520" cy="53352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15" name=""/>
              <p:cNvCxnSpPr>
                <a:stCxn id="297" idx="1"/>
                <a:endCxn id="316" idx="6"/>
              </p:cNvCxnSpPr>
              <p:nvPr/>
            </p:nvCxnSpPr>
            <p:spPr>
              <a:xfrm flipH="1">
                <a:off x="2742840" y="4381200"/>
                <a:ext cx="5342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17" name=""/>
              <p:cNvCxnSpPr>
                <a:stCxn id="298" idx="1"/>
                <a:endCxn id="314" idx="6"/>
              </p:cNvCxnSpPr>
              <p:nvPr/>
            </p:nvCxnSpPr>
            <p:spPr>
              <a:xfrm flipH="1">
                <a:off x="2742840" y="5067000"/>
                <a:ext cx="5342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8" name=""/>
              <p:cNvSpPr/>
              <p:nvPr/>
            </p:nvSpPr>
            <p:spPr>
              <a:xfrm>
                <a:off x="3276720" y="5562720"/>
                <a:ext cx="457200" cy="380880"/>
              </a:xfrm>
              <a:prstGeom prst="rect">
                <a:avLst/>
              </a:prstGeom>
              <a:solidFill>
                <a:srgbClr val="009999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19" name=""/>
              <p:cNvCxnSpPr>
                <a:stCxn id="318" idx="3"/>
                <a:endCxn id="301" idx="1"/>
              </p:cNvCxnSpPr>
              <p:nvPr/>
            </p:nvCxnSpPr>
            <p:spPr>
              <a:xfrm flipV="1">
                <a:off x="3733560" y="4152240"/>
                <a:ext cx="1067400" cy="16009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20" name=""/>
              <p:cNvCxnSpPr>
                <a:stCxn id="318" idx="3"/>
                <a:endCxn id="299" idx="1"/>
              </p:cNvCxnSpPr>
              <p:nvPr/>
            </p:nvCxnSpPr>
            <p:spPr>
              <a:xfrm flipV="1">
                <a:off x="3733560" y="5066640"/>
                <a:ext cx="1067400" cy="6865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cxnSp>
            <p:nvCxnSpPr>
              <p:cNvPr id="321" name=""/>
              <p:cNvCxnSpPr>
                <a:stCxn id="318" idx="3"/>
                <a:endCxn id="300" idx="1"/>
              </p:cNvCxnSpPr>
              <p:nvPr/>
            </p:nvCxnSpPr>
            <p:spPr>
              <a:xfrm>
                <a:off x="3733560" y="5752800"/>
                <a:ext cx="1067400" cy="22932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16" name=""/>
              <p:cNvSpPr/>
              <p:nvPr/>
            </p:nvSpPr>
            <p:spPr>
              <a:xfrm>
                <a:off x="2209680" y="4114800"/>
                <a:ext cx="533520" cy="53352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09680" y="5486400"/>
                <a:ext cx="533520" cy="533520"/>
              </a:xfrm>
              <a:prstGeom prst="ellipse">
                <a:avLst/>
              </a:prstGeom>
              <a:solidFill>
                <a:srgbClr val="ff9933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ffffff"/>
                    </a:solidFill>
                    <a:latin typeface="Times New Roman"/>
                  </a:rPr>
                  <a:t>P</a:t>
                </a:r>
                <a:r>
                  <a:rPr b="0" lang="it-IT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23" name=""/>
              <p:cNvCxnSpPr>
                <a:stCxn id="318" idx="1"/>
                <a:endCxn id="322" idx="6"/>
              </p:cNvCxnSpPr>
              <p:nvPr/>
            </p:nvCxnSpPr>
            <p:spPr>
              <a:xfrm flipH="1">
                <a:off x="2742840" y="5752800"/>
                <a:ext cx="534240" cy="1080"/>
              </a:xfrm>
              <a:prstGeom prst="straightConnector1">
                <a:avLst/>
              </a:prstGeom>
              <a:ln cap="sq" w="28440">
                <a:solidFill>
                  <a:srgbClr val="ffffff"/>
                </a:solidFill>
                <a:miter/>
              </a:ln>
            </p:spPr>
          </p:cxnSp>
          <p:sp>
            <p:nvSpPr>
              <p:cNvPr id="324" name=""/>
              <p:cNvSpPr/>
              <p:nvPr/>
            </p:nvSpPr>
            <p:spPr>
              <a:xfrm>
                <a:off x="3352680" y="4267080"/>
                <a:ext cx="30492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352680" y="4952880"/>
                <a:ext cx="30492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52680" y="5638680"/>
                <a:ext cx="30492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876920" y="403848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876920" y="495288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876920" y="5867280"/>
                <a:ext cx="304560" cy="22860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140"/>
                    </a:moveTo>
                    <a:cubicBezTo>
                      <a:pt x="19" y="138"/>
                      <a:pt x="87" y="148"/>
                      <a:pt x="114" y="128"/>
                    </a:cubicBezTo>
                    <a:cubicBezTo>
                      <a:pt x="141" y="108"/>
                      <a:pt x="138" y="40"/>
                      <a:pt x="162" y="20"/>
                    </a:cubicBezTo>
                    <a:cubicBezTo>
                      <a:pt x="186" y="0"/>
                      <a:pt x="238" y="10"/>
                      <a:pt x="258" y="8"/>
                    </a:cubicBezTo>
                  </a:path>
                </a:pathLst>
              </a:custGeom>
              <a:noFill/>
              <a:ln cap="sq"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6324480" y="4952520"/>
                <a:ext cx="304920" cy="228600"/>
              </a:xfrm>
              <a:prstGeom prst="line">
                <a:avLst/>
              </a:prstGeom>
              <a:ln cap="sq"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A282B-0BE3-4732-BD15-5573D9FFE0D7}" type="slidenum">
              <a:t>13</a:t>
            </a:fld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90720" y="696960"/>
            <a:ext cx="815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Tahoma"/>
              </a:rPr>
              <a:t>COD: Relazione Lineare COD vs. Abs. 254</a:t>
            </a:r>
            <a:r>
              <a:rPr b="1" i="1" lang="it-IT" sz="2400" spc="-1" strike="noStrike">
                <a:solidFill>
                  <a:srgbClr val="ffff99"/>
                </a:solidFill>
                <a:latin typeface="Tahoma"/>
              </a:rPr>
              <a:t>nm</a:t>
            </a:r>
            <a:r>
              <a:rPr b="1" lang="it-IT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990720" y="1981080"/>
            <a:ext cx="4495680" cy="3581640"/>
            <a:chOff x="990720" y="1981080"/>
            <a:chExt cx="4495680" cy="3581640"/>
          </a:xfrm>
        </p:grpSpPr>
        <p:sp>
          <p:nvSpPr>
            <p:cNvPr id="333" name=""/>
            <p:cNvSpPr/>
            <p:nvPr/>
          </p:nvSpPr>
          <p:spPr>
            <a:xfrm>
              <a:off x="1148040" y="1981080"/>
              <a:ext cx="4248720" cy="3566160"/>
            </a:xfrm>
            <a:prstGeom prst="rect">
              <a:avLst/>
            </a:prstGeom>
            <a:solidFill>
              <a:srgbClr val="cbcbc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990720" y="1981080"/>
              <a:ext cx="4495680" cy="358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/>
          <p:nvPr/>
        </p:nvSpPr>
        <p:spPr>
          <a:xfrm>
            <a:off x="5638680" y="2819520"/>
            <a:ext cx="32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semplice relazione lineare permette una stima del COD nel range 0-100 mg/l con una incertezza di </a:t>
            </a:r>
            <a:r>
              <a:rPr b="0" lang="it-IT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10 mg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667480" y="571644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In collaborazione con Idra S.C.C.A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C4F11-E60F-42A5-8877-FD04C5D857D0}" type="slidenum">
              <a:t>14</a:t>
            </a:fld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90720" y="696960"/>
            <a:ext cx="81532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99"/>
                </a:solidFill>
                <a:latin typeface="Tahoma"/>
              </a:rPr>
              <a:t>COD: Reti Neurali per stima del C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143000" y="1333440"/>
            <a:ext cx="8001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5 parametri ottici utilizzati misurati in line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Abs. 420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Abs. 220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Abs. 254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Abs.  275</a:t>
            </a:r>
            <a:r>
              <a:rPr b="0" i="1" lang="it-IT" sz="2000" spc="-1" strike="noStrike">
                <a:solidFill>
                  <a:srgbClr val="ff9933"/>
                </a:solidFill>
                <a:latin typeface="Times New Roman"/>
              </a:rPr>
              <a:t>nm</a:t>
            </a: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, Torbid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te neurale utilizza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33"/>
                </a:solidFill>
                <a:latin typeface="Times New Roman"/>
              </a:rPr>
              <a:t>BackPropagation (5,20,1), Early Stopping, Campioni Disponibili: 7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" y="2984400"/>
            <a:ext cx="4548240" cy="3429000"/>
            <a:chOff x="457200" y="2984400"/>
            <a:chExt cx="4548240" cy="3429000"/>
          </a:xfrm>
        </p:grpSpPr>
        <p:sp>
          <p:nvSpPr>
            <p:cNvPr id="340" name=""/>
            <p:cNvSpPr/>
            <p:nvPr/>
          </p:nvSpPr>
          <p:spPr>
            <a:xfrm>
              <a:off x="609840" y="2984400"/>
              <a:ext cx="4267080" cy="3429000"/>
            </a:xfrm>
            <a:prstGeom prst="rect">
              <a:avLst/>
            </a:prstGeom>
            <a:solidFill>
              <a:srgbClr val="cbcbcb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457200" y="2984400"/>
              <a:ext cx="4548240" cy="341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4952880" y="3314880"/>
            <a:ext cx="40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L’utilizzo combinato di 5 parametri e delle reti neurali permette di stimare il COD nel range 0-100 mg/l con una incertezza di soli </a:t>
            </a:r>
            <a:r>
              <a:rPr b="0" lang="it-IT" sz="2400" spc="-1" strike="noStrike">
                <a:solidFill>
                  <a:srgbClr val="ff9933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ff9933"/>
                </a:solidFill>
                <a:latin typeface="Times New Roman"/>
              </a:rPr>
              <a:t>6.5 mg/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22760" y="57942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Times New Roman"/>
              </a:rPr>
              <a:t>In collaborazione con Idra S.C.C.A</a:t>
            </a:r>
            <a:r>
              <a:rPr b="0" i="1" lang="it-IT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1CBC-8C29-410E-95E0-F4B1B72E0558}" type="slidenum">
              <a:t>15</a:t>
            </a:fld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3000" y="2376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Futura Md BT"/>
              </a:rPr>
              <a:t>FLIDAR-P </a:t>
            </a:r>
            <a:br>
              <a:rPr sz="4800"/>
            </a:br>
            <a:r>
              <a:rPr b="1" lang="en-GB" sz="4800" spc="-1" strike="noStrike">
                <a:solidFill>
                  <a:srgbClr val="ffff66"/>
                </a:solidFill>
                <a:latin typeface="Futura Md BT"/>
              </a:rPr>
              <a:t>caratteristiche principali</a:t>
            </a:r>
            <a:endParaRPr b="1" lang="en-US" sz="48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40240" y="2009880"/>
            <a:ext cx="4703760" cy="41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Lungh.d’onda laser: 355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energia laser : 8 mJ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req.ripetiz. laser: 15 Hz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lescopio: F/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Risoluz. spettrale</a:t>
            </a: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6 nm / 2.8 nm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velatore: PMT linear arr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Numero di canali : 32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Finestra spettrale: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185-750nm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Risoluzione temp.: 1 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Dinamica: 9 b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96840" indent="-96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Consumo: 1 kW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9080" y="2016000"/>
          <a:ext cx="4327560" cy="39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" y="2016000"/>
                    <a:ext cx="4327560" cy="3967200"/>
                  </a:xfrm>
                  <a:prstGeom prst="rect">
                    <a:avLst/>
                  </a:prstGeom>
                  <a:ln w="19080">
                    <a:solidFill>
                      <a:srgbClr val="330099"/>
                    </a:solidFill>
                    <a:miter/>
                  </a:ln>
                  <a:effectLst>
                    <a:outerShdw dist="143570" dir="2700000" blurRad="0" rotWithShape="0">
                      <a:srgbClr val="5f91d3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17BA-C1E4-4707-9716-ECB4FE5159BE}" type="slidenum">
              <a:t>16</a:t>
            </a:fld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 rot="5400000">
            <a:off x="2516760" y="2796120"/>
            <a:ext cx="182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vert="eaVert" rot="54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192320" y="1579680"/>
            <a:ext cx="772632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1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Disponibilità di colonne d’acqua di 25-m (pisci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1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Misure su colonne d’acqua di varia lunghez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7360" indent="-387360">
              <a:lnSpc>
                <a:spcPct val="110000"/>
              </a:lnSpc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Unicode MS"/>
              </a:rPr>
              <a:t>Misura del coefficiente di attenuazione totale delle ac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27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66"/>
                </a:solidFill>
                <a:latin typeface="Futura Md BT"/>
              </a:rPr>
              <a:t>Validazione del FLIDAR-P:</a:t>
            </a:r>
            <a:r>
              <a:rPr b="1" lang="en-GB" sz="4000" spc="-1" strike="noStrike">
                <a:solidFill>
                  <a:srgbClr val="ffff66"/>
                </a:solidFill>
                <a:latin typeface="Futura Md BT"/>
              </a:rPr>
              <a:t> </a:t>
            </a:r>
            <a:r>
              <a:rPr b="1" lang="it-IT" sz="4000" spc="-1" strike="noStrike">
                <a:solidFill>
                  <a:srgbClr val="ffff66"/>
                </a:solidFill>
                <a:latin typeface="Futura Md BT"/>
              </a:rPr>
              <a:t>misure all’aperto</a:t>
            </a:r>
            <a:r>
              <a:rPr b="1" lang="en-GB" sz="4000" spc="-1" strike="noStrike">
                <a:solidFill>
                  <a:srgbClr val="ffff66"/>
                </a:solidFill>
                <a:latin typeface="Futura Md BT"/>
              </a:rPr>
              <a:t> </a:t>
            </a:r>
            <a:endParaRPr b="1" lang="en-US" sz="4000" spc="-1" strike="noStrike">
              <a:solidFill>
                <a:srgbClr val="ffff66"/>
              </a:solidFill>
              <a:latin typeface="Futura Md BT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476360" y="3463920"/>
            <a:ext cx="6802560" cy="2776320"/>
            <a:chOff x="1476360" y="3463920"/>
            <a:chExt cx="6802560" cy="2776320"/>
          </a:xfrm>
        </p:grpSpPr>
        <p:graphicFrame>
          <p:nvGraphicFramePr>
            <p:cNvPr id="352" name=""/>
            <p:cNvGraphicFramePr/>
            <p:nvPr/>
          </p:nvGraphicFramePr>
          <p:xfrm>
            <a:off x="1476360" y="3463920"/>
            <a:ext cx="4191120" cy="277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476360" y="3463920"/>
                      <a:ext cx="4191120" cy="2776320"/>
                    </a:xfrm>
                    <a:prstGeom prst="rect">
                      <a:avLst/>
                    </a:prstGeom>
                    <a:ln w="12600">
                      <a:solidFill>
                        <a:srgbClr val="6600cc"/>
                      </a:solidFill>
                      <a:miter/>
                    </a:ln>
                    <a:effectLst>
                      <a:outerShdw dist="107932" dir="2700000" blurRad="0" rotWithShape="0">
                        <a:srgbClr val="5f91d3"/>
                      </a:outerShdw>
                    </a:effectLst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6048360" y="3463920"/>
            <a:ext cx="2230560" cy="2765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48360" y="3463920"/>
                      <a:ext cx="2230560" cy="2765520"/>
                    </a:xfrm>
                    <a:prstGeom prst="rect">
                      <a:avLst/>
                    </a:prstGeom>
                    <a:ln w="12600">
                      <a:solidFill>
                        <a:srgbClr val="6600cc"/>
                      </a:solidFill>
                      <a:miter/>
                    </a:ln>
                    <a:effectLst>
                      <a:outerShdw dist="107932" dir="2700000" blurRad="0" rotWithShape="0">
                        <a:srgbClr val="5f91d3"/>
                      </a:outerShdw>
                    </a:effectLst>
                  </p:spPr>
                </p:pic>
              </p:oleObj>
            </a:graphicData>
          </a:graphic>
        </p:graphicFrame>
      </p:grpSp>
      <p:grpSp>
        <p:nvGrpSpPr>
          <p:cNvPr id="356" name=""/>
          <p:cNvGrpSpPr/>
          <p:nvPr/>
        </p:nvGrpSpPr>
        <p:grpSpPr>
          <a:xfrm>
            <a:off x="1473120" y="1528920"/>
            <a:ext cx="6929280" cy="4677840"/>
            <a:chOff x="1473120" y="1528920"/>
            <a:chExt cx="6929280" cy="4677840"/>
          </a:xfrm>
        </p:grpSpPr>
        <p:sp>
          <p:nvSpPr>
            <p:cNvPr id="357" name=""/>
            <p:cNvSpPr/>
            <p:nvPr/>
          </p:nvSpPr>
          <p:spPr>
            <a:xfrm>
              <a:off x="1473120" y="1528920"/>
              <a:ext cx="6929280" cy="4674600"/>
            </a:xfrm>
            <a:prstGeom prst="rect">
              <a:avLst/>
            </a:prstGeom>
            <a:noFill/>
            <a:ln w="19080">
              <a:solidFill>
                <a:srgbClr val="f7fb5f"/>
              </a:solidFill>
              <a:miter/>
            </a:ln>
            <a:effectLst>
              <a:outerShdw dist="107932" dir="2700000" blurRad="0" rotWithShape="0">
                <a:srgbClr val="5f91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7120" y="15289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473120" y="1528920"/>
              <a:ext cx="6925680" cy="467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0099"/>
              </a:solidFill>
              <a:miter/>
            </a:ln>
            <a:effectLst>
              <a:outerShdw dist="107932" dir="2700000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41960" y="1872360"/>
              <a:ext cx="5349600" cy="378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41960" y="1872360"/>
              <a:ext cx="5349600" cy="3790080"/>
            </a:xfrm>
            <a:prstGeom prst="rect">
              <a:avLst/>
            </a:prstGeom>
            <a:noFill/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072960" y="1872000"/>
              <a:ext cx="144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60180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14504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4674240" y="1872000"/>
              <a:ext cx="54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217840" y="1872000"/>
              <a:ext cx="144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5746680" y="1872000"/>
              <a:ext cx="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6275520" y="1872000"/>
              <a:ext cx="18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817320" y="1872000"/>
              <a:ext cx="18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6520" y="1872000"/>
              <a:ext cx="324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41960" y="4906080"/>
              <a:ext cx="534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41960" y="4152600"/>
              <a:ext cx="534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1960" y="3388320"/>
              <a:ext cx="534636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41960" y="2636640"/>
              <a:ext cx="534636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41960" y="1872360"/>
              <a:ext cx="534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541960" y="1872360"/>
              <a:ext cx="534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545560" y="5661000"/>
              <a:ext cx="53496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2541960" y="5613840"/>
              <a:ext cx="36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41960" y="1872360"/>
              <a:ext cx="36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45304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0740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0792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072960" y="5613840"/>
              <a:ext cx="14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72960" y="1872360"/>
              <a:ext cx="14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85480" y="5701320"/>
              <a:ext cx="27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3876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4072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601800" y="5613840"/>
              <a:ext cx="36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01800" y="1872360"/>
              <a:ext cx="36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14680" y="5701320"/>
              <a:ext cx="27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5708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76776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145040" y="5613840"/>
              <a:ext cx="36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45040" y="1872360"/>
              <a:ext cx="36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56480" y="5701320"/>
              <a:ext cx="27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1126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1676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674240" y="5613840"/>
              <a:ext cx="54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74240" y="1872360"/>
              <a:ext cx="54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85320" y="5701320"/>
              <a:ext cx="27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64436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3840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5217840" y="5613840"/>
              <a:ext cx="14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217840" y="1872360"/>
              <a:ext cx="14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12892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508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8416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746680" y="5613840"/>
              <a:ext cx="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6680" y="1872360"/>
              <a:ext cx="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65992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72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0904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6275520" y="5613840"/>
              <a:ext cx="18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75520" y="1872360"/>
              <a:ext cx="18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190920" y="5701320"/>
              <a:ext cx="27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456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414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817320" y="5613840"/>
              <a:ext cx="180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17320" y="1872360"/>
              <a:ext cx="180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30560" y="5701320"/>
              <a:ext cx="273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78636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832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7346520" y="5613840"/>
              <a:ext cx="32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46520" y="1872360"/>
              <a:ext cx="32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61560" y="5701320"/>
              <a:ext cx="273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2024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5142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888320" y="5613840"/>
              <a:ext cx="3240" cy="4356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88320" y="1872360"/>
              <a:ext cx="3240" cy="565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04800" y="5701320"/>
              <a:ext cx="270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859880" y="5708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57880" y="57128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41960" y="565776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829280" y="565776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03760" y="5440680"/>
              <a:ext cx="55836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85760" y="544392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19280" y="54504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541960" y="490608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829280" y="490608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03760" y="4739400"/>
              <a:ext cx="5454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985760" y="47408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2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19280" y="4748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541960" y="415260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7829280" y="415260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03760" y="4063680"/>
              <a:ext cx="527040" cy="2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5760" y="40672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19280" y="40752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41960" y="3388320"/>
              <a:ext cx="496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829280" y="3388320"/>
              <a:ext cx="590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3760" y="3312360"/>
              <a:ext cx="57672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5760" y="331236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3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19280" y="33156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41960" y="2636640"/>
              <a:ext cx="4968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7829280" y="2636640"/>
              <a:ext cx="59040" cy="3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03760" y="2575080"/>
              <a:ext cx="57312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5760" y="25718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3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19280" y="25768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41960" y="1872360"/>
              <a:ext cx="4968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829280" y="1872360"/>
              <a:ext cx="59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03760" y="1838160"/>
              <a:ext cx="615600" cy="3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985760" y="184284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0.14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19280" y="184752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41960" y="1872360"/>
              <a:ext cx="534636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541960" y="1872000"/>
              <a:ext cx="3600" cy="378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72960" y="2481120"/>
              <a:ext cx="1440" cy="3060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20760" y="2481120"/>
              <a:ext cx="8856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20760" y="2787120"/>
              <a:ext cx="88560" cy="46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3240" y="2027520"/>
              <a:ext cx="3600" cy="309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34720" y="2027520"/>
              <a:ext cx="720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34720" y="2336760"/>
              <a:ext cx="720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45040" y="2027520"/>
              <a:ext cx="3600" cy="309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91760" y="2027520"/>
              <a:ext cx="882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91760" y="2336760"/>
              <a:ext cx="8820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00640" y="2181600"/>
              <a:ext cx="1440" cy="29952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65360" y="2181600"/>
              <a:ext cx="8676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365360" y="2481120"/>
              <a:ext cx="86760" cy="28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746680" y="4906080"/>
              <a:ext cx="0" cy="29772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695200" y="4906080"/>
              <a:ext cx="882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95200" y="5204160"/>
              <a:ext cx="88200" cy="32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15240" y="3997440"/>
              <a:ext cx="5400" cy="29952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968440" y="3997440"/>
              <a:ext cx="8712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68440" y="4296960"/>
              <a:ext cx="87120" cy="144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817320" y="3247200"/>
              <a:ext cx="1800" cy="2962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65840" y="3247200"/>
              <a:ext cx="88560" cy="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65840" y="3543480"/>
              <a:ext cx="8856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76520" y="2934720"/>
              <a:ext cx="1440" cy="3124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37640" y="2934720"/>
              <a:ext cx="8676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37640" y="3247200"/>
              <a:ext cx="86760" cy="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346520" y="2934720"/>
              <a:ext cx="3240" cy="31248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09080" y="2934720"/>
              <a:ext cx="88560" cy="180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09080" y="3247200"/>
              <a:ext cx="88560" cy="0"/>
            </a:xfrm>
            <a:prstGeom prst="line">
              <a:avLst/>
            </a:prstGeom>
            <a:ln w="1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09960" y="2580120"/>
              <a:ext cx="138600" cy="124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12400" y="2126520"/>
              <a:ext cx="13644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082400" y="2126520"/>
              <a:ext cx="13860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341240" y="2281680"/>
              <a:ext cx="13644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3680" y="5005080"/>
              <a:ext cx="136800" cy="124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57640" y="4096080"/>
              <a:ext cx="135000" cy="124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8280" y="3333240"/>
              <a:ext cx="133200" cy="1245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1360" y="3035160"/>
              <a:ext cx="13860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89280" y="3035160"/>
              <a:ext cx="132840" cy="12132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46920" y="5892840"/>
              <a:ext cx="1639800" cy="31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880880" y="5895720"/>
              <a:ext cx="486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giorni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68360" y="58989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6200000">
              <a:off x="717120" y="3997080"/>
              <a:ext cx="20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Coeff. Attenuazione tota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6200000">
              <a:off x="1614960" y="2541960"/>
              <a:ext cx="258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(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6200000">
              <a:off x="1650240" y="238824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6200000">
              <a:off x="1635120" y="23360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6200000">
              <a:off x="1714320" y="2216160"/>
              <a:ext cx="60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6200000">
              <a:off x="1743480" y="2142000"/>
              <a:ext cx="5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5442480" y="30106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895520" y="1884960"/>
              <a:ext cx="1800" cy="37692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802040" y="2030400"/>
            <a:ext cx="237960" cy="3520800"/>
            <a:chOff x="4802040" y="2030400"/>
            <a:chExt cx="237960" cy="3520800"/>
          </a:xfrm>
        </p:grpSpPr>
        <p:sp>
          <p:nvSpPr>
            <p:cNvPr id="516" name=""/>
            <p:cNvSpPr/>
            <p:nvPr/>
          </p:nvSpPr>
          <p:spPr>
            <a:xfrm>
              <a:off x="4806720" y="3021840"/>
              <a:ext cx="233280" cy="188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4802040" y="2030400"/>
              <a:ext cx="213480" cy="3520800"/>
              <a:chOff x="4802040" y="2030400"/>
              <a:chExt cx="213480" cy="3520800"/>
            </a:xfrm>
          </p:grpSpPr>
          <p:sp>
            <p:nvSpPr>
              <p:cNvPr id="518" name=""/>
              <p:cNvSpPr/>
              <p:nvPr/>
            </p:nvSpPr>
            <p:spPr>
              <a:xfrm rot="16200000">
                <a:off x="4427640" y="3820320"/>
                <a:ext cx="9622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ff0000"/>
                    </a:solidFill>
                    <a:latin typeface="Arial"/>
                  </a:rPr>
                  <a:t>Trattament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4916160" y="2030400"/>
                <a:ext cx="1440" cy="885600"/>
              </a:xfrm>
              <a:prstGeom prst="line">
                <a:avLst/>
              </a:prstGeom>
              <a:ln w="6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4851000" y="5202720"/>
                <a:ext cx="129960" cy="348480"/>
                <a:chOff x="4851000" y="5202720"/>
                <a:chExt cx="129960" cy="3484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915800" y="5202720"/>
                  <a:ext cx="2160" cy="210240"/>
                </a:xfrm>
                <a:prstGeom prst="line">
                  <a:avLst/>
                </a:prstGeom>
                <a:ln w="64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851000" y="540972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95" h="96">
                      <a:moveTo>
                        <a:pt x="0" y="0"/>
                      </a:moveTo>
                      <a:lnTo>
                        <a:pt x="48" y="96"/>
                      </a:lnTo>
                      <a:lnTo>
                        <a:pt x="9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CE8C6-9970-48D0-8228-9C60F96F8B30}" type="slidenum">
              <a:t>17</a:t>
            </a:fld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888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Sensori optoelettronici</a:t>
            </a:r>
            <a:br>
              <a:rPr sz="4400"/>
            </a:b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per la qualità dell’aria</a:t>
            </a:r>
            <a:r>
              <a:rPr b="1" lang="en-GB" sz="38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endParaRPr b="1" lang="en-US" sz="3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917640" y="4190760"/>
            <a:ext cx="83311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CC968-3623-49B8-9BEE-70571137A752}" type="slidenum">
              <a:t>18</a:t>
            </a:fld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488880" y="326880"/>
            <a:ext cx="8166240" cy="13068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500" spc="-1" strike="noStrike">
                <a:solidFill>
                  <a:srgbClr val="ffff99"/>
                </a:solidFill>
                <a:latin typeface="Tahoma"/>
                <a:ea typeface="msmincho"/>
              </a:rPr>
              <a:t>ATTIVITÀ IN FASE DI SVOLGIMENTO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500" spc="-1" strike="noStrike">
                <a:solidFill>
                  <a:srgbClr val="ffff99"/>
                </a:solidFill>
                <a:latin typeface="Tahoma"/>
                <a:ea typeface="msmincho"/>
              </a:rPr>
              <a:t>CSC E INO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295280" y="1752480"/>
            <a:ext cx="7359840" cy="44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omic Sans MS"/>
                <a:ea typeface="msmincho"/>
              </a:rPr>
              <a:t>OBIET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Sviluppo di un sistema integrato per la previsione/stima delle emissioni e della dispersione di traccianti atmosferici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Gli strumenti da sviluppare e mettere a punto sono du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- Il sistema di misura delle concentrazioni, costituito da uno spettrometro a diodo laser per misure in campo aperto con retroriflet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- Il modello matematico di previsione della dispersione del tracciante atmosfer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Comic Sans MS"/>
                <a:ea typeface="msmincho"/>
              </a:rPr>
              <a:t>CASO DI 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Discarica di rifiuti di Case Passeri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Inquinante scelto come tracciante: meta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  <a:ea typeface="msmincho"/>
              </a:rPr>
              <a:t>Strumento di misura posizionato nel Polo Scientifico di Sesto Fiorentino (distanza dalla sorgente: circa 1200 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Futura Md BT"/>
              </a:rPr>
              <a:t>MEDUSE: PARTENARIATO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90360" y="1612440"/>
            <a:ext cx="792468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st. di Fisica Applicata “N.Carrara” CNR (IFAC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Ist. Nazionale di Ottica Applicata (INOA) 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Centro per la previsione di eventi meteo Università de L’Aquila (CETEMPS) 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Centro Studi Sistemi Complessi</a:t>
            </a:r>
            <a:br>
              <a:rPr sz="2800"/>
            </a:br>
            <a:r>
              <a:rPr b="0" lang="it-IT" sz="2800" spc="-1" strike="noStrike">
                <a:solidFill>
                  <a:srgbClr val="ffffff"/>
                </a:solidFill>
                <a:latin typeface="Comic Sans MS"/>
              </a:rPr>
              <a:t>Università di Siena (CSSC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Dip.to di Ingegneria dell’Informazione Università di Pisa (UNI-PI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Comic Sans MS"/>
                <a:ea typeface="Arial"/>
              </a:rPr>
              <a:t>Universitat Politècnica de Catalunya (UPC)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BA9D-9294-4785-B2AE-93D208184588}" type="slidenum">
              <a:t>2</a:t>
            </a:fld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488880" y="326880"/>
            <a:ext cx="8166240" cy="13068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500" spc="-1" strike="noStrike">
                <a:solidFill>
                  <a:srgbClr val="ffff99"/>
                </a:solidFill>
                <a:latin typeface="Tahoma"/>
                <a:ea typeface="msmincho"/>
              </a:rPr>
              <a:t>Attività in fase di svolgimento - CSC e INO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ff99"/>
                </a:solidFill>
                <a:latin typeface="Tahoma"/>
                <a:ea typeface="msmincho"/>
              </a:rPr>
              <a:t>LOCALIZZAZIONE DEL CASO DI STUDI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4995720" cy="45385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4370400" y="3618000"/>
            <a:ext cx="326880" cy="48888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rot="1620000">
            <a:off x="5709960" y="3519360"/>
            <a:ext cx="757080" cy="490680"/>
          </a:xfrm>
          <a:prstGeom prst="ellipse">
            <a:avLst/>
          </a:prstGeom>
          <a:noFill/>
          <a:ln w="3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4876920"/>
            <a:ext cx="16336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Discarica d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Case Passerin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0" idx="6"/>
            <a:endCxn id="532" idx="1"/>
          </p:cNvCxnSpPr>
          <p:nvPr/>
        </p:nvCxnSpPr>
        <p:spPr>
          <a:xfrm>
            <a:off x="4714560" y="3862440"/>
            <a:ext cx="2601000" cy="1240560"/>
          </a:xfrm>
          <a:prstGeom prst="curvedConnector5">
            <a:avLst>
              <a:gd name="adj1" fmla="val 49626"/>
              <a:gd name="adj2" fmla="val 49985"/>
              <a:gd name="adj3" fmla="val 49626"/>
            </a:avLst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7238880" y="2819520"/>
            <a:ext cx="1633680" cy="4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Polo scientifico d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</a:tabLst>
            </a:pPr>
            <a:r>
              <a:rPr b="1" i="1" lang="en-GB" sz="1300" spc="-1" strike="noStrike">
                <a:solidFill>
                  <a:srgbClr val="ff6600"/>
                </a:solidFill>
                <a:latin typeface="Arial"/>
                <a:ea typeface="msmincho"/>
              </a:rPr>
              <a:t>Sesto Fiorentin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535" name=""/>
          <p:cNvCxnSpPr>
            <a:stCxn id="531" idx="6"/>
            <a:endCxn id="534" idx="0"/>
          </p:cNvCxnSpPr>
          <p:nvPr/>
        </p:nvCxnSpPr>
        <p:spPr>
          <a:xfrm flipV="1">
            <a:off x="6442200" y="2819160"/>
            <a:ext cx="1614960" cy="1124640"/>
          </a:xfrm>
          <a:prstGeom prst="curvedConnector5">
            <a:avLst>
              <a:gd name="adj1" fmla="val 27625"/>
              <a:gd name="adj2" fmla="val 60166"/>
              <a:gd name="adj3" fmla="val 27625"/>
            </a:avLst>
          </a:prstGeom>
          <a:ln w="2844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536" name=""/>
          <p:cNvSpPr/>
          <p:nvPr/>
        </p:nvSpPr>
        <p:spPr>
          <a:xfrm>
            <a:off x="2603520" y="5216400"/>
            <a:ext cx="1143000" cy="1800"/>
          </a:xfrm>
          <a:custGeom>
            <a:avLst/>
            <a:gdLst/>
            <a:ahLst/>
            <a:rect l="l" t="t" r="r" b="b"/>
            <a:pathLst>
              <a:path w="3501" h="1">
                <a:moveTo>
                  <a:pt x="0" y="0"/>
                </a:moveTo>
                <a:cubicBezTo>
                  <a:pt x="1166" y="0"/>
                  <a:pt x="2332" y="0"/>
                  <a:pt x="3500" y="0"/>
                </a:cubicBezTo>
              </a:path>
            </a:pathLst>
          </a:custGeom>
          <a:noFill/>
          <a:ln w="360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01960" y="4964040"/>
            <a:ext cx="51300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msmincho"/>
              </a:rPr>
              <a:t>1 k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488880" y="326880"/>
            <a:ext cx="8166240" cy="130680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4400" spc="-1" strike="noStrike">
                <a:solidFill>
                  <a:srgbClr val="ffff99"/>
                </a:solidFill>
                <a:latin typeface="Tahoma"/>
                <a:ea typeface="msmincho"/>
              </a:rPr>
              <a:t>SITO DI MISUR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1" name="mappasesto" descr=""/>
          <p:cNvPicPr/>
          <p:nvPr/>
        </p:nvPicPr>
        <p:blipFill>
          <a:blip r:embed="rId1"/>
          <a:stretch/>
        </p:blipFill>
        <p:spPr>
          <a:xfrm>
            <a:off x="1712880" y="2063880"/>
            <a:ext cx="6222960" cy="34290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2016000" y="5721480"/>
            <a:ext cx="56800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Times New Roman"/>
              </a:rPr>
              <a:t>Planimetria di una parte del Polo Scientifico di Sesto Fioren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4648320" y="3182760"/>
            <a:ext cx="1520640" cy="326520"/>
            <a:chOff x="4648320" y="3182760"/>
            <a:chExt cx="1520640" cy="326520"/>
          </a:xfrm>
        </p:grpSpPr>
        <p:sp>
          <p:nvSpPr>
            <p:cNvPr id="544" name=""/>
            <p:cNvSpPr/>
            <p:nvPr/>
          </p:nvSpPr>
          <p:spPr>
            <a:xfrm>
              <a:off x="4648320" y="3182760"/>
              <a:ext cx="1520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061600" y="3182760"/>
              <a:ext cx="59004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it-IT" sz="1600" spc="-1" strike="noStrike">
                  <a:solidFill>
                    <a:srgbClr val="0066cc"/>
                  </a:solidFill>
                  <a:latin typeface="Times New Roman"/>
                </a:rPr>
                <a:t>83 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2714760" y="2214720"/>
            <a:ext cx="130932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66cc"/>
                </a:solidFill>
                <a:latin typeface="Times New Roman"/>
              </a:rPr>
              <a:t>Dip. di Fis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44720" y="2284560"/>
            <a:ext cx="66168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0066cc"/>
                </a:solidFill>
                <a:latin typeface="Times New Roman"/>
              </a:rPr>
              <a:t>INF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977760" y="193680"/>
            <a:ext cx="8166240" cy="112068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STRUMENTO</a:t>
            </a:r>
            <a:br>
              <a:rPr sz="2800"/>
            </a:b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MODELLISTICO DIFFUSIO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54080" y="1320840"/>
            <a:ext cx="8089920" cy="51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ff6600"/>
                </a:solidFill>
                <a:latin typeface="Arial"/>
                <a:ea typeface="msmincho"/>
              </a:rPr>
              <a:t>SAFE AIR I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ff6600"/>
                </a:solidFill>
                <a:latin typeface="Arial"/>
                <a:ea typeface="msmincho"/>
              </a:rPr>
              <a:t>(Simulation of Air pollution From Emissions Above Inhomogeneous Regions, version II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Sviluppato al Dipartimento di Fisica dell'Università di Genova è un modello Gaussiano a puff di nuova generazion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SAFE AIR II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è incluso nel database europeo dei modelli di diffusione (Mod. Doc. Sys, EEA, </a:t>
            </a:r>
            <a:r>
              <a:rPr b="1" i="1" lang="en-GB" sz="1800" spc="-1" strike="noStrike" u="sng">
                <a:solidFill>
                  <a:srgbClr val="cbcbcb"/>
                </a:solidFill>
                <a:uFillTx/>
                <a:latin typeface="Arial"/>
                <a:ea typeface="msmincho"/>
              </a:rPr>
              <a:t>http://pandora.meng.auth.gr/mds/mds.php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) e la versione precedente è stata selezionata dall'APAT per essere inserita tra i modelli di dispersione degli inquinanti da utilizzare nella valutazione della qualità dell'ari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Il modello si compone di 3 moduli: due pre-processori meteorologici (</a:t>
            </a: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WINDS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cbcbcb"/>
                </a:solidFill>
                <a:latin typeface="Arial"/>
                <a:ea typeface="msmincho"/>
              </a:rPr>
              <a:t>4.2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, Wind-field Interpolation by Non Divergent Schemes, in grado di ricostruire il campo di vento tridimensionale partendo da misure puntuali, e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ABLE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cbcbcb"/>
                </a:solidFill>
                <a:latin typeface="Arial"/>
                <a:ea typeface="msmincho"/>
              </a:rPr>
              <a:t>1.2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, Acquisition of Boundary-Layer paramEters, per la stima dei parametri micrometeorologici superficiali), ed il modulo diffusionale vero e proprio (</a:t>
            </a: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P6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2000" spc="-1" strike="noStrike">
                <a:solidFill>
                  <a:srgbClr val="cbcbcb"/>
                </a:solidFill>
                <a:latin typeface="Arial"/>
                <a:ea typeface="msmincho"/>
              </a:rPr>
              <a:t>2.1</a:t>
            </a:r>
            <a:r>
              <a:rPr b="1" lang="en-GB" sz="1800" spc="-1" strike="noStrike">
                <a:solidFill>
                  <a:srgbClr val="cbcbcb"/>
                </a:solidFill>
                <a:latin typeface="Arial"/>
                <a:ea typeface="msmincho"/>
              </a:rPr>
              <a:t>, Program Plotting Paths of Pollutant Puffs and Plume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1090440" y="85680"/>
            <a:ext cx="7767720" cy="13064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STRUMENTO</a:t>
            </a:r>
            <a:br>
              <a:rPr sz="2800"/>
            </a:br>
            <a:r>
              <a:rPr b="1" lang="en-GB" sz="2800" spc="-1" strike="noStrike">
                <a:solidFill>
                  <a:srgbClr val="ffff99"/>
                </a:solidFill>
                <a:latin typeface="Tahoma"/>
                <a:ea typeface="msmincho"/>
              </a:rPr>
              <a:t>MODELLISTICO DIFFUSIO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74680" y="1631880"/>
            <a:ext cx="7667640" cy="16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marL="1428840" indent="-1428840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000" spc="-1" strike="noStrike">
                <a:solidFill>
                  <a:srgbClr val="00ae00"/>
                </a:solidFill>
                <a:latin typeface="Arial"/>
                <a:ea typeface="msmincho"/>
              </a:rPr>
              <a:t>SAFE AIR II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  <a:ea typeface="msmincho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msmincho"/>
              </a:rPr>
              <a:t>è stato utilizzato con successo in diverse applicazioni di studio di impatto ambientale e sanitario. E' stato inoltre testato e validato sia con dati di monitoraggio sia mediante prove in galleria del vento presso il laboratorio del CRIACIV situato nella sede di Prato dell'Università degli Studi di Firenz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6205680" y="3530520"/>
            <a:ext cx="2449440" cy="25146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2"/>
          <a:stretch/>
        </p:blipFill>
        <p:spPr>
          <a:xfrm>
            <a:off x="488880" y="3530520"/>
            <a:ext cx="2548080" cy="244944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3154320" y="3530520"/>
            <a:ext cx="2938680" cy="114300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Risultati delle simulazioni svolte p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lo studio di impatto sanitario del pia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provinciale di gestione dei rifiuti c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il modello SAFE AIR nella stes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zona di riferimento del presente ca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di studio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54320" y="4870440"/>
            <a:ext cx="2938680" cy="114300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Modello di discarica montato in gall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del vento per le prove di diffusi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utilizzate per la taratura e la validazi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del modello SAFE AIR per tal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200" spc="-1" strike="noStrike">
                <a:solidFill>
                  <a:srgbClr val="0033cc"/>
                </a:solidFill>
                <a:latin typeface="Arial"/>
                <a:ea typeface="msmincho"/>
              </a:rPr>
              <a:t>tipologie di sorgen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2482920" y="3929040"/>
            <a:ext cx="1163520" cy="163440"/>
          </a:xfrm>
          <a:prstGeom prst="triangle">
            <a:avLst>
              <a:gd name="adj" fmla="val 50000"/>
            </a:avLst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920" bIns="7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flipV="1" rot="16200000">
            <a:off x="5583240" y="5267880"/>
            <a:ext cx="1163520" cy="165240"/>
          </a:xfrm>
          <a:prstGeom prst="triangle">
            <a:avLst>
              <a:gd name="adj" fmla="val 50000"/>
            </a:avLst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740880" y="5775480"/>
            <a:ext cx="4908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Lunghezza d'onda: 1.651 mm, cammino ottico: 166 m, </a:t>
            </a:r>
            <a:br>
              <a:rPr sz="1600"/>
            </a:br>
            <a:r>
              <a:rPr b="1" lang="it-IT" sz="1600" spc="-1" strike="noStrike">
                <a:solidFill>
                  <a:srgbClr val="ffffff"/>
                </a:solidFill>
                <a:latin typeface="Times New Roman"/>
              </a:rPr>
              <a:t>tecnica di rivelazione: assorbimento dir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912960" y="1492200"/>
            <a:ext cx="7953480" cy="4319280"/>
            <a:chOff x="912960" y="1492200"/>
            <a:chExt cx="7953480" cy="4319280"/>
          </a:xfrm>
        </p:grpSpPr>
        <p:sp>
          <p:nvSpPr>
            <p:cNvPr id="562" name=""/>
            <p:cNvSpPr/>
            <p:nvPr/>
          </p:nvSpPr>
          <p:spPr>
            <a:xfrm>
              <a:off x="912960" y="1579680"/>
              <a:ext cx="7760520" cy="416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63" name="" descr=""/>
            <p:cNvPicPr/>
            <p:nvPr/>
          </p:nvPicPr>
          <p:blipFill>
            <a:blip r:embed="rId1"/>
            <a:stretch/>
          </p:blipFill>
          <p:spPr>
            <a:xfrm>
              <a:off x="2537280" y="1989720"/>
              <a:ext cx="5217120" cy="304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"/>
            <p:cNvSpPr/>
            <p:nvPr/>
          </p:nvSpPr>
          <p:spPr>
            <a:xfrm>
              <a:off x="8106840" y="2688480"/>
              <a:ext cx="1080" cy="1014480"/>
            </a:xfrm>
            <a:prstGeom prst="line">
              <a:avLst/>
            </a:prstGeom>
            <a:ln w="442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56600" y="2598480"/>
              <a:ext cx="74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Las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691280" y="2801520"/>
              <a:ext cx="84564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126800" y="1788120"/>
              <a:ext cx="10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Isola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ottic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32400" y="2327760"/>
              <a:ext cx="112752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57680" y="449244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laser 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puntam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2043720" y="4355640"/>
              <a:ext cx="70452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30840" y="2057400"/>
              <a:ext cx="281880" cy="20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017240" y="1583640"/>
              <a:ext cx="130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Cella 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iferim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3592800" y="2192400"/>
              <a:ext cx="91908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807000" y="5168880"/>
              <a:ext cx="11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ivela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principal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370400" y="4829040"/>
              <a:ext cx="108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85160" y="1651320"/>
              <a:ext cx="121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Specchi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di raccol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4791600" y="2260440"/>
              <a:ext cx="91944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567400" y="4289760"/>
              <a:ext cx="1543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Lente 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focalizzazi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861800" y="3949560"/>
              <a:ext cx="1060200" cy="40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247160" y="40867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etroriflet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106840" y="3746520"/>
              <a:ext cx="108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690200" y="3410280"/>
              <a:ext cx="149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Beam spli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3101400" y="3408480"/>
              <a:ext cx="140760" cy="13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143080" y="1492200"/>
              <a:ext cx="154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Rivela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3333cc"/>
                  </a:solidFill>
                  <a:latin typeface="Times New Roman"/>
                  <a:ea typeface="msmincho"/>
                </a:rPr>
                <a:t>di riferim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944280" y="193680"/>
            <a:ext cx="819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  <a:ea typeface="msmincho"/>
              </a:rPr>
              <a:t>Strumento di misura del tracciante: ot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977760" y="0"/>
            <a:ext cx="8166240" cy="1306440"/>
          </a:xfrm>
          <a:prstGeom prst="roundRect">
            <a:avLst>
              <a:gd name="adj" fmla="val 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  <a:ea typeface="msmincho"/>
              </a:rPr>
              <a:t>Strumento di misura del tracciante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i="1" lang="en-GB" sz="3200" spc="-1" strike="noStrike">
                <a:solidFill>
                  <a:srgbClr val="ffff66"/>
                </a:solidFill>
                <a:latin typeface="Arial"/>
                <a:ea typeface="msmincho"/>
              </a:rPr>
              <a:t>dalla breadboard a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379160" y="1793880"/>
            <a:ext cx="34887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Terminata la fase sperimentale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20240" y="3111480"/>
            <a:ext cx="429480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.lo strumento assumerà le sembianze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le dimensioni e l'interattività, tipici degl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trumenti stand-alone per applicazio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specifich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31840" y="2349360"/>
            <a:ext cx="4354560" cy="3252600"/>
            <a:chOff x="231840" y="2349360"/>
            <a:chExt cx="4354560" cy="3252600"/>
          </a:xfrm>
        </p:grpSpPr>
        <p:pic>
          <p:nvPicPr>
            <p:cNvPr id="591" name="IMGP0071" descr=""/>
            <p:cNvPicPr/>
            <p:nvPr/>
          </p:nvPicPr>
          <p:blipFill>
            <a:blip r:embed="rId1"/>
            <a:stretch/>
          </p:blipFill>
          <p:spPr>
            <a:xfrm>
              <a:off x="231840" y="2349360"/>
              <a:ext cx="4354560" cy="290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1065240" y="5275440"/>
              <a:ext cx="23806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Lo strumento in fase di tes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4575240" y="4424400"/>
            <a:ext cx="4424040" cy="1879200"/>
            <a:chOff x="4575240" y="4424400"/>
            <a:chExt cx="4424040" cy="1879200"/>
          </a:xfrm>
        </p:grpSpPr>
        <p:pic>
          <p:nvPicPr>
            <p:cNvPr id="594" name="" descr=""/>
            <p:cNvPicPr/>
            <p:nvPr/>
          </p:nvPicPr>
          <p:blipFill>
            <a:blip r:embed="rId2"/>
            <a:stretch/>
          </p:blipFill>
          <p:spPr>
            <a:xfrm>
              <a:off x="4646160" y="4424400"/>
              <a:ext cx="4353120" cy="15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4575240" y="5977080"/>
              <a:ext cx="4349880" cy="32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it-IT" sz="1600" spc="-1" strike="noStrike">
                  <a:solidFill>
                    <a:srgbClr val="ffffff"/>
                  </a:solidFill>
                  <a:latin typeface="Times New Roman"/>
                </a:rPr>
                <a:t>Misuratore di metano per piattaforme stratosfer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341280" y="6418440"/>
            <a:ext cx="404496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Arial"/>
              </a:rPr>
              <a:t>Sottoprogetto MEDUSE  -  Arpat, Firenze 24/02/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066680" y="1600200"/>
            <a:ext cx="7696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just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990720" y="88920"/>
            <a:ext cx="815328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Tahoma"/>
              </a:rPr>
              <a:t>TECNICHE SPETTROSCOPICHE PER INQUINANTI ATMOSFERI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30240" y="1447920"/>
            <a:ext cx="8213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cc00"/>
                </a:solidFill>
                <a:latin typeface="Comic Sans MS"/>
              </a:rPr>
              <a:t>DO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Differential Optical Absorption Spectrosco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Traguardo percorso fiss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Valore integrato sulla dista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cc00"/>
                </a:solidFill>
                <a:latin typeface="Comic Sans MS"/>
              </a:rPr>
              <a:t>Parametri misurabili: benzene, toluene, xilene, ozono, biossodo di zolfo, biossido di azo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33"/>
                </a:solidFill>
                <a:latin typeface="Comic Sans MS"/>
              </a:rPr>
              <a:t>LI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LIght Detection And Ran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Monitoraggio 3D su zone ampie geograficamente referenziab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Retrodiffusione elastisca: PM10, aeros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RAMAN: vapor acqueo, temperatura, ozon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9933"/>
                </a:solidFill>
                <a:latin typeface="Comic Sans MS"/>
              </a:rPr>
              <a:t>DIAL: biossodo di zolfo, biossido di azoto, benzene, toluene, ozono, metano, biossido di carbon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11E2E-A0FE-4D4D-9628-6A867A6FA3C7}" type="slidenum">
              <a:t>26</a:t>
            </a:fld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9920" y="200160"/>
            <a:ext cx="7848720" cy="111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99"/>
                </a:solidFill>
                <a:latin typeface="Futura Md BT"/>
              </a:rPr>
              <a:t>L’idea di MEDUSE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-758880" algn="just">
              <a:lnSpc>
                <a:spcPct val="110000"/>
              </a:lnSpc>
              <a:spcBef>
                <a:spcPts val="11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ensori optoelettronici 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  <a:p>
            <a:pPr lvl="1" marL="1235160" indent="-285840" algn="just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pplicazione al controllo dell’ambien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2819520"/>
            <a:ext cx="990720" cy="27432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79880 h 2743200"/>
              <a:gd name="textAreaBottom" fmla="*/ 198900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cap="sq"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7040" y="3309840"/>
            <a:ext cx="7162920" cy="271944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algn="just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igliorare la qualità dell’aria e delle acque in aree industriali attraverso l’individuazione di un sistema efficace di monitoraggio ambienta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B118A-C229-4235-85B4-6D7DD5DDA079}" type="slidenum">
              <a:t>3</a:t>
            </a:fld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723960"/>
            <a:ext cx="8001000" cy="61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90512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99"/>
                </a:solidFill>
                <a:latin typeface="Futura Md BT"/>
              </a:rPr>
              <a:t>AZIONI</a:t>
            </a:r>
            <a:endParaRPr b="1" lang="en-US" sz="40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Coordinamento attività 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(IFAC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Monitoraggio acque reflue industriali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aratteristiche rete di monitoraggio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e parametri da misurar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i metodologie ottich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 UNI-PI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Confronto e sviluppo metodologie per il COD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FAC UNI-PI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omic Sans MS"/>
              </a:rPr>
              <a:t>Monitoraggio emissioni in atmosfer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i caratteristiche emissioni in area industriale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UPC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e parametri e inquinanti atmosferici misurabili con lidar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CETEMP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Ricognizione modelli e sensori ottici per parametri atmosferici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NOA CSSC)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Sviluppo metodologia, modello e sensore per il CH</a:t>
            </a:r>
            <a:r>
              <a:rPr b="1" lang="it-IT" sz="1800" spc="-1" strike="noStrike" baseline="-25000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(INOA CSSC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38146-935D-436A-BDC1-A546D5720B92}" type="slidenum">
              <a:t>4</a:t>
            </a:fld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280" y="761760"/>
            <a:ext cx="8888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Sensori optoelettronici</a:t>
            </a:r>
            <a:br>
              <a:rPr sz="4400"/>
            </a:br>
            <a:r>
              <a:rPr b="1" lang="en-GB" sz="4400" spc="-1" strike="noStrike">
                <a:solidFill>
                  <a:srgbClr val="ffff66"/>
                </a:solidFill>
                <a:latin typeface="Tahoma"/>
                <a:ea typeface="Times New Roman"/>
              </a:rPr>
              <a:t>per la qualità delle acque</a:t>
            </a:r>
            <a:r>
              <a:rPr b="1" lang="en-GB" sz="3800" spc="-1" strike="noStrike">
                <a:solidFill>
                  <a:srgbClr val="ffff66"/>
                </a:solidFill>
                <a:latin typeface="Tahoma"/>
                <a:ea typeface="Times New Roman"/>
              </a:rPr>
              <a:t>  </a:t>
            </a:r>
            <a:endParaRPr b="1" lang="en-US" sz="38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7640" y="4190760"/>
            <a:ext cx="83311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55784-EC10-441E-AB66-85B0A76C4706}" type="slidenum">
              <a:t>5</a:t>
            </a:fld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QUADRO NORMATIVO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143000" y="1530360"/>
            <a:ext cx="7696080" cy="4781160"/>
            <a:chOff x="1143000" y="1530360"/>
            <a:chExt cx="7696080" cy="4781160"/>
          </a:xfrm>
        </p:grpSpPr>
        <p:sp>
          <p:nvSpPr>
            <p:cNvPr id="160" name=""/>
            <p:cNvSpPr/>
            <p:nvPr/>
          </p:nvSpPr>
          <p:spPr>
            <a:xfrm>
              <a:off x="1143000" y="1530360"/>
              <a:ext cx="4267080" cy="5202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irettiva 91/271/CEE (Trattamento delle acque reflue urban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43000" y="2211480"/>
              <a:ext cx="4267080" cy="7333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irettiva 91/676/CEE (Protezione delle acque dall’inquinamento provocato dai nitrati provenienti da fonti agricol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43000" y="3106800"/>
              <a:ext cx="4267080" cy="946440"/>
            </a:xfrm>
            <a:prstGeom prst="rect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ecreto legislativo 11 maggio 1999, n.152 (disposizioni sulla tutela delle acque dall'inquinamento e recepimento della Direttiva 91/271/CEE e della Direttiva 91/676/CE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3000" y="4213080"/>
              <a:ext cx="4267080" cy="733320"/>
            </a:xfrm>
            <a:prstGeom prst="rect">
              <a:avLst/>
            </a:prstGeom>
            <a:noFill/>
            <a:ln w="381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Legge Regionale 64/2001 (norme sullo scarico di acque reflue ed ulteriori modifiche alla Legge Regionale 1 dicembre 1998, n.88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5108400"/>
              <a:ext cx="4267080" cy="52020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Regolamento Regionale n. 28/2002 di attuazione della Legge Regionale n. 64/200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43000" y="5791320"/>
              <a:ext cx="4267080" cy="520200"/>
            </a:xfrm>
            <a:prstGeom prst="rect">
              <a:avLst/>
            </a:prstGeom>
            <a:noFill/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ffff"/>
                  </a:solidFill>
                  <a:latin typeface="Times New Roman"/>
                </a:rPr>
                <a:t>DM 185/2003 recante le norme tecniche di attuazione per il recupero delle acque reflu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15160" y="3603600"/>
              <a:ext cx="2895480" cy="1008720"/>
            </a:xfrm>
            <a:prstGeom prst="rect">
              <a:avLst/>
            </a:prstGeom>
            <a:noFill/>
            <a:ln w="7632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Parametri, modalità di campionamento ed analis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84920" y="1828800"/>
              <a:ext cx="2954160" cy="703800"/>
            </a:xfrm>
            <a:prstGeom prst="rect">
              <a:avLst/>
            </a:prstGeom>
            <a:noFill/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Principi generali del quadro di insiem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43600" y="5280120"/>
              <a:ext cx="2836800" cy="703800"/>
            </a:xfrm>
            <a:prstGeom prst="rect">
              <a:avLst/>
            </a:prstGeom>
            <a:noFill/>
            <a:ln w="7632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imes New Roman"/>
                </a:rPr>
                <a:t>Autorizzazioni, controlli e ruolo P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7F85-86A6-4099-A064-38082E888C25}" type="slidenum">
              <a:t>6</a:t>
            </a:fld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2640" y="371160"/>
            <a:ext cx="8001000" cy="77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66"/>
                </a:solidFill>
                <a:latin typeface="Futura Md BT"/>
              </a:rPr>
              <a:t>PARAMETRI ACQUE INDUSTRIALI</a:t>
            </a:r>
            <a:endParaRPr b="1" lang="en-US" sz="3200" spc="-1" strike="noStrike">
              <a:solidFill>
                <a:srgbClr val="ffff66"/>
              </a:solidFill>
              <a:latin typeface="Futura Md BT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069920" y="1368360"/>
          <a:ext cx="7467480" cy="4919400"/>
        </p:xfrm>
        <a:graphic>
          <a:graphicData uri="http://schemas.openxmlformats.org/drawingml/2006/table">
            <a:tbl>
              <a:tblPr/>
              <a:tblGrid>
                <a:gridCol w="2562120"/>
                <a:gridCol w="3587760"/>
                <a:gridCol w="1317600"/>
              </a:tblGrid>
              <a:tr h="27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oto ammoniacale, NH</a:t>
                      </a:r>
                      <a:r>
                        <a:rPr b="0" lang="it-IT" sz="1000" spc="-1" strike="noStrike" baseline="-30000">
                          <a:solidFill>
                            <a:srgbClr val="ffffff"/>
                          </a:solidFill>
                          <a:latin typeface="Comic Sans MS"/>
                        </a:rPr>
                        <a:t>4</a:t>
                      </a: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r>
                        <a:rPr b="0" lang="it-IT" sz="1000" spc="-1" strike="noStrike" baseline="30000">
                          <a:solidFill>
                            <a:srgbClr val="ffffff"/>
                          </a:solidFill>
                          <a:latin typeface="Comic Sans MS"/>
                        </a:rPr>
                        <a:t>+</a:t>
                      </a: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 molecola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3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oto nitrico,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3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zoto nitroso, 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0.6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lor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mercurimetrico con indicat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2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ol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fotomet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0  (diluito 1/4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do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luizioni successi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 molesti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omanda biochimica di ossigeno (BOD5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ssigeno disciolto (incubazione 5 giorni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25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omanda chimica di ossigeno (COD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al bicromato di potassi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5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enol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di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osforo tota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spettrofotometr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orbidit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ssorbimento, diffusione e retrodiffusion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lidi sospesi total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vimetria, centrifugazione, filtrazione, essiccazion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2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alli (Al Cd Cr Fe Pb Cu Mn Zn Sn 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assorbimento atomic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lettrometr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5.5-9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ensioattiv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fotometria di assorbimen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4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asso di saturazione Ossigeno disciolt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Metodo di Winkler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drocarbur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luorescenza UV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Cromo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pettrometria assorbimento atomico , Spettrofotometria di assorbimento molecola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4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Solfat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ravimetria, complessometria EDTA, Spettrofotometria molecola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&lt;1000 mg/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CDE9-EF4E-4B96-BFE5-94792186BBF4}" type="slidenum">
              <a:t>7</a:t>
            </a:fld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180720"/>
            <a:ext cx="8001000" cy="82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ff66"/>
                </a:solidFill>
                <a:latin typeface="Futura Md BT"/>
              </a:rPr>
              <a:t>SENSORI IN LINEA</a:t>
            </a:r>
            <a:endParaRPr b="1" lang="en-US" sz="4400" spc="-1" strike="noStrike">
              <a:solidFill>
                <a:srgbClr val="ffff66"/>
              </a:solidFill>
              <a:latin typeface="Futura Md BT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143000" y="1050840"/>
            <a:ext cx="7719840" cy="5294520"/>
            <a:chOff x="1143000" y="1050840"/>
            <a:chExt cx="7719840" cy="5294520"/>
          </a:xfrm>
        </p:grpSpPr>
        <p:sp>
          <p:nvSpPr>
            <p:cNvPr id="173" name=""/>
            <p:cNvSpPr/>
            <p:nvPr/>
          </p:nvSpPr>
          <p:spPr>
            <a:xfrm>
              <a:off x="1143000" y="1050840"/>
              <a:ext cx="7719840" cy="5294520"/>
            </a:xfrm>
            <a:prstGeom prst="rect">
              <a:avLst/>
            </a:prstGeom>
            <a:solidFill>
              <a:srgbClr val="cbcbcb"/>
            </a:solidFill>
            <a:ln w="9360">
              <a:solidFill>
                <a:srgbClr val="33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301040" y="1121760"/>
              <a:ext cx="7031520" cy="5118120"/>
              <a:chOff x="1301040" y="1121760"/>
              <a:chExt cx="7031520" cy="5118120"/>
            </a:xfrm>
          </p:grpSpPr>
          <p:cxnSp>
            <p:nvCxnSpPr>
              <p:cNvPr id="175" name=""/>
              <p:cNvCxnSpPr>
                <a:stCxn id="176" idx="3"/>
                <a:endCxn id="177" idx="1"/>
              </p:cNvCxnSpPr>
              <p:nvPr/>
            </p:nvCxnSpPr>
            <p:spPr>
              <a:xfrm flipV="1">
                <a:off x="3138480" y="5849280"/>
                <a:ext cx="1489680" cy="191880"/>
              </a:xfrm>
              <a:prstGeom prst="bentConnector2">
                <a:avLst/>
              </a:prstGeom>
              <a:ln w="28440">
                <a:solidFill>
                  <a:srgbClr val="808000"/>
                </a:solidFill>
                <a:miter/>
                <a:tailEnd len="med" type="triangle" w="med"/>
              </a:ln>
            </p:spPr>
          </p:cxnSp>
          <p:sp>
            <p:nvSpPr>
              <p:cNvPr id="178" name=""/>
              <p:cNvSpPr/>
              <p:nvPr/>
            </p:nvSpPr>
            <p:spPr>
              <a:xfrm>
                <a:off x="1985040" y="29354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85040" y="34106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85040" y="42476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85040" y="467208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85040" y="5279040"/>
                <a:ext cx="1200240" cy="398880"/>
              </a:xfrm>
              <a:prstGeom prst="rect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cccc00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Industri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797840" y="5841000"/>
                <a:ext cx="1312920" cy="398880"/>
              </a:xfrm>
              <a:prstGeom prst="rect">
                <a:avLst/>
              </a:prstGeom>
              <a:gradFill rotWithShape="0">
                <a:gsLst>
                  <a:gs pos="0">
                    <a:srgbClr val="808000"/>
                  </a:gs>
                  <a:gs pos="100000">
                    <a:srgbClr val="ff9933"/>
                  </a:gs>
                </a:gsLst>
                <a:lin ang="108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4d4d4d"/>
                    </a:solidFill>
                    <a:latin typeface="Times New Roman"/>
                  </a:rPr>
                  <a:t>Abitazion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54800" y="4534560"/>
                <a:ext cx="2220840" cy="1275120"/>
              </a:xfrm>
              <a:prstGeom prst="rect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996633"/>
                  </a:gs>
                </a:gsLst>
                <a:lin ang="54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Impianto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depurazion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54800" y="2895120"/>
                <a:ext cx="2220840" cy="971280"/>
              </a:xfrm>
              <a:prstGeom prst="rect">
                <a:avLst/>
              </a:prstGeom>
              <a:gradFill rotWithShape="0">
                <a:gsLst>
                  <a:gs pos="0">
                    <a:srgbClr val="cccc00"/>
                  </a:gs>
                  <a:gs pos="100000">
                    <a:srgbClr val="cc9900"/>
                  </a:gs>
                </a:gsLst>
                <a:lin ang="5400000"/>
              </a:gra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Riciclo per uso industria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6200000">
                <a:off x="3947400" y="4971600"/>
                <a:ext cx="1333080" cy="398880"/>
              </a:xfrm>
              <a:prstGeom prst="rect">
                <a:avLst/>
              </a:prstGeom>
              <a:solidFill>
                <a:srgbClr val="996633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330099"/>
                    </a:solidFill>
                    <a:latin typeface="Times New Roman"/>
                  </a:rPr>
                  <a:t>Collettor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5" name=""/>
              <p:cNvCxnSpPr>
                <a:stCxn id="178" idx="3"/>
                <a:endCxn id="177" idx="0"/>
              </p:cNvCxnSpPr>
              <p:nvPr/>
            </p:nvCxnSpPr>
            <p:spPr>
              <a:xfrm>
                <a:off x="3212640" y="3135600"/>
                <a:ext cx="1188360" cy="20347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6" name=""/>
              <p:cNvCxnSpPr>
                <a:stCxn id="179" idx="3"/>
                <a:endCxn id="177" idx="0"/>
              </p:cNvCxnSpPr>
              <p:nvPr/>
            </p:nvCxnSpPr>
            <p:spPr>
              <a:xfrm>
                <a:off x="3212640" y="3612240"/>
                <a:ext cx="1188360" cy="155808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7" name=""/>
              <p:cNvCxnSpPr>
                <a:stCxn id="180" idx="3"/>
                <a:endCxn id="177" idx="0"/>
              </p:cNvCxnSpPr>
              <p:nvPr/>
            </p:nvCxnSpPr>
            <p:spPr>
              <a:xfrm>
                <a:off x="3212640" y="4447440"/>
                <a:ext cx="1188360" cy="7225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8" name=""/>
              <p:cNvCxnSpPr>
                <a:stCxn id="181" idx="3"/>
                <a:endCxn id="177" idx="0"/>
              </p:cNvCxnSpPr>
              <p:nvPr/>
            </p:nvCxnSpPr>
            <p:spPr>
              <a:xfrm>
                <a:off x="3212640" y="4872240"/>
                <a:ext cx="1188360" cy="2977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89" name=""/>
              <p:cNvCxnSpPr>
                <a:stCxn id="182" idx="3"/>
                <a:endCxn id="177" idx="0"/>
              </p:cNvCxnSpPr>
              <p:nvPr/>
            </p:nvCxnSpPr>
            <p:spPr>
              <a:xfrm flipV="1">
                <a:off x="3212640" y="5169240"/>
                <a:ext cx="1188360" cy="30996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90" name=""/>
              <p:cNvCxnSpPr>
                <a:stCxn id="177" idx="2"/>
                <a:endCxn id="183" idx="1"/>
              </p:cNvCxnSpPr>
              <p:nvPr/>
            </p:nvCxnSpPr>
            <p:spPr>
              <a:xfrm>
                <a:off x="4854240" y="5169960"/>
                <a:ext cx="686520" cy="360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996633"/>
                </a:solidFill>
                <a:miter/>
                <a:tailEnd len="med" type="triangle" w="med"/>
              </a:ln>
            </p:spPr>
          </p:cxnSp>
          <p:cxnSp>
            <p:nvCxnSpPr>
              <p:cNvPr id="191" name=""/>
              <p:cNvCxnSpPr>
                <a:stCxn id="183" idx="0"/>
                <a:endCxn id="184" idx="2"/>
              </p:cNvCxnSpPr>
              <p:nvPr/>
            </p:nvCxnSpPr>
            <p:spPr>
              <a:xfrm flipV="1">
                <a:off x="6665400" y="3877560"/>
                <a:ext cx="1080" cy="644760"/>
              </a:xfrm>
              <a:prstGeom prst="bentConnector2">
                <a:avLst/>
              </a:prstGeom>
              <a:ln w="28440">
                <a:solidFill>
                  <a:srgbClr val="cc9900"/>
                </a:solidFill>
                <a:miter/>
                <a:tailEnd len="med" type="triangle" w="med"/>
              </a:ln>
            </p:spPr>
          </p:cxnSp>
          <p:cxnSp>
            <p:nvCxnSpPr>
              <p:cNvPr id="192" name=""/>
              <p:cNvCxnSpPr>
                <a:stCxn id="184" idx="0"/>
                <a:endCxn id="178" idx="1"/>
              </p:cNvCxnSpPr>
              <p:nvPr/>
            </p:nvCxnSpPr>
            <p:spPr>
              <a:xfrm rot="5400000">
                <a:off x="4200120" y="639720"/>
                <a:ext cx="220320" cy="4710240"/>
              </a:xfrm>
              <a:prstGeom prst="bentConnector4">
                <a:avLst>
                  <a:gd name="adj1" fmla="val -186252"/>
                  <a:gd name="adj2" fmla="val 109806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3" name=""/>
              <p:cNvCxnSpPr>
                <a:stCxn id="184" idx="0"/>
                <a:endCxn id="179" idx="1"/>
              </p:cNvCxnSpPr>
              <p:nvPr/>
            </p:nvCxnSpPr>
            <p:spPr>
              <a:xfrm rot="5400000">
                <a:off x="3961080" y="878760"/>
                <a:ext cx="698400" cy="4710240"/>
              </a:xfrm>
              <a:prstGeom prst="bentConnector4">
                <a:avLst>
                  <a:gd name="adj1" fmla="val -56936"/>
                  <a:gd name="adj2" fmla="val 109806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4" name=""/>
              <p:cNvCxnSpPr>
                <a:stCxn id="184" idx="0"/>
                <a:endCxn id="180" idx="1"/>
              </p:cNvCxnSpPr>
              <p:nvPr/>
            </p:nvCxnSpPr>
            <p:spPr>
              <a:xfrm rot="5400000">
                <a:off x="3544200" y="1294920"/>
                <a:ext cx="1532520" cy="4710240"/>
              </a:xfrm>
              <a:prstGeom prst="bentConnector4">
                <a:avLst>
                  <a:gd name="adj1" fmla="val -23989"/>
                  <a:gd name="adj2" fmla="val 110012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5" name=""/>
              <p:cNvCxnSpPr>
                <a:stCxn id="184" idx="0"/>
                <a:endCxn id="181" idx="1"/>
              </p:cNvCxnSpPr>
              <p:nvPr/>
            </p:nvCxnSpPr>
            <p:spPr>
              <a:xfrm rot="5400000">
                <a:off x="3331800" y="1508040"/>
                <a:ext cx="1956960" cy="4710240"/>
              </a:xfrm>
              <a:prstGeom prst="bentConnector4">
                <a:avLst>
                  <a:gd name="adj1" fmla="val -19558"/>
                  <a:gd name="adj2" fmla="val 110112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cxnSp>
            <p:nvCxnSpPr>
              <p:cNvPr id="196" name=""/>
              <p:cNvCxnSpPr>
                <a:stCxn id="184" idx="0"/>
                <a:endCxn id="182" idx="1"/>
              </p:cNvCxnSpPr>
              <p:nvPr/>
            </p:nvCxnSpPr>
            <p:spPr>
              <a:xfrm rot="5400000">
                <a:off x="3027600" y="1812240"/>
                <a:ext cx="2565360" cy="4710240"/>
              </a:xfrm>
              <a:prstGeom prst="bentConnector4">
                <a:avLst>
                  <a:gd name="adj1" fmla="val -14385"/>
                  <a:gd name="adj2" fmla="val 110150"/>
                </a:avLst>
              </a:prstGeom>
              <a:ln w="28440">
                <a:solidFill>
                  <a:srgbClr val="cccc00"/>
                </a:solidFill>
                <a:miter/>
                <a:tailEnd len="med" type="triangle" w="med"/>
              </a:ln>
            </p:spPr>
          </p:cxnSp>
          <p:sp>
            <p:nvSpPr>
              <p:cNvPr id="197" name=""/>
              <p:cNvSpPr/>
              <p:nvPr/>
            </p:nvSpPr>
            <p:spPr>
              <a:xfrm>
                <a:off x="2631960" y="1959120"/>
                <a:ext cx="3151080" cy="398880"/>
              </a:xfrm>
              <a:prstGeom prst="rect">
                <a:avLst/>
              </a:prstGeom>
              <a:solidFill>
                <a:srgbClr val="330099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cbcbcb"/>
                    </a:solidFill>
                    <a:latin typeface="Times New Roman"/>
                  </a:rPr>
                  <a:t>Acquedotto ad uso potabi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98" name=""/>
              <p:cNvCxnSpPr>
                <a:stCxn id="197" idx="1"/>
                <a:endCxn id="176" idx="1"/>
              </p:cNvCxnSpPr>
              <p:nvPr/>
            </p:nvCxnSpPr>
            <p:spPr>
              <a:xfrm flipV="1" rot="10800000">
                <a:off x="1769400" y="2158920"/>
                <a:ext cx="840600" cy="3882240"/>
              </a:xfrm>
              <a:prstGeom prst="bentConnector3">
                <a:avLst>
                  <a:gd name="adj1" fmla="val 155741"/>
                </a:avLst>
              </a:prstGeom>
              <a:ln w="28440">
                <a:solidFill>
                  <a:srgbClr val="330099"/>
                </a:solidFill>
                <a:miter/>
                <a:tailEnd len="med" type="triangle" w="med"/>
              </a:ln>
            </p:spPr>
          </p:cxnSp>
          <p:cxnSp>
            <p:nvCxnSpPr>
              <p:cNvPr id="199" name=""/>
              <p:cNvCxnSpPr>
                <a:stCxn id="200" idx="3"/>
                <a:endCxn id="184" idx="3"/>
              </p:cNvCxnSpPr>
              <p:nvPr/>
            </p:nvCxnSpPr>
            <p:spPr>
              <a:xfrm>
                <a:off x="5273640" y="1537560"/>
                <a:ext cx="2517120" cy="1843560"/>
              </a:xfrm>
              <a:prstGeom prst="bentConnector3">
                <a:avLst>
                  <a:gd name="adj1" fmla="val 108510"/>
                </a:avLst>
              </a:prstGeom>
              <a:ln w="28440">
                <a:solidFill>
                  <a:srgbClr val="330099"/>
                </a:solidFill>
                <a:miter/>
                <a:tailEnd len="med" type="triangle" w="med"/>
              </a:ln>
            </p:spPr>
          </p:cxnSp>
          <p:grpSp>
            <p:nvGrpSpPr>
              <p:cNvPr id="201" name=""/>
              <p:cNvGrpSpPr/>
              <p:nvPr/>
            </p:nvGrpSpPr>
            <p:grpSpPr>
              <a:xfrm>
                <a:off x="1798560" y="2629080"/>
                <a:ext cx="1668600" cy="1223640"/>
                <a:chOff x="1798560" y="2629080"/>
                <a:chExt cx="1668600" cy="12236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798560" y="2745000"/>
                  <a:ext cx="1668600" cy="110772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ff505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870200" y="2629080"/>
                  <a:ext cx="798480" cy="276480"/>
                </a:xfrm>
                <a:prstGeom prst="rect">
                  <a:avLst/>
                </a:prstGeom>
                <a:solidFill>
                  <a:srgbClr val="cb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1200" spc="-1" strike="noStrike">
                      <a:solidFill>
                        <a:srgbClr val="ff5050"/>
                      </a:solidFill>
                      <a:latin typeface="Times New Roman"/>
                    </a:rPr>
                    <a:t>tessile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27360" y="3968280"/>
                <a:ext cx="1609560" cy="1212840"/>
                <a:chOff x="1827360" y="3968280"/>
                <a:chExt cx="1609560" cy="12128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827360" y="4083120"/>
                  <a:ext cx="1609560" cy="1098000"/>
                </a:xfrm>
                <a:prstGeom prst="roundRect">
                  <a:avLst>
                    <a:gd name="adj" fmla="val 16667"/>
                  </a:avLst>
                </a:prstGeom>
                <a:noFill/>
                <a:ln w="9360">
                  <a:solidFill>
                    <a:srgbClr val="ff505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5400" y="3968280"/>
                  <a:ext cx="1174680" cy="276480"/>
                </a:xfrm>
                <a:prstGeom prst="rect">
                  <a:avLst/>
                </a:prstGeom>
                <a:solidFill>
                  <a:srgbClr val="cb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it-IT" sz="1200" spc="-1" strike="noStrike">
                      <a:solidFill>
                        <a:srgbClr val="ff5050"/>
                      </a:solidFill>
                      <a:latin typeface="Times New Roman"/>
                    </a:rPr>
                    <a:t>calzaturiero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3212640" y="1335600"/>
                <a:ext cx="2034000" cy="398880"/>
              </a:xfrm>
              <a:prstGeom prst="rect">
                <a:avLst/>
              </a:prstGeom>
              <a:solidFill>
                <a:srgbClr val="330099"/>
              </a:solidFill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cbcbcb"/>
                    </a:solidFill>
                    <a:latin typeface="Times New Roman"/>
                  </a:rPr>
                  <a:t>Fiume / Sorgent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7" name=""/>
              <p:cNvCxnSpPr>
                <a:stCxn id="200" idx="2"/>
                <a:endCxn id="197" idx="0"/>
              </p:cNvCxnSpPr>
              <p:nvPr/>
            </p:nvCxnSpPr>
            <p:spPr>
              <a:xfrm rot="5400000">
                <a:off x="4122000" y="1837080"/>
                <a:ext cx="194760" cy="230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330099"/>
                </a:solidFill>
                <a:miter/>
                <a:tailEnd len="med" type="triangle" w="med"/>
              </a:ln>
            </p:spPr>
          </p:cxnSp>
          <p:cxnSp>
            <p:nvCxnSpPr>
              <p:cNvPr id="208" name=""/>
              <p:cNvCxnSpPr>
                <a:stCxn id="183" idx="3"/>
                <a:endCxn id="200" idx="0"/>
              </p:cNvCxnSpPr>
              <p:nvPr/>
            </p:nvCxnSpPr>
            <p:spPr>
              <a:xfrm flipH="1" flipV="1">
                <a:off x="4230000" y="1323360"/>
                <a:ext cx="3560040" cy="3849480"/>
              </a:xfrm>
              <a:prstGeom prst="bentConnector4">
                <a:avLst>
                  <a:gd name="adj1" fmla="val -15250"/>
                  <a:gd name="adj2" fmla="val 105237"/>
                </a:avLst>
              </a:prstGeom>
              <a:ln w="28440">
                <a:solidFill>
                  <a:srgbClr val="cc9900"/>
                </a:solidFill>
                <a:miter/>
                <a:tailEnd len="med" type="triangle" w="med"/>
              </a:ln>
            </p:spPr>
          </p:cxnSp>
        </p:grpSp>
      </p:grpSp>
      <p:grpSp>
        <p:nvGrpSpPr>
          <p:cNvPr id="209" name=""/>
          <p:cNvGrpSpPr/>
          <p:nvPr/>
        </p:nvGrpSpPr>
        <p:grpSpPr>
          <a:xfrm>
            <a:off x="3429000" y="2557440"/>
            <a:ext cx="5397480" cy="3713760"/>
            <a:chOff x="3429000" y="2557440"/>
            <a:chExt cx="5397480" cy="3713760"/>
          </a:xfrm>
        </p:grpSpPr>
        <p:grpSp>
          <p:nvGrpSpPr>
            <p:cNvPr id="210" name=""/>
            <p:cNvGrpSpPr/>
            <p:nvPr/>
          </p:nvGrpSpPr>
          <p:grpSpPr>
            <a:xfrm>
              <a:off x="6553080" y="4135320"/>
              <a:ext cx="228600" cy="252360"/>
              <a:chOff x="6553080" y="4135320"/>
              <a:chExt cx="228600" cy="252360"/>
            </a:xfrm>
          </p:grpSpPr>
          <p:sp>
            <p:nvSpPr>
              <p:cNvPr id="211" name=""/>
              <p:cNvSpPr/>
              <p:nvPr/>
            </p:nvSpPr>
            <p:spPr>
              <a:xfrm>
                <a:off x="6573600" y="4158000"/>
                <a:ext cx="186840" cy="20664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553080" y="4158000"/>
                <a:ext cx="228600" cy="20664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6573240" y="4135320"/>
                <a:ext cx="186840" cy="2523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7924680" y="5068800"/>
              <a:ext cx="228600" cy="250920"/>
              <a:chOff x="7924680" y="5068800"/>
              <a:chExt cx="228600" cy="250920"/>
            </a:xfrm>
          </p:grpSpPr>
          <p:sp>
            <p:nvSpPr>
              <p:cNvPr id="215" name=""/>
              <p:cNvSpPr/>
              <p:nvPr/>
            </p:nvSpPr>
            <p:spPr>
              <a:xfrm>
                <a:off x="7945200" y="509148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24680" y="509148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7944840" y="506880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952880" y="5068800"/>
              <a:ext cx="228600" cy="250920"/>
              <a:chOff x="4952880" y="5068800"/>
              <a:chExt cx="228600" cy="250920"/>
            </a:xfrm>
          </p:grpSpPr>
          <p:sp>
            <p:nvSpPr>
              <p:cNvPr id="219" name=""/>
              <p:cNvSpPr/>
              <p:nvPr/>
            </p:nvSpPr>
            <p:spPr>
              <a:xfrm>
                <a:off x="4973400" y="509148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952880" y="509148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73040" y="506880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3429000" y="2987640"/>
              <a:ext cx="228600" cy="250920"/>
              <a:chOff x="3429000" y="2987640"/>
              <a:chExt cx="228600" cy="250920"/>
            </a:xfrm>
          </p:grpSpPr>
          <p:sp>
            <p:nvSpPr>
              <p:cNvPr id="223" name=""/>
              <p:cNvSpPr/>
              <p:nvPr/>
            </p:nvSpPr>
            <p:spPr>
              <a:xfrm>
                <a:off x="3449520" y="301032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429000" y="301032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3449160" y="298764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429000" y="3490920"/>
              <a:ext cx="228600" cy="250920"/>
              <a:chOff x="3429000" y="3490920"/>
              <a:chExt cx="228600" cy="250920"/>
            </a:xfrm>
          </p:grpSpPr>
          <p:sp>
            <p:nvSpPr>
              <p:cNvPr id="227" name=""/>
              <p:cNvSpPr/>
              <p:nvPr/>
            </p:nvSpPr>
            <p:spPr>
              <a:xfrm>
                <a:off x="3449520" y="351360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429000" y="351360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3449160" y="349092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429000" y="4280040"/>
              <a:ext cx="228600" cy="250560"/>
              <a:chOff x="3429000" y="4280040"/>
              <a:chExt cx="228600" cy="250560"/>
            </a:xfrm>
          </p:grpSpPr>
          <p:sp>
            <p:nvSpPr>
              <p:cNvPr id="231" name=""/>
              <p:cNvSpPr/>
              <p:nvPr/>
            </p:nvSpPr>
            <p:spPr>
              <a:xfrm>
                <a:off x="3449520" y="430272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29000" y="430272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449160" y="4280040"/>
                <a:ext cx="186840" cy="25056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429000" y="4746600"/>
              <a:ext cx="228600" cy="250920"/>
              <a:chOff x="3429000" y="4746600"/>
              <a:chExt cx="228600" cy="25092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9520" y="476928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29000" y="476928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3449160" y="474660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3429000" y="5356080"/>
              <a:ext cx="228600" cy="250920"/>
              <a:chOff x="3429000" y="5356080"/>
              <a:chExt cx="228600" cy="250920"/>
            </a:xfrm>
          </p:grpSpPr>
          <p:sp>
            <p:nvSpPr>
              <p:cNvPr id="239" name=""/>
              <p:cNvSpPr/>
              <p:nvPr/>
            </p:nvSpPr>
            <p:spPr>
              <a:xfrm>
                <a:off x="3449520" y="537876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429000" y="537876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3449160" y="535608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6553080" y="2557440"/>
              <a:ext cx="228600" cy="250920"/>
              <a:chOff x="6553080" y="2557440"/>
              <a:chExt cx="228600" cy="250920"/>
            </a:xfrm>
          </p:grpSpPr>
          <p:sp>
            <p:nvSpPr>
              <p:cNvPr id="243" name=""/>
              <p:cNvSpPr/>
              <p:nvPr/>
            </p:nvSpPr>
            <p:spPr>
              <a:xfrm>
                <a:off x="6573600" y="2580120"/>
                <a:ext cx="186840" cy="205200"/>
              </a:xfrm>
              <a:prstGeom prst="ellipse">
                <a:avLst/>
              </a:prstGeom>
              <a:solidFill>
                <a:srgbClr val="ff3300"/>
              </a:solidFill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53080" y="2580120"/>
                <a:ext cx="228600" cy="20520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573240" y="2557440"/>
                <a:ext cx="186840" cy="250920"/>
              </a:xfrm>
              <a:prstGeom prst="line">
                <a:avLst/>
              </a:prstGeom>
              <a:ln w="284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52880" y="5872320"/>
              <a:ext cx="3873600" cy="398880"/>
              <a:chOff x="4952880" y="5872320"/>
              <a:chExt cx="3873600" cy="39888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4952880" y="5928840"/>
                <a:ext cx="228600" cy="251640"/>
                <a:chOff x="4952880" y="5928840"/>
                <a:chExt cx="228600" cy="2516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4973400" y="5951520"/>
                  <a:ext cx="186840" cy="205920"/>
                </a:xfrm>
                <a:prstGeom prst="ellipse">
                  <a:avLst/>
                </a:prstGeom>
                <a:solidFill>
                  <a:srgbClr val="ff3300"/>
                </a:solidFill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4952880" y="5951520"/>
                  <a:ext cx="228600" cy="20592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>
                  <a:off x="4973040" y="5928840"/>
                  <a:ext cx="186840" cy="251640"/>
                </a:xfrm>
                <a:prstGeom prst="line">
                  <a:avLst/>
                </a:prstGeom>
                <a:ln w="2844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5328000" y="5872320"/>
                <a:ext cx="349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5050"/>
                    </a:solidFill>
                    <a:latin typeface="Times New Roman"/>
                  </a:rPr>
                  <a:t>Sensori optoelettronici in line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A8C84-A804-4463-B0D9-7AF7D7BDF2F9}" type="slidenum">
              <a:t>8</a:t>
            </a:fld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468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066680" y="15998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9933"/>
                </a:solidFill>
                <a:latin typeface="Comic Sans MS"/>
              </a:rPr>
              <a:t>PRINCIPI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ASSORBIMENTO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Esempio: il CO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omic Sans MS"/>
              </a:rPr>
              <a:t>FLUORESCENZA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Comic Sans MS"/>
              </a:rPr>
              <a:t>Esempio: Idrocarburi, Chl, CDO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f66"/>
                </a:solidFill>
                <a:latin typeface="Futura Md BT"/>
              </a:rPr>
              <a:t>TECNICHE OTTICHE IN LINEA</a:t>
            </a:r>
            <a:endParaRPr b="1" lang="en-US" sz="3600" spc="-1" strike="noStrike">
              <a:solidFill>
                <a:srgbClr val="ffff66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1410-184F-4F36-A1AC-1B3181F33BF9}" type="slidenum">
              <a:t>9</a:t>
            </a:fld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08:56:53Z</dcterms:created>
  <dc:creator>Valentina Raimondi</dc:creator>
  <dc:description/>
  <dc:language>en-US</dc:language>
  <cp:lastModifiedBy>pc-pquerci</cp:lastModifiedBy>
  <cp:lastPrinted>2002-05-28T13:04:35Z</cp:lastPrinted>
  <dcterms:modified xsi:type="dcterms:W3CDTF">2006-03-02T14:36:02Z</dcterms:modified>
  <cp:revision>459</cp:revision>
  <dc:subject/>
  <dc:title>Il telerilevamento lidar per il controllo vegetazione</dc:title>
</cp:coreProperties>
</file>