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bin" ContentType="application/vnd.openxmlformats-officedocument.oleObject"/>
  <Override PartName="/ppt/media/image10.jpeg" ContentType="image/jpeg"/>
  <Override PartName="/ppt/media/image9.png" ContentType="image/png"/>
  <Override PartName="/ppt/media/image11.jpeg" ContentType="image/jpeg"/>
  <Override PartName="/ppt/media/image16.png" ContentType="image/png"/>
  <Override PartName="/ppt/media/image15.jpeg" ContentType="image/jpeg"/>
  <Override PartName="/ppt/media/image14.wmf" ContentType="image/x-wmf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wmf" ContentType="image/x-wmf"/>
  <Override PartName="/ppt/media/image12.jpeg" ContentType="image/jpeg"/>
  <Override PartName="/ppt/media/image6.wmf" ContentType="image/x-wmf"/>
  <Override PartName="/ppt/media/image7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66420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marL="216000"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dt" idx="3"/>
          </p:nvPr>
        </p:nvSpPr>
        <p:spPr>
          <a:xfrm>
            <a:off x="3762000" y="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Comic Sans MS"/>
              </a:rPr>
              <a:t>Click to move the slide</a:t>
            </a:r>
            <a:endParaRPr b="1" lang="en-US" sz="4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body"/>
          </p:nvPr>
        </p:nvSpPr>
        <p:spPr>
          <a:xfrm>
            <a:off x="884160" y="4703400"/>
            <a:ext cx="4872240" cy="4457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ftr" idx="4"/>
          </p:nvPr>
        </p:nvSpPr>
        <p:spPr>
          <a:xfrm>
            <a:off x="-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marL="216000"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 type="sldNum" idx="5"/>
          </p:nvPr>
        </p:nvSpPr>
        <p:spPr>
          <a:xfrm>
            <a:off x="376200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5252AD5A-5D15-45FA-AB7E-4947C08B0F1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884160" y="4703400"/>
            <a:ext cx="48722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Méthodes et techniques avancées pour l'analyse Environnementale dans les zones à haute Densité indUstrielle à l'aide des Sondes optoÉlectron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6B362-7BFB-4510-8FCC-7984B0C6BA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Futura Md B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739152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143000" y="4057200"/>
            <a:ext cx="739152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C862D-C288-4ECC-8177-0D7593BF67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Futura Md B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36068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30560" y="1828440"/>
            <a:ext cx="36068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43000" y="4057200"/>
            <a:ext cx="36068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930560" y="4057200"/>
            <a:ext cx="36068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9DC17-C932-4402-8F73-65443FB992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Futura Md B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23799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642480" y="1828440"/>
            <a:ext cx="23799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41600" y="1828440"/>
            <a:ext cx="23799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143000" y="4057200"/>
            <a:ext cx="23799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3642480" y="4057200"/>
            <a:ext cx="23799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141600" y="4057200"/>
            <a:ext cx="23799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A99D3-92D9-4DFC-9379-0A0B90F155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A0CDC-417B-4909-9CD3-6491B815222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Futura Md B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143000" y="1828440"/>
            <a:ext cx="73915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7D3E5-4207-4C8B-BF66-CC284830AFF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Futura Md B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73915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447E7-D0B7-4568-8FE9-B648F58A7AE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Futura Md B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36068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30560" y="1828440"/>
            <a:ext cx="36068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FB7B6-367F-4417-925F-7D77DA37D79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8AE66-6421-4004-9D36-E648406A351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1142640" y="0"/>
            <a:ext cx="80010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4C6E7-04FE-43B0-8F50-F4F878D1F76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Futura Md B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36068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30560" y="1828440"/>
            <a:ext cx="36068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43000" y="4057200"/>
            <a:ext cx="36068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C5BD8-9058-4A67-BA01-419C528D84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Futura Md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143000" y="1828440"/>
            <a:ext cx="73915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FFE61-3E82-434A-908B-C3021B092C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Futura Md B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36068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30560" y="1828440"/>
            <a:ext cx="36068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930560" y="4057200"/>
            <a:ext cx="36068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0A6D2-9F5D-4DD0-80DB-DA13AB497A6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Futura Md B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36068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30560" y="1828440"/>
            <a:ext cx="36068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43000" y="4057200"/>
            <a:ext cx="739152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54329-2C68-4F71-A79C-53920B27E08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Futura Md B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739152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143000" y="4057200"/>
            <a:ext cx="739152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37F03-42C7-4B2D-A2D9-189C1804EC5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Futura Md B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36068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30560" y="1828440"/>
            <a:ext cx="36068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43000" y="4057200"/>
            <a:ext cx="36068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930560" y="4057200"/>
            <a:ext cx="36068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6A26F-5B85-4851-BD68-E0912308576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Futura Md B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23799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642480" y="1828440"/>
            <a:ext cx="23799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41600" y="1828440"/>
            <a:ext cx="23799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1143000" y="4057200"/>
            <a:ext cx="23799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642480" y="4057200"/>
            <a:ext cx="23799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41600" y="4057200"/>
            <a:ext cx="23799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98998-FAC7-469B-BE91-B1D11ADEF2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Futura Md B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73915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4E0B3-092F-46C5-958C-17AF3BB4D9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Futura Md B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36068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930560" y="1828440"/>
            <a:ext cx="36068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4C2CF-CF56-423A-AC1D-F5C8209585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D4115-70ED-4F9E-A97E-4CED555026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42640" y="0"/>
            <a:ext cx="80010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8DAEC-4C9F-44D4-84EB-DBCB592EBB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Futura Md B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36068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30560" y="1828440"/>
            <a:ext cx="36068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143000" y="4057200"/>
            <a:ext cx="36068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0A1CA-64AF-4A77-AC54-EE757B8982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Futura Md B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36068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30560" y="1828440"/>
            <a:ext cx="36068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930560" y="4057200"/>
            <a:ext cx="36068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8F29E-F40B-474E-AC00-7156B16665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Futura Md B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36068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30560" y="1828440"/>
            <a:ext cx="36068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43000" y="4057200"/>
            <a:ext cx="739152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1C266-76DB-4F41-9C27-EAD415B851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1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468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828440"/>
            <a:ext cx="73915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05600" indent="-27144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85760" indent="-217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19920" indent="-2170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954440" indent="-217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954440" indent="-217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954440" indent="-217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1035000" cy="6858000"/>
          </a:xfrm>
          <a:prstGeom prst="rect">
            <a:avLst/>
          </a:prstGeom>
          <a:gradFill rotWithShape="0">
            <a:gsLst>
              <a:gs pos="0">
                <a:srgbClr val="2dffaa"/>
              </a:gs>
              <a:gs pos="100000">
                <a:srgbClr val="0050a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80920" y="125280"/>
            <a:ext cx="66960" cy="66960"/>
          </a:xfrm>
          <a:prstGeom prst="ellipse">
            <a:avLst/>
          </a:prstGeom>
          <a:solidFill>
            <a:srgbClr val="003d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80920" y="582480"/>
            <a:ext cx="66960" cy="65160"/>
          </a:xfrm>
          <a:prstGeom prst="ellipse">
            <a:avLst/>
          </a:prstGeom>
          <a:solidFill>
            <a:srgbClr val="003d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80920" y="1041480"/>
            <a:ext cx="66960" cy="65160"/>
          </a:xfrm>
          <a:prstGeom prst="ellipse">
            <a:avLst/>
          </a:prstGeom>
          <a:solidFill>
            <a:srgbClr val="003d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80920" y="1268280"/>
            <a:ext cx="66960" cy="66960"/>
          </a:xfrm>
          <a:prstGeom prst="ellipse">
            <a:avLst/>
          </a:prstGeom>
          <a:solidFill>
            <a:srgbClr val="003d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80920" y="1498680"/>
            <a:ext cx="66960" cy="65160"/>
          </a:xfrm>
          <a:prstGeom prst="ellipse">
            <a:avLst/>
          </a:prstGeom>
          <a:solidFill>
            <a:srgbClr val="003d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80920" y="1725480"/>
            <a:ext cx="66960" cy="65160"/>
          </a:xfrm>
          <a:prstGeom prst="ellipse">
            <a:avLst/>
          </a:prstGeom>
          <a:solidFill>
            <a:srgbClr val="003d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80920" y="1955880"/>
            <a:ext cx="66960" cy="63360"/>
          </a:xfrm>
          <a:prstGeom prst="ellipse">
            <a:avLst/>
          </a:prstGeom>
          <a:solidFill>
            <a:srgbClr val="003d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880920" y="2184480"/>
            <a:ext cx="66960" cy="65160"/>
          </a:xfrm>
          <a:prstGeom prst="ellipse">
            <a:avLst/>
          </a:prstGeom>
          <a:solidFill>
            <a:srgbClr val="003d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80920" y="812880"/>
            <a:ext cx="66960" cy="63360"/>
          </a:xfrm>
          <a:prstGeom prst="ellipse">
            <a:avLst/>
          </a:prstGeom>
          <a:solidFill>
            <a:srgbClr val="003d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4538520" y="6670800"/>
            <a:ext cx="4332600" cy="64800"/>
            <a:chOff x="4538520" y="6670800"/>
            <a:chExt cx="4332600" cy="64800"/>
          </a:xfrm>
        </p:grpSpPr>
        <p:sp>
          <p:nvSpPr>
            <p:cNvPr id="12" name=""/>
            <p:cNvSpPr/>
            <p:nvPr/>
          </p:nvSpPr>
          <p:spPr>
            <a:xfrm>
              <a:off x="4538520" y="6670800"/>
              <a:ext cx="6696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148360" y="6670800"/>
              <a:ext cx="6660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757840" y="6670800"/>
              <a:ext cx="6516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6367320" y="6670800"/>
              <a:ext cx="6516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977160" y="6670800"/>
              <a:ext cx="6660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586640" y="6670800"/>
              <a:ext cx="6660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196120" y="6670800"/>
              <a:ext cx="6696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805960" y="6670800"/>
              <a:ext cx="6516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" name=""/>
          <p:cNvGrpSpPr/>
          <p:nvPr/>
        </p:nvGrpSpPr>
        <p:grpSpPr>
          <a:xfrm>
            <a:off x="685800" y="1138320"/>
            <a:ext cx="8152920" cy="382320"/>
            <a:chOff x="685800" y="1138320"/>
            <a:chExt cx="8152920" cy="382320"/>
          </a:xfrm>
        </p:grpSpPr>
        <p:sp>
          <p:nvSpPr>
            <p:cNvPr id="21" name=""/>
            <p:cNvSpPr/>
            <p:nvPr/>
          </p:nvSpPr>
          <p:spPr>
            <a:xfrm>
              <a:off x="3115080" y="1138320"/>
              <a:ext cx="5723640" cy="382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00a05f"/>
                </a:gs>
                <a:gs pos="100000">
                  <a:srgbClr val="0052a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040560" y="1178280"/>
              <a:ext cx="5726880" cy="302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00d27d"/>
                </a:gs>
                <a:gs pos="100000">
                  <a:srgbClr val="0052a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2999880" y="1230480"/>
              <a:ext cx="5722920" cy="198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00ff99"/>
                </a:gs>
                <a:gs pos="100000">
                  <a:srgbClr val="0052a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685800" y="1310040"/>
              <a:ext cx="7918560" cy="3960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" name="PlaceHolder 2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Futura Md BT"/>
              </a:rPr>
              <a:t>Click to edit the title text format</a:t>
            </a:r>
            <a:endParaRPr b="1" lang="en-US" sz="4400" spc="-1" strike="noStrike">
              <a:solidFill>
                <a:srgbClr val="ffff66"/>
              </a:solidFill>
              <a:latin typeface="Futura Md BT"/>
            </a:endParaRPr>
          </a:p>
        </p:txBody>
      </p:sp>
      <p:sp>
        <p:nvSpPr>
          <p:cNvPr id="26" name=""/>
          <p:cNvSpPr/>
          <p:nvPr/>
        </p:nvSpPr>
        <p:spPr>
          <a:xfrm>
            <a:off x="331920" y="6407280"/>
            <a:ext cx="3859200" cy="44928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 type="sldNum" idx="1"/>
          </p:nvPr>
        </p:nvSpPr>
        <p:spPr>
          <a:xfrm>
            <a:off x="341280" y="6424560"/>
            <a:ext cx="404496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ffffff"/>
                </a:solidFill>
                <a:latin typeface="Arial"/>
              </a:rPr>
              <a:t>Sottoprogetto MEDUSE  -  Arpat, Firenze 24/02/200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8" name=""/>
          <p:cNvGraphicFramePr/>
          <p:nvPr/>
        </p:nvGraphicFramePr>
        <p:xfrm>
          <a:off x="8386920" y="6172200"/>
          <a:ext cx="757080" cy="473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6920" y="6172200"/>
                    <a:ext cx="75708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0" name="logoIFAC%20con%20fondo%20trasparente" descr=""/>
          <p:cNvPicPr/>
          <p:nvPr/>
        </p:nvPicPr>
        <p:blipFill>
          <a:blip r:embed="rId4"/>
          <a:stretch/>
        </p:blipFill>
        <p:spPr>
          <a:xfrm>
            <a:off x="22320" y="57240"/>
            <a:ext cx="947520" cy="538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" name=""/>
          <p:cNvGraphicFramePr/>
          <p:nvPr/>
        </p:nvGraphicFramePr>
        <p:xfrm>
          <a:off x="7432560" y="6218280"/>
          <a:ext cx="873360" cy="403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32560" y="6218280"/>
                    <a:ext cx="87336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" name=""/>
          <p:cNvGraphicFramePr/>
          <p:nvPr/>
        </p:nvGraphicFramePr>
        <p:xfrm>
          <a:off x="12600" y="614520"/>
          <a:ext cx="1014480" cy="287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600" y="614520"/>
                    <a:ext cx="1014480" cy="2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468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1035000" cy="6858000"/>
          </a:xfrm>
          <a:prstGeom prst="rect">
            <a:avLst/>
          </a:prstGeom>
          <a:gradFill rotWithShape="0">
            <a:gsLst>
              <a:gs pos="0">
                <a:srgbClr val="2dffaa"/>
              </a:gs>
              <a:gs pos="100000">
                <a:srgbClr val="0050a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80920" y="125280"/>
            <a:ext cx="66960" cy="66960"/>
          </a:xfrm>
          <a:prstGeom prst="ellipse">
            <a:avLst/>
          </a:prstGeom>
          <a:solidFill>
            <a:srgbClr val="003d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80920" y="582480"/>
            <a:ext cx="66960" cy="65160"/>
          </a:xfrm>
          <a:prstGeom prst="ellipse">
            <a:avLst/>
          </a:prstGeom>
          <a:solidFill>
            <a:srgbClr val="003d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80920" y="1041480"/>
            <a:ext cx="66960" cy="65160"/>
          </a:xfrm>
          <a:prstGeom prst="ellipse">
            <a:avLst/>
          </a:prstGeom>
          <a:solidFill>
            <a:srgbClr val="003d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80920" y="1268280"/>
            <a:ext cx="66960" cy="66960"/>
          </a:xfrm>
          <a:prstGeom prst="ellipse">
            <a:avLst/>
          </a:prstGeom>
          <a:solidFill>
            <a:srgbClr val="003d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80920" y="1498680"/>
            <a:ext cx="66960" cy="65160"/>
          </a:xfrm>
          <a:prstGeom prst="ellipse">
            <a:avLst/>
          </a:prstGeom>
          <a:solidFill>
            <a:srgbClr val="003d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80920" y="1725480"/>
            <a:ext cx="66960" cy="65160"/>
          </a:xfrm>
          <a:prstGeom prst="ellipse">
            <a:avLst/>
          </a:prstGeom>
          <a:solidFill>
            <a:srgbClr val="003d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80920" y="1955880"/>
            <a:ext cx="66960" cy="63360"/>
          </a:xfrm>
          <a:prstGeom prst="ellipse">
            <a:avLst/>
          </a:prstGeom>
          <a:solidFill>
            <a:srgbClr val="003d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80920" y="2184480"/>
            <a:ext cx="66960" cy="65160"/>
          </a:xfrm>
          <a:prstGeom prst="ellipse">
            <a:avLst/>
          </a:prstGeom>
          <a:solidFill>
            <a:srgbClr val="003d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80920" y="812880"/>
            <a:ext cx="66960" cy="63360"/>
          </a:xfrm>
          <a:prstGeom prst="ellipse">
            <a:avLst/>
          </a:prstGeom>
          <a:solidFill>
            <a:srgbClr val="003d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838080"/>
            <a:ext cx="8837640" cy="327672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240" y="1447920"/>
            <a:ext cx="70866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83" name=""/>
          <p:cNvSpPr/>
          <p:nvPr/>
        </p:nvSpPr>
        <p:spPr>
          <a:xfrm>
            <a:off x="331920" y="6407280"/>
            <a:ext cx="3859200" cy="44928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4538520" y="6670800"/>
            <a:ext cx="4332600" cy="64800"/>
            <a:chOff x="4538520" y="6670800"/>
            <a:chExt cx="4332600" cy="64800"/>
          </a:xfrm>
        </p:grpSpPr>
        <p:sp>
          <p:nvSpPr>
            <p:cNvPr id="85" name=""/>
            <p:cNvSpPr/>
            <p:nvPr/>
          </p:nvSpPr>
          <p:spPr>
            <a:xfrm>
              <a:off x="4538520" y="6670800"/>
              <a:ext cx="6696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48360" y="6670800"/>
              <a:ext cx="6660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57840" y="6670800"/>
              <a:ext cx="6516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367320" y="6670800"/>
              <a:ext cx="6516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977160" y="6670800"/>
              <a:ext cx="6660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586640" y="6670800"/>
              <a:ext cx="6660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196120" y="6670800"/>
              <a:ext cx="6696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805960" y="6670800"/>
              <a:ext cx="6516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3" name="PlaceHolder 2"/>
          <p:cNvSpPr>
            <a:spLocks noGrp="1"/>
          </p:cNvSpPr>
          <p:nvPr>
            <p:ph type="sldNum" idx="2"/>
          </p:nvPr>
        </p:nvSpPr>
        <p:spPr>
          <a:xfrm>
            <a:off x="341280" y="6424560"/>
            <a:ext cx="404496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ffffff"/>
                </a:solidFill>
                <a:latin typeface="Arial"/>
              </a:rPr>
              <a:t>Sottoprogetto MEDUSE – Arpat, Firenze 24/02/200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logoIFAC%20con%20fondo%20trasparente" descr=""/>
          <p:cNvPicPr/>
          <p:nvPr/>
        </p:nvPicPr>
        <p:blipFill>
          <a:blip r:embed="rId2"/>
          <a:stretch/>
        </p:blipFill>
        <p:spPr>
          <a:xfrm>
            <a:off x="22320" y="57240"/>
            <a:ext cx="947520" cy="538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5" name=""/>
          <p:cNvGraphicFramePr/>
          <p:nvPr/>
        </p:nvGraphicFramePr>
        <p:xfrm>
          <a:off x="8386920" y="6172200"/>
          <a:ext cx="757080" cy="473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6920" y="6172200"/>
                    <a:ext cx="75708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7432560" y="6218280"/>
          <a:ext cx="873360" cy="403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32560" y="6218280"/>
                    <a:ext cx="87336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12600" y="614520"/>
          <a:ext cx="1014480" cy="287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600" y="614520"/>
                    <a:ext cx="1014480" cy="2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468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560" y="1139760"/>
            <a:ext cx="88390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600" spc="-1" strike="noStrike">
                <a:solidFill>
                  <a:srgbClr val="ffff99"/>
                </a:solidFill>
                <a:latin typeface="Verdana"/>
              </a:rPr>
              <a:t>MEDUSE</a:t>
            </a:r>
            <a:endParaRPr b="1" lang="en-US" sz="96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082160" y="4184280"/>
            <a:ext cx="806148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99"/>
                </a:solidFill>
                <a:latin typeface="Lucida Sans Unicode"/>
              </a:rPr>
              <a:t>GIOVANNA CECCHI</a:t>
            </a:r>
            <a:r>
              <a:rPr b="0" lang="it-IT" sz="2800" spc="-1" strike="noStrike">
                <a:solidFill>
                  <a:srgbClr val="ffff99"/>
                </a:solidFill>
                <a:latin typeface="Lucida Sans Unicode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99"/>
                </a:solidFill>
                <a:latin typeface="Lucida Sans Unicode"/>
              </a:rPr>
              <a:t>Istituto di Fisica Applicata “N.Carrara” - CNR Polo Scientifico SestoFiorentino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110340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99"/>
                </a:solidFill>
                <a:latin typeface="Lucida Sans Unicode"/>
              </a:rPr>
              <a:t>Metodi e tecniche </a:t>
            </a:r>
            <a:br>
              <a:rPr sz="4000"/>
            </a:br>
            <a:r>
              <a:rPr b="1" lang="it-IT" sz="4000" spc="-1" strike="noStrike">
                <a:solidFill>
                  <a:srgbClr val="ffff99"/>
                </a:solidFill>
                <a:latin typeface="Lucida Sans Unicode"/>
              </a:rPr>
              <a:t>optoelettroniche avanzate </a:t>
            </a:r>
            <a:br>
              <a:rPr sz="4000"/>
            </a:br>
            <a:r>
              <a:rPr b="1" lang="it-IT" sz="4000" spc="-1" strike="noStrike">
                <a:solidFill>
                  <a:srgbClr val="ffff99"/>
                </a:solidFill>
                <a:latin typeface="Lucida Sans Unicode"/>
              </a:rPr>
              <a:t>per l’analisi ambientale</a:t>
            </a:r>
            <a:br>
              <a:rPr sz="4000"/>
            </a:br>
            <a:r>
              <a:rPr b="1" lang="it-IT" sz="4000" spc="-1" strike="noStrike">
                <a:solidFill>
                  <a:srgbClr val="ffff99"/>
                </a:solidFill>
                <a:latin typeface="Lucida Sans Unicode"/>
              </a:rPr>
              <a:t> in zone ad alta densità industrial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31322-D1CD-4955-9BED-ABD558B1A5B0}" type="slidenum">
              <a:t>1</a:t>
            </a:fld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468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990720" y="12949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>
              <a:lnSpc>
                <a:spcPct val="110000"/>
              </a:lnSpc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66"/>
                </a:solidFill>
                <a:latin typeface="Comic Sans MS"/>
              </a:rPr>
              <a:t>SOLIDI IN SOSPENSION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812880" indent="-257040">
              <a:lnSpc>
                <a:spcPct val="110000"/>
              </a:lnSpc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Comic Sans MS"/>
              </a:rPr>
              <a:t>Range: 0.1 - 100 FTU e accuratezza: +/- 5 mg/l 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lvl="1" marL="812880" indent="-257040">
              <a:lnSpc>
                <a:spcPct val="110000"/>
              </a:lnSpc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Comic Sans MS"/>
              </a:rPr>
              <a:t>Range: 10 - 5,000 mg/l in acque di scarico ( possibile misure sino a 10g/l ) 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10000"/>
              </a:lnSpc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66"/>
                </a:solidFill>
                <a:latin typeface="Comic Sans MS"/>
              </a:rPr>
              <a:t>TORBIDITA’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812880" indent="-257040">
              <a:lnSpc>
                <a:spcPct val="110000"/>
              </a:lnSpc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Comic Sans MS"/>
              </a:rPr>
              <a:t>Range 0.001 - 500 FNU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10000"/>
              </a:lnSpc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66"/>
                </a:solidFill>
                <a:latin typeface="Comic Sans MS"/>
              </a:rPr>
              <a:t>SOSTANZE ORGANICH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812880" indent="-257040">
              <a:lnSpc>
                <a:spcPct val="110000"/>
              </a:lnSpc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Comic Sans MS"/>
              </a:rPr>
              <a:t>TOCeq-DOCeq range:  0 - 500mg/l  e accuratezza: +/- 0.1 mg/l 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lvl="1" marL="812880" indent="-257040">
              <a:lnSpc>
                <a:spcPct val="110000"/>
              </a:lnSpc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Comic Sans MS"/>
              </a:rPr>
              <a:t>CODeq-BODeq range: 10 - 100 mg/l e accuratezza: +/- 5 mg/l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10000"/>
              </a:lnSpc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66"/>
                </a:solidFill>
                <a:latin typeface="Comic Sans MS"/>
              </a:rPr>
              <a:t>SINGOLE SOSTANZE ORGANICHE</a:t>
            </a:r>
            <a:br>
              <a:rPr sz="2000"/>
            </a:b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Benzene, Xylene,Toluene, Naftalene, Nitrobenzene, Fenolo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1" marL="812880" indent="-257040">
              <a:lnSpc>
                <a:spcPct val="110000"/>
              </a:lnSpc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Comic Sans MS"/>
              </a:rPr>
              <a:t>Range: 0.01 - 100 mg/l (benzene, toluene, xylene) accuratezza: +/- 0.05 mg/l (possibile sino a +/- 0.005)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10000"/>
              </a:lnSpc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66"/>
                </a:solidFill>
                <a:latin typeface="Comic Sans MS"/>
              </a:rPr>
              <a:t>Nitrati 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812880" indent="-257040">
              <a:lnSpc>
                <a:spcPct val="110000"/>
              </a:lnSpc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Comic Sans MS"/>
              </a:rPr>
              <a:t>Range: 0.1 - 100mg/l e Accuratezza: +/- 0.1 mg/l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10000"/>
              </a:lnSpc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66"/>
                </a:solidFill>
                <a:latin typeface="Comic Sans MS"/>
              </a:rPr>
              <a:t>H</a:t>
            </a:r>
            <a:r>
              <a:rPr b="1" lang="it-IT" sz="2000" spc="-1" strike="noStrike" baseline="-25000">
                <a:solidFill>
                  <a:srgbClr val="ffff66"/>
                </a:solidFill>
                <a:latin typeface="Comic Sans MS"/>
              </a:rPr>
              <a:t>2</a:t>
            </a:r>
            <a:r>
              <a:rPr b="1" lang="it-IT" sz="2000" spc="-1" strike="noStrike">
                <a:solidFill>
                  <a:srgbClr val="ffff66"/>
                </a:solidFill>
                <a:latin typeface="Comic Sans MS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812880" indent="-257040">
              <a:lnSpc>
                <a:spcPct val="110000"/>
              </a:lnSpc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Comic Sans MS"/>
              </a:rPr>
              <a:t>Range: 62 mg/l - 1g/l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10000"/>
              </a:lnSpc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66"/>
                </a:solidFill>
                <a:latin typeface="Comic Sans MS"/>
              </a:rPr>
              <a:t>Ione Solfuro di Idrogeno HS</a:t>
            </a:r>
            <a:r>
              <a:rPr b="1" lang="it-IT" sz="2000" spc="-1" strike="noStrike" baseline="30000">
                <a:solidFill>
                  <a:srgbClr val="ffff66"/>
                </a:solidFill>
                <a:latin typeface="Comic Sans MS"/>
              </a:rPr>
              <a:t>-</a:t>
            </a:r>
            <a:r>
              <a:rPr b="1" lang="it-IT" sz="2000" spc="-1" strike="noStrike">
                <a:solidFill>
                  <a:srgbClr val="ffff66"/>
                </a:solidFill>
                <a:latin typeface="Comic Sans MS"/>
              </a:rPr>
              <a:t> (non per H</a:t>
            </a:r>
            <a:r>
              <a:rPr b="1" lang="it-IT" sz="2000" spc="-1" strike="noStrike" baseline="-25000">
                <a:solidFill>
                  <a:srgbClr val="ffff66"/>
                </a:solidFill>
                <a:latin typeface="Comic Sans MS"/>
              </a:rPr>
              <a:t>2</a:t>
            </a:r>
            <a:r>
              <a:rPr b="1" lang="it-IT" sz="2000" spc="-1" strike="noStrike">
                <a:solidFill>
                  <a:srgbClr val="ffff66"/>
                </a:solidFill>
                <a:latin typeface="Comic Sans MS"/>
              </a:rPr>
              <a:t>S disciolto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812880" indent="-257040">
              <a:lnSpc>
                <a:spcPct val="110000"/>
              </a:lnSpc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Comic Sans MS"/>
              </a:rPr>
              <a:t>Range: 1 </a:t>
            </a:r>
            <a:r>
              <a:rPr b="1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it-IT" sz="1400" spc="-1" strike="noStrike">
                <a:solidFill>
                  <a:srgbClr val="ffffff"/>
                </a:solidFill>
                <a:latin typeface="Comic Sans MS"/>
              </a:rPr>
              <a:t>g/l - 10 mg/L (cella 6 cm) , 75 </a:t>
            </a:r>
            <a:r>
              <a:rPr b="1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it-IT" sz="1400" spc="-1" strike="noStrike">
                <a:solidFill>
                  <a:srgbClr val="ffffff"/>
                </a:solidFill>
                <a:latin typeface="Comic Sans MS"/>
              </a:rPr>
              <a:t>g/l - 62 mg/l (cella 0.1 cm)</a:t>
            </a:r>
            <a:br>
              <a:rPr sz="1400"/>
            </a:br>
            <a:r>
              <a:rPr b="1" lang="it-IT" sz="1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66"/>
                </a:solidFill>
                <a:latin typeface="Futura Md BT"/>
              </a:rPr>
              <a:t>ASSORBIMENTO</a:t>
            </a:r>
            <a:endParaRPr b="1" lang="en-US" sz="4400" spc="-1" strike="noStrike">
              <a:solidFill>
                <a:srgbClr val="ffff66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64BDC-FE2E-4C05-BC6F-4B3708B0F4C3}" type="slidenum">
              <a:t>10</a:t>
            </a:fld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468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990360" y="129492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10000"/>
              </a:lnSpc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Comic Sans MS"/>
                <a:ea typeface="Arial"/>
              </a:rPr>
              <a:t>CLOROFILLA</a:t>
            </a:r>
            <a:r>
              <a:rPr b="1" lang="it-IT" sz="2000" spc="-1" strike="noStrike">
                <a:solidFill>
                  <a:srgbClr val="ffff66"/>
                </a:solidFill>
                <a:latin typeface="Comic Sans MS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903240" indent="-285840">
              <a:lnSpc>
                <a:spcPct val="110000"/>
              </a:lnSpc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mic Sans MS"/>
                <a:ea typeface="Arial"/>
              </a:rPr>
              <a:t>Eccitazione a 470 nm rilevamento a 685 nm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1" marL="903240" indent="-285840">
              <a:lnSpc>
                <a:spcPct val="110000"/>
              </a:lnSpc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mic Sans MS"/>
                <a:ea typeface="Arial"/>
              </a:rPr>
              <a:t>Range: 0-10/0-100 </a:t>
            </a:r>
            <a:r>
              <a:rPr b="1" lang="it-IT" sz="16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it-IT" sz="1600" spc="-1" strike="noStrike">
                <a:solidFill>
                  <a:srgbClr val="ffffff"/>
                </a:solidFill>
                <a:latin typeface="Comic Sans MS"/>
                <a:ea typeface="Arial"/>
              </a:rPr>
              <a:t>g/l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10000"/>
              </a:lnSpc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Comic Sans MS"/>
                <a:ea typeface="Arial"/>
              </a:rPr>
              <a:t>CIANOBATTERI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903240" indent="-285840">
              <a:lnSpc>
                <a:spcPct val="110000"/>
              </a:lnSpc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mic Sans MS"/>
                <a:ea typeface="Arial"/>
              </a:rPr>
              <a:t>Eccitazione a 620 nm rilevamento a 655 nm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1" marL="903240" indent="-285840">
              <a:lnSpc>
                <a:spcPct val="110000"/>
              </a:lnSpc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mic Sans MS"/>
                <a:ea typeface="Arial"/>
              </a:rPr>
              <a:t>Range: 0-10/0-100 </a:t>
            </a:r>
            <a:r>
              <a:rPr b="1" lang="it-IT" sz="16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it-IT" sz="1600" spc="-1" strike="noStrike">
                <a:solidFill>
                  <a:srgbClr val="ffffff"/>
                </a:solidFill>
                <a:latin typeface="Comic Sans MS"/>
                <a:ea typeface="Arial"/>
              </a:rPr>
              <a:t>g/l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10000"/>
              </a:lnSpc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Comic Sans MS"/>
                <a:ea typeface="Arial"/>
              </a:rPr>
              <a:t>CDOM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903240" indent="-285840">
              <a:lnSpc>
                <a:spcPct val="110000"/>
              </a:lnSpc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mic Sans MS"/>
              </a:rPr>
              <a:t>Misura del COLORE delle sostanze organiche disciolte nelle acque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1" marL="903240" indent="-285840">
              <a:lnSpc>
                <a:spcPct val="110000"/>
              </a:lnSpc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mic Sans MS"/>
              </a:rPr>
              <a:t>Eccitazione a 370 nm rilevamento a 460 nm 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1" marL="903240" indent="-285840">
              <a:lnSpc>
                <a:spcPct val="110000"/>
              </a:lnSpc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mic Sans MS"/>
              </a:rPr>
              <a:t>Range: 0-200 </a:t>
            </a:r>
            <a:r>
              <a:rPr b="1" lang="it-IT" sz="16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it-IT" sz="1600" spc="-1" strike="noStrike">
                <a:solidFill>
                  <a:srgbClr val="ffffff"/>
                </a:solidFill>
                <a:latin typeface="Comic Sans MS"/>
                <a:ea typeface="Arial"/>
              </a:rPr>
              <a:t>g/l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10000"/>
              </a:lnSpc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Comic Sans MS"/>
              </a:rPr>
              <a:t>IDROCARBURI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903240" indent="-285840">
              <a:lnSpc>
                <a:spcPct val="110000"/>
              </a:lnSpc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mic Sans MS"/>
              </a:rPr>
              <a:t>Eccitazione a 254 nm rilevamento a 360 nm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1" marL="903240" indent="-285840">
              <a:lnSpc>
                <a:spcPct val="110000"/>
              </a:lnSpc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mic Sans MS"/>
              </a:rPr>
              <a:t>Range: 0-500/0-5.000 </a:t>
            </a:r>
            <a:r>
              <a:rPr b="1" lang="it-IT" sz="16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it-IT" sz="1600" spc="-1" strike="noStrike">
                <a:solidFill>
                  <a:srgbClr val="ffffff"/>
                </a:solidFill>
                <a:latin typeface="Comic Sans MS"/>
                <a:ea typeface="Arial"/>
              </a:rPr>
              <a:t>g/l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10000"/>
              </a:lnSpc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Comic Sans MS"/>
              </a:rPr>
              <a:t>OSSIGENO DISCIOLTO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903240" indent="-285840">
              <a:lnSpc>
                <a:spcPct val="110000"/>
              </a:lnSpc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ffff"/>
                </a:solidFill>
                <a:latin typeface="Comic Sans MS"/>
                <a:ea typeface="Arial"/>
              </a:rPr>
              <a:t>S</a:t>
            </a:r>
            <a:r>
              <a:rPr b="1" lang="it-IT" sz="1600" spc="-1" strike="noStrike">
                <a:solidFill>
                  <a:srgbClr val="ffffff"/>
                </a:solidFill>
                <a:latin typeface="Comic Sans MS"/>
                <a:ea typeface="Arial"/>
              </a:rPr>
              <a:t>ensore ottico registra la fluorescenza e la reazione di estinzione di un componente di Rutenio che è immobilizzato in una matrice colloidale in forma liquida (sol-gel).</a:t>
            </a:r>
            <a:r>
              <a:rPr b="1" lang="it-IT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1" marL="903240" indent="-285840">
              <a:lnSpc>
                <a:spcPct val="110000"/>
              </a:lnSpc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mic Sans MS"/>
              </a:rPr>
              <a:t>Range:</a:t>
            </a:r>
            <a:r>
              <a:rPr b="1" lang="it-IT" sz="1600" spc="-1" strike="noStrike">
                <a:solidFill>
                  <a:srgbClr val="ffffff"/>
                </a:solidFill>
                <a:latin typeface="Comic Sans MS"/>
                <a:ea typeface="Arial"/>
              </a:rPr>
              <a:t> 0.0 a 25.0 mg/l</a:t>
            </a:r>
            <a:r>
              <a:rPr b="1" lang="it-IT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66"/>
                </a:solidFill>
                <a:latin typeface="Futura Md BT"/>
              </a:rPr>
              <a:t>FLUORESCENZA</a:t>
            </a:r>
            <a:endParaRPr b="1" lang="en-US" sz="4400" spc="-1" strike="noStrike">
              <a:solidFill>
                <a:srgbClr val="ffff66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618F4-6A1A-421E-A4E2-DF9FFDA9DD59}" type="slidenum">
              <a:t>11</a:t>
            </a:fld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468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66"/>
                </a:solidFill>
                <a:latin typeface="Futura Md BT"/>
              </a:rPr>
              <a:t>COD Chemical Oxygen Demand </a:t>
            </a:r>
            <a:endParaRPr b="1" lang="en-US" sz="3600" spc="-1" strike="noStrike">
              <a:solidFill>
                <a:srgbClr val="ffff66"/>
              </a:solidFill>
              <a:latin typeface="Futura Md BT"/>
            </a:endParaRPr>
          </a:p>
        </p:txBody>
      </p:sp>
      <p:sp>
        <p:nvSpPr>
          <p:cNvPr id="259" name=""/>
          <p:cNvSpPr/>
          <p:nvPr/>
        </p:nvSpPr>
        <p:spPr>
          <a:xfrm>
            <a:off x="1143000" y="1600200"/>
            <a:ext cx="3581280" cy="3581280"/>
          </a:xfrm>
          <a:prstGeom prst="rect">
            <a:avLst/>
          </a:prstGeom>
          <a:noFill/>
          <a:ln w="3816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6840" indent="-968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mic Sans MS"/>
              </a:rPr>
              <a:t>METODO CLASS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96840" indent="-968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mic Sans MS"/>
              </a:rPr>
              <a:t>Ossidazione chimica delle sostanza carboniose mediante metodo al bicromato di potass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96840" indent="-968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mic Sans MS"/>
              </a:rPr>
              <a:t>Inefficace per prodotti volatili, non considera ammoniaca e interferenza per presenza di clorur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96840" indent="-968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mic Sans MS"/>
              </a:rPr>
              <a:t>Preliev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96840" indent="-968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mic Sans MS"/>
              </a:rPr>
              <a:t>Tempo misura &gt;3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96840" indent="-968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mic Sans MS"/>
              </a:rPr>
              <a:t>Uso di reagent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876920" y="1600200"/>
            <a:ext cx="4190760" cy="3581280"/>
          </a:xfrm>
          <a:prstGeom prst="rect">
            <a:avLst/>
          </a:prstGeom>
          <a:noFill/>
          <a:ln w="3816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6840" indent="-968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mic Sans MS"/>
              </a:rPr>
              <a:t>METODO OPTOELETTRONICO IN LINE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96840" indent="-968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mic Sans MS"/>
              </a:rPr>
              <a:t>Misure di assorbimento a lunghezze d’onda specifiche (es. 254nm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96840" indent="-968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mic Sans MS"/>
              </a:rPr>
              <a:t>Calibrazione tramite misurazioni effettuate con metodo class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96840" indent="-968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mic Sans MS"/>
              </a:rPr>
              <a:t>Misure in line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96840" indent="-968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mic Sans MS"/>
              </a:rPr>
              <a:t>Tempo misura ~ 10 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96840" indent="-968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mic Sans MS"/>
              </a:rPr>
              <a:t>Range: 0-20000 mg/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96840" indent="-968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mic Sans MS"/>
              </a:rPr>
              <a:t>No operatore, No reagenti, Basso costo strumentazio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143000" y="5334120"/>
            <a:ext cx="8001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ffffff"/>
                </a:solidFill>
                <a:latin typeface="Comic Sans MS"/>
                <a:ea typeface="Arial"/>
              </a:rPr>
              <a:t>Le molecole organiche insature ( come la cellulosa ed i suoi derivati) hanno un buon assorbimento della radiazione UV a 254 nm ed essa è facilmente correlabile e lineare con la misura di concentrazione ottenuta con l’analisi di laboratorio del COD.</a:t>
            </a:r>
            <a:r>
              <a:rPr b="0" i="1" lang="it-IT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4861080" y="1574640"/>
            <a:ext cx="4190760" cy="3657600"/>
            <a:chOff x="4861080" y="1574640"/>
            <a:chExt cx="4190760" cy="3657600"/>
          </a:xfrm>
        </p:grpSpPr>
        <p:sp>
          <p:nvSpPr>
            <p:cNvPr id="263" name=""/>
            <p:cNvSpPr/>
            <p:nvPr/>
          </p:nvSpPr>
          <p:spPr>
            <a:xfrm>
              <a:off x="4861080" y="1574640"/>
              <a:ext cx="4190760" cy="36576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013000" y="2641680"/>
              <a:ext cx="1447560" cy="1447560"/>
            </a:xfrm>
            <a:prstGeom prst="ellipse">
              <a:avLst/>
            </a:prstGeom>
            <a:solidFill>
              <a:srgbClr val="0099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7375320" y="2260440"/>
              <a:ext cx="685440" cy="2286000"/>
              <a:chOff x="7375320" y="2260440"/>
              <a:chExt cx="685440" cy="2286000"/>
            </a:xfrm>
          </p:grpSpPr>
          <p:sp>
            <p:nvSpPr>
              <p:cNvPr id="266" name=""/>
              <p:cNvSpPr/>
              <p:nvPr/>
            </p:nvSpPr>
            <p:spPr>
              <a:xfrm>
                <a:off x="7375320" y="2260440"/>
                <a:ext cx="685440" cy="2286000"/>
              </a:xfrm>
              <a:custGeom>
                <a:avLst/>
                <a:gdLst/>
                <a:ahLst/>
                <a:rect l="l" t="t" r="r" b="b"/>
                <a:pathLst>
                  <a:path w="432" h="1440">
                    <a:moveTo>
                      <a:pt x="0" y="1440"/>
                    </a:moveTo>
                    <a:lnTo>
                      <a:pt x="0" y="1008"/>
                    </a:lnTo>
                    <a:lnTo>
                      <a:pt x="96" y="912"/>
                    </a:lnTo>
                    <a:lnTo>
                      <a:pt x="96" y="480"/>
                    </a:lnTo>
                    <a:lnTo>
                      <a:pt x="0" y="384"/>
                    </a:lnTo>
                    <a:lnTo>
                      <a:pt x="0" y="0"/>
                    </a:lnTo>
                    <a:lnTo>
                      <a:pt x="432" y="0"/>
                    </a:lnTo>
                    <a:lnTo>
                      <a:pt x="432" y="384"/>
                    </a:lnTo>
                    <a:lnTo>
                      <a:pt x="336" y="480"/>
                    </a:lnTo>
                    <a:lnTo>
                      <a:pt x="336" y="912"/>
                    </a:lnTo>
                    <a:lnTo>
                      <a:pt x="432" y="1008"/>
                    </a:lnTo>
                    <a:lnTo>
                      <a:pt x="432" y="1440"/>
                    </a:lnTo>
                    <a:lnTo>
                      <a:pt x="0" y="14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f2f75"/>
                  </a:gs>
                  <a:gs pos="50000">
                    <a:srgbClr val="6666ff"/>
                  </a:gs>
                  <a:gs pos="100000">
                    <a:srgbClr val="2f2f75"/>
                  </a:gs>
                </a:gsLst>
                <a:lin ang="108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603560" y="3936600"/>
                <a:ext cx="228240" cy="457200"/>
              </a:xfrm>
              <a:prstGeom prst="upArrow">
                <a:avLst>
                  <a:gd name="adj1" fmla="val 50000"/>
                  <a:gd name="adj2" fmla="val 50079"/>
                </a:avLst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603560" y="2412720"/>
                <a:ext cx="228240" cy="457200"/>
              </a:xfrm>
              <a:prstGeom prst="upArrow">
                <a:avLst>
                  <a:gd name="adj1" fmla="val 50000"/>
                  <a:gd name="adj2" fmla="val 50079"/>
                </a:avLst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7965720" y="3070080"/>
              <a:ext cx="952200" cy="609840"/>
              <a:chOff x="7965720" y="3070080"/>
              <a:chExt cx="952200" cy="609840"/>
            </a:xfrm>
          </p:grpSpPr>
          <p:sp>
            <p:nvSpPr>
              <p:cNvPr id="270" name=""/>
              <p:cNvSpPr/>
              <p:nvPr/>
            </p:nvSpPr>
            <p:spPr>
              <a:xfrm>
                <a:off x="8727480" y="3252960"/>
                <a:ext cx="19044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8727480" y="3435840"/>
                <a:ext cx="19044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965720" y="3070080"/>
                <a:ext cx="634680" cy="609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6583320" y="4302000"/>
              <a:ext cx="609120" cy="533520"/>
              <a:chOff x="6583320" y="4302000"/>
              <a:chExt cx="609120" cy="533520"/>
            </a:xfrm>
          </p:grpSpPr>
          <p:sp>
            <p:nvSpPr>
              <p:cNvPr id="274" name=""/>
              <p:cNvSpPr/>
              <p:nvPr/>
            </p:nvSpPr>
            <p:spPr>
              <a:xfrm>
                <a:off x="6977880" y="4594320"/>
                <a:ext cx="0" cy="1598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795360" y="4594320"/>
                <a:ext cx="0" cy="1598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5400000">
                <a:off x="6621120" y="4264200"/>
                <a:ext cx="533520" cy="609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7" name=""/>
            <p:cNvSpPr/>
            <p:nvPr/>
          </p:nvSpPr>
          <p:spPr>
            <a:xfrm>
              <a:off x="5851440" y="3174840"/>
              <a:ext cx="1675800" cy="3812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50000">
                  <a:srgbClr val="0066cc"/>
                </a:gs>
                <a:gs pos="100000">
                  <a:srgbClr val="99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841800" y="3556080"/>
              <a:ext cx="152280" cy="53316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50000">
                  <a:srgbClr val="0066cc"/>
                </a:gs>
                <a:gs pos="100000">
                  <a:srgbClr val="99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908840" y="3251160"/>
              <a:ext cx="380520" cy="2286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50000">
                  <a:srgbClr val="0066cc"/>
                </a:gs>
                <a:gs pos="100000">
                  <a:srgbClr val="99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2790000">
              <a:off x="6446880" y="3264480"/>
              <a:ext cx="863640" cy="74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527600" y="3203640"/>
              <a:ext cx="380880" cy="303120"/>
            </a:xfrm>
            <a:prstGeom prst="rect">
              <a:avLst/>
            </a:prstGeom>
            <a:solidFill>
              <a:srgbClr val="0099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698800" y="2946240"/>
              <a:ext cx="152280" cy="76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66cc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5775120" y="2349360"/>
              <a:ext cx="0" cy="596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5775120" y="37080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089320" y="2031840"/>
              <a:ext cx="1371240" cy="307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ffff"/>
                  </a:solidFill>
                  <a:latin typeface="Arial"/>
                </a:rPr>
                <a:t>Lampada UV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994440" y="1803240"/>
              <a:ext cx="1447200" cy="307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ffff"/>
                  </a:solidFill>
                  <a:latin typeface="Arial"/>
                </a:rPr>
                <a:t>Cella Flussat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832520" y="4699080"/>
              <a:ext cx="1142640" cy="307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ffff"/>
                  </a:solidFill>
                  <a:latin typeface="Arial"/>
                </a:rPr>
                <a:t>Rivelator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6232320" y="4546080"/>
              <a:ext cx="30456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089320" y="4470480"/>
              <a:ext cx="1142640" cy="520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ffff"/>
                  </a:solidFill>
                  <a:latin typeface="Arial"/>
                </a:rPr>
                <a:t>Rivelatore Rif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 flipV="1">
              <a:off x="8594640" y="3860280"/>
              <a:ext cx="75600" cy="838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F8ACF-9B34-4259-9E43-39AAF2775F5A}" type="slidenum">
              <a:t>12</a:t>
            </a:fld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468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990720" y="696960"/>
            <a:ext cx="815328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99"/>
                </a:solidFill>
                <a:latin typeface="Tahoma"/>
              </a:rPr>
              <a:t>COD: Chemical Oxygen Demand</a:t>
            </a:r>
            <a:r>
              <a:rPr b="1" lang="it-IT" sz="4400" spc="-1" strike="noStrike">
                <a:solidFill>
                  <a:srgbClr val="ffff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066680" y="152388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Le molecole organiche insature presentano un buon assorbimento della radiazione UV a 254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 E’ possibile mettere in relazione lineare l’analisi di laboratorio del COD con questo parametro facilmente misurabile in linea.</a:t>
            </a: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066680" y="25909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’ possibile migliorare i risultati ottenuti prendendo in considerazione anche altri parametri misurabili in linea e relazioni più complesse di quella line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2209680" y="3429000"/>
            <a:ext cx="5867640" cy="2743200"/>
            <a:chOff x="2209680" y="3429000"/>
            <a:chExt cx="5867640" cy="2743200"/>
          </a:xfrm>
        </p:grpSpPr>
        <p:sp>
          <p:nvSpPr>
            <p:cNvPr id="295" name=""/>
            <p:cNvSpPr/>
            <p:nvPr/>
          </p:nvSpPr>
          <p:spPr>
            <a:xfrm>
              <a:off x="3429000" y="342900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RETI NEURAL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6" name=""/>
            <p:cNvGrpSpPr/>
            <p:nvPr/>
          </p:nvGrpSpPr>
          <p:grpSpPr>
            <a:xfrm>
              <a:off x="2209680" y="3962520"/>
              <a:ext cx="5867640" cy="2209680"/>
              <a:chOff x="2209680" y="3962520"/>
              <a:chExt cx="5867640" cy="2209680"/>
            </a:xfrm>
          </p:grpSpPr>
          <p:sp>
            <p:nvSpPr>
              <p:cNvPr id="297" name=""/>
              <p:cNvSpPr/>
              <p:nvPr/>
            </p:nvSpPr>
            <p:spPr>
              <a:xfrm>
                <a:off x="3276720" y="4191120"/>
                <a:ext cx="457200" cy="380880"/>
              </a:xfrm>
              <a:prstGeom prst="rect">
                <a:avLst/>
              </a:prstGeom>
              <a:solidFill>
                <a:srgbClr val="009999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276720" y="4876920"/>
                <a:ext cx="457200" cy="380880"/>
              </a:xfrm>
              <a:prstGeom prst="rect">
                <a:avLst/>
              </a:prstGeom>
              <a:solidFill>
                <a:srgbClr val="009999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800600" y="4876920"/>
                <a:ext cx="457200" cy="380880"/>
              </a:xfrm>
              <a:prstGeom prst="rect">
                <a:avLst/>
              </a:prstGeom>
              <a:solidFill>
                <a:srgbClr val="009999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800600" y="5791320"/>
                <a:ext cx="457200" cy="380880"/>
              </a:xfrm>
              <a:prstGeom prst="rect">
                <a:avLst/>
              </a:prstGeom>
              <a:solidFill>
                <a:srgbClr val="009999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800600" y="3962520"/>
                <a:ext cx="457200" cy="380880"/>
              </a:xfrm>
              <a:prstGeom prst="rect">
                <a:avLst/>
              </a:prstGeom>
              <a:solidFill>
                <a:srgbClr val="009999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248520" y="4876920"/>
                <a:ext cx="457200" cy="380880"/>
              </a:xfrm>
              <a:prstGeom prst="rect">
                <a:avLst/>
              </a:prstGeom>
              <a:solidFill>
                <a:srgbClr val="009999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03" name=""/>
              <p:cNvCxnSpPr>
                <a:stCxn id="297" idx="3"/>
                <a:endCxn id="301" idx="1"/>
              </p:cNvCxnSpPr>
              <p:nvPr/>
            </p:nvCxnSpPr>
            <p:spPr>
              <a:xfrm flipV="1">
                <a:off x="3733560" y="4152240"/>
                <a:ext cx="1067400" cy="229320"/>
              </a:xfrm>
              <a:prstGeom prst="straightConnector1">
                <a:avLst/>
              </a:prstGeom>
              <a:ln cap="sq" w="28440">
                <a:solidFill>
                  <a:srgbClr val="ffffff"/>
                </a:solidFill>
                <a:miter/>
              </a:ln>
            </p:spPr>
          </p:cxnSp>
          <p:cxnSp>
            <p:nvCxnSpPr>
              <p:cNvPr id="304" name=""/>
              <p:cNvCxnSpPr>
                <a:stCxn id="297" idx="3"/>
                <a:endCxn id="299" idx="1"/>
              </p:cNvCxnSpPr>
              <p:nvPr/>
            </p:nvCxnSpPr>
            <p:spPr>
              <a:xfrm>
                <a:off x="3733560" y="4381200"/>
                <a:ext cx="1067400" cy="686520"/>
              </a:xfrm>
              <a:prstGeom prst="straightConnector1">
                <a:avLst/>
              </a:prstGeom>
              <a:ln cap="sq" w="28440">
                <a:solidFill>
                  <a:srgbClr val="ffffff"/>
                </a:solidFill>
                <a:miter/>
              </a:ln>
            </p:spPr>
          </p:cxnSp>
          <p:cxnSp>
            <p:nvCxnSpPr>
              <p:cNvPr id="305" name=""/>
              <p:cNvCxnSpPr>
                <a:stCxn id="297" idx="3"/>
                <a:endCxn id="300" idx="1"/>
              </p:cNvCxnSpPr>
              <p:nvPr/>
            </p:nvCxnSpPr>
            <p:spPr>
              <a:xfrm>
                <a:off x="3733560" y="4381200"/>
                <a:ext cx="1067400" cy="1600920"/>
              </a:xfrm>
              <a:prstGeom prst="straightConnector1">
                <a:avLst/>
              </a:prstGeom>
              <a:ln cap="sq" w="28440">
                <a:solidFill>
                  <a:srgbClr val="ffffff"/>
                </a:solidFill>
                <a:miter/>
              </a:ln>
            </p:spPr>
          </p:cxnSp>
          <p:cxnSp>
            <p:nvCxnSpPr>
              <p:cNvPr id="306" name=""/>
              <p:cNvCxnSpPr>
                <a:stCxn id="298" idx="3"/>
                <a:endCxn id="301" idx="1"/>
              </p:cNvCxnSpPr>
              <p:nvPr/>
            </p:nvCxnSpPr>
            <p:spPr>
              <a:xfrm flipV="1">
                <a:off x="3733560" y="4152600"/>
                <a:ext cx="1067400" cy="915120"/>
              </a:xfrm>
              <a:prstGeom prst="straightConnector1">
                <a:avLst/>
              </a:prstGeom>
              <a:ln cap="sq" w="28440">
                <a:solidFill>
                  <a:srgbClr val="ffffff"/>
                </a:solidFill>
                <a:miter/>
              </a:ln>
            </p:spPr>
          </p:cxnSp>
          <p:cxnSp>
            <p:nvCxnSpPr>
              <p:cNvPr id="307" name=""/>
              <p:cNvCxnSpPr>
                <a:stCxn id="298" idx="3"/>
                <a:endCxn id="299" idx="1"/>
              </p:cNvCxnSpPr>
              <p:nvPr/>
            </p:nvCxnSpPr>
            <p:spPr>
              <a:xfrm>
                <a:off x="3733560" y="5067000"/>
                <a:ext cx="1067400" cy="1080"/>
              </a:xfrm>
              <a:prstGeom prst="straightConnector1">
                <a:avLst/>
              </a:prstGeom>
              <a:ln cap="sq" w="28440">
                <a:solidFill>
                  <a:srgbClr val="ffffff"/>
                </a:solidFill>
                <a:miter/>
              </a:ln>
            </p:spPr>
          </p:cxnSp>
          <p:cxnSp>
            <p:nvCxnSpPr>
              <p:cNvPr id="308" name=""/>
              <p:cNvCxnSpPr>
                <a:stCxn id="298" idx="3"/>
                <a:endCxn id="300" idx="1"/>
              </p:cNvCxnSpPr>
              <p:nvPr/>
            </p:nvCxnSpPr>
            <p:spPr>
              <a:xfrm>
                <a:off x="3733560" y="5067360"/>
                <a:ext cx="1067400" cy="915120"/>
              </a:xfrm>
              <a:prstGeom prst="straightConnector1">
                <a:avLst/>
              </a:prstGeom>
              <a:ln cap="sq" w="28440">
                <a:solidFill>
                  <a:srgbClr val="ffffff"/>
                </a:solidFill>
                <a:miter/>
              </a:ln>
            </p:spPr>
          </p:cxnSp>
          <p:cxnSp>
            <p:nvCxnSpPr>
              <p:cNvPr id="309" name=""/>
              <p:cNvCxnSpPr>
                <a:stCxn id="301" idx="3"/>
                <a:endCxn id="302" idx="1"/>
              </p:cNvCxnSpPr>
              <p:nvPr/>
            </p:nvCxnSpPr>
            <p:spPr>
              <a:xfrm>
                <a:off x="5257800" y="4152960"/>
                <a:ext cx="991440" cy="915120"/>
              </a:xfrm>
              <a:prstGeom prst="straightConnector1">
                <a:avLst/>
              </a:prstGeom>
              <a:ln cap="sq" w="28440">
                <a:solidFill>
                  <a:srgbClr val="ffffff"/>
                </a:solidFill>
                <a:miter/>
              </a:ln>
            </p:spPr>
          </p:cxnSp>
          <p:cxnSp>
            <p:nvCxnSpPr>
              <p:cNvPr id="310" name=""/>
              <p:cNvCxnSpPr>
                <a:stCxn id="299" idx="3"/>
                <a:endCxn id="302" idx="1"/>
              </p:cNvCxnSpPr>
              <p:nvPr/>
            </p:nvCxnSpPr>
            <p:spPr>
              <a:xfrm>
                <a:off x="5257800" y="5067000"/>
                <a:ext cx="991440" cy="1080"/>
              </a:xfrm>
              <a:prstGeom prst="straightConnector1">
                <a:avLst/>
              </a:prstGeom>
              <a:ln cap="sq" w="28440">
                <a:solidFill>
                  <a:srgbClr val="ffffff"/>
                </a:solidFill>
                <a:miter/>
              </a:ln>
            </p:spPr>
          </p:cxnSp>
          <p:cxnSp>
            <p:nvCxnSpPr>
              <p:cNvPr id="311" name=""/>
              <p:cNvCxnSpPr>
                <a:stCxn id="300" idx="3"/>
                <a:endCxn id="302" idx="1"/>
              </p:cNvCxnSpPr>
              <p:nvPr/>
            </p:nvCxnSpPr>
            <p:spPr>
              <a:xfrm flipV="1">
                <a:off x="5257800" y="5067000"/>
                <a:ext cx="991440" cy="915120"/>
              </a:xfrm>
              <a:prstGeom prst="straightConnector1">
                <a:avLst/>
              </a:prstGeom>
              <a:ln cap="sq" w="28440">
                <a:solidFill>
                  <a:srgbClr val="ffffff"/>
                </a:solidFill>
                <a:miter/>
              </a:ln>
            </p:spPr>
          </p:cxnSp>
          <p:sp>
            <p:nvSpPr>
              <p:cNvPr id="312" name=""/>
              <p:cNvSpPr/>
              <p:nvPr/>
            </p:nvSpPr>
            <p:spPr>
              <a:xfrm>
                <a:off x="7238880" y="4648320"/>
                <a:ext cx="838440" cy="838080"/>
              </a:xfrm>
              <a:prstGeom prst="ellipse">
                <a:avLst/>
              </a:prstGeom>
              <a:solidFill>
                <a:srgbClr val="ff9933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COD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13" name=""/>
              <p:cNvCxnSpPr>
                <a:stCxn id="302" idx="3"/>
                <a:endCxn id="312" idx="2"/>
              </p:cNvCxnSpPr>
              <p:nvPr/>
            </p:nvCxnSpPr>
            <p:spPr>
              <a:xfrm>
                <a:off x="6705360" y="5067000"/>
                <a:ext cx="533880" cy="1080"/>
              </a:xfrm>
              <a:prstGeom prst="straightConnector1">
                <a:avLst/>
              </a:prstGeom>
              <a:ln cap="sq" w="28440">
                <a:solidFill>
                  <a:srgbClr val="ffffff"/>
                </a:solidFill>
                <a:miter/>
              </a:ln>
            </p:spPr>
          </p:cxnSp>
          <p:sp>
            <p:nvSpPr>
              <p:cNvPr id="314" name=""/>
              <p:cNvSpPr/>
              <p:nvPr/>
            </p:nvSpPr>
            <p:spPr>
              <a:xfrm>
                <a:off x="2209680" y="4800600"/>
                <a:ext cx="533520" cy="533520"/>
              </a:xfrm>
              <a:prstGeom prst="ellipse">
                <a:avLst/>
              </a:prstGeom>
              <a:solidFill>
                <a:srgbClr val="ff9933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P</a:t>
                </a:r>
                <a:r>
                  <a:rPr b="0" lang="it-IT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15" name=""/>
              <p:cNvCxnSpPr>
                <a:stCxn id="297" idx="1"/>
                <a:endCxn id="316" idx="6"/>
              </p:cNvCxnSpPr>
              <p:nvPr/>
            </p:nvCxnSpPr>
            <p:spPr>
              <a:xfrm flipH="1">
                <a:off x="2742840" y="4381200"/>
                <a:ext cx="534240" cy="1080"/>
              </a:xfrm>
              <a:prstGeom prst="straightConnector1">
                <a:avLst/>
              </a:prstGeom>
              <a:ln cap="sq" w="28440">
                <a:solidFill>
                  <a:srgbClr val="ffffff"/>
                </a:solidFill>
                <a:miter/>
              </a:ln>
            </p:spPr>
          </p:cxnSp>
          <p:cxnSp>
            <p:nvCxnSpPr>
              <p:cNvPr id="317" name=""/>
              <p:cNvCxnSpPr>
                <a:stCxn id="298" idx="1"/>
                <a:endCxn id="314" idx="6"/>
              </p:cNvCxnSpPr>
              <p:nvPr/>
            </p:nvCxnSpPr>
            <p:spPr>
              <a:xfrm flipH="1">
                <a:off x="2742840" y="5067000"/>
                <a:ext cx="534240" cy="1080"/>
              </a:xfrm>
              <a:prstGeom prst="straightConnector1">
                <a:avLst/>
              </a:prstGeom>
              <a:ln cap="sq" w="28440">
                <a:solidFill>
                  <a:srgbClr val="ffffff"/>
                </a:solidFill>
                <a:miter/>
              </a:ln>
            </p:spPr>
          </p:cxnSp>
          <p:sp>
            <p:nvSpPr>
              <p:cNvPr id="318" name=""/>
              <p:cNvSpPr/>
              <p:nvPr/>
            </p:nvSpPr>
            <p:spPr>
              <a:xfrm>
                <a:off x="3276720" y="5562720"/>
                <a:ext cx="457200" cy="380880"/>
              </a:xfrm>
              <a:prstGeom prst="rect">
                <a:avLst/>
              </a:prstGeom>
              <a:solidFill>
                <a:srgbClr val="009999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19" name=""/>
              <p:cNvCxnSpPr>
                <a:stCxn id="318" idx="3"/>
                <a:endCxn id="301" idx="1"/>
              </p:cNvCxnSpPr>
              <p:nvPr/>
            </p:nvCxnSpPr>
            <p:spPr>
              <a:xfrm flipV="1">
                <a:off x="3733560" y="4152240"/>
                <a:ext cx="1067400" cy="1600920"/>
              </a:xfrm>
              <a:prstGeom prst="straightConnector1">
                <a:avLst/>
              </a:prstGeom>
              <a:ln cap="sq" w="28440">
                <a:solidFill>
                  <a:srgbClr val="ffffff"/>
                </a:solidFill>
                <a:miter/>
              </a:ln>
            </p:spPr>
          </p:cxnSp>
          <p:cxnSp>
            <p:nvCxnSpPr>
              <p:cNvPr id="320" name=""/>
              <p:cNvCxnSpPr>
                <a:stCxn id="318" idx="3"/>
                <a:endCxn id="299" idx="1"/>
              </p:cNvCxnSpPr>
              <p:nvPr/>
            </p:nvCxnSpPr>
            <p:spPr>
              <a:xfrm flipV="1">
                <a:off x="3733560" y="5066640"/>
                <a:ext cx="1067400" cy="686520"/>
              </a:xfrm>
              <a:prstGeom prst="straightConnector1">
                <a:avLst/>
              </a:prstGeom>
              <a:ln cap="sq" w="28440">
                <a:solidFill>
                  <a:srgbClr val="ffffff"/>
                </a:solidFill>
                <a:miter/>
              </a:ln>
            </p:spPr>
          </p:cxnSp>
          <p:cxnSp>
            <p:nvCxnSpPr>
              <p:cNvPr id="321" name=""/>
              <p:cNvCxnSpPr>
                <a:stCxn id="318" idx="3"/>
                <a:endCxn id="300" idx="1"/>
              </p:cNvCxnSpPr>
              <p:nvPr/>
            </p:nvCxnSpPr>
            <p:spPr>
              <a:xfrm>
                <a:off x="3733560" y="5752800"/>
                <a:ext cx="1067400" cy="229320"/>
              </a:xfrm>
              <a:prstGeom prst="straightConnector1">
                <a:avLst/>
              </a:prstGeom>
              <a:ln cap="sq" w="28440">
                <a:solidFill>
                  <a:srgbClr val="ffffff"/>
                </a:solidFill>
                <a:miter/>
              </a:ln>
            </p:spPr>
          </p:cxnSp>
          <p:sp>
            <p:nvSpPr>
              <p:cNvPr id="316" name=""/>
              <p:cNvSpPr/>
              <p:nvPr/>
            </p:nvSpPr>
            <p:spPr>
              <a:xfrm>
                <a:off x="2209680" y="4114800"/>
                <a:ext cx="533520" cy="533520"/>
              </a:xfrm>
              <a:prstGeom prst="ellipse">
                <a:avLst/>
              </a:prstGeom>
              <a:solidFill>
                <a:srgbClr val="ff9933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P</a:t>
                </a:r>
                <a:r>
                  <a:rPr b="0" lang="it-IT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209680" y="5486400"/>
                <a:ext cx="533520" cy="533520"/>
              </a:xfrm>
              <a:prstGeom prst="ellipse">
                <a:avLst/>
              </a:prstGeom>
              <a:solidFill>
                <a:srgbClr val="ff9933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P</a:t>
                </a:r>
                <a:r>
                  <a:rPr b="0" lang="it-IT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23" name=""/>
              <p:cNvCxnSpPr>
                <a:stCxn id="318" idx="1"/>
                <a:endCxn id="322" idx="6"/>
              </p:cNvCxnSpPr>
              <p:nvPr/>
            </p:nvCxnSpPr>
            <p:spPr>
              <a:xfrm flipH="1">
                <a:off x="2742840" y="5752800"/>
                <a:ext cx="534240" cy="1080"/>
              </a:xfrm>
              <a:prstGeom prst="straightConnector1">
                <a:avLst/>
              </a:prstGeom>
              <a:ln cap="sq" w="28440">
                <a:solidFill>
                  <a:srgbClr val="ffffff"/>
                </a:solidFill>
                <a:miter/>
              </a:ln>
            </p:spPr>
          </p:cxnSp>
          <p:sp>
            <p:nvSpPr>
              <p:cNvPr id="324" name=""/>
              <p:cNvSpPr/>
              <p:nvPr/>
            </p:nvSpPr>
            <p:spPr>
              <a:xfrm>
                <a:off x="3352680" y="4267080"/>
                <a:ext cx="304920" cy="228600"/>
              </a:xfrm>
              <a:custGeom>
                <a:avLst/>
                <a:gdLst/>
                <a:ahLst/>
                <a:rect l="l" t="t" r="r" b="b"/>
                <a:pathLst>
                  <a:path w="258" h="148">
                    <a:moveTo>
                      <a:pt x="0" y="140"/>
                    </a:moveTo>
                    <a:cubicBezTo>
                      <a:pt x="19" y="138"/>
                      <a:pt x="87" y="148"/>
                      <a:pt x="114" y="128"/>
                    </a:cubicBezTo>
                    <a:cubicBezTo>
                      <a:pt x="141" y="108"/>
                      <a:pt x="138" y="40"/>
                      <a:pt x="162" y="20"/>
                    </a:cubicBezTo>
                    <a:cubicBezTo>
                      <a:pt x="186" y="0"/>
                      <a:pt x="238" y="10"/>
                      <a:pt x="258" y="8"/>
                    </a:cubicBezTo>
                  </a:path>
                </a:pathLst>
              </a:custGeom>
              <a:noFill/>
              <a:ln cap="sq" w="2844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352680" y="4952880"/>
                <a:ext cx="304920" cy="228600"/>
              </a:xfrm>
              <a:custGeom>
                <a:avLst/>
                <a:gdLst/>
                <a:ahLst/>
                <a:rect l="l" t="t" r="r" b="b"/>
                <a:pathLst>
                  <a:path w="258" h="148">
                    <a:moveTo>
                      <a:pt x="0" y="140"/>
                    </a:moveTo>
                    <a:cubicBezTo>
                      <a:pt x="19" y="138"/>
                      <a:pt x="87" y="148"/>
                      <a:pt x="114" y="128"/>
                    </a:cubicBezTo>
                    <a:cubicBezTo>
                      <a:pt x="141" y="108"/>
                      <a:pt x="138" y="40"/>
                      <a:pt x="162" y="20"/>
                    </a:cubicBezTo>
                    <a:cubicBezTo>
                      <a:pt x="186" y="0"/>
                      <a:pt x="238" y="10"/>
                      <a:pt x="258" y="8"/>
                    </a:cubicBezTo>
                  </a:path>
                </a:pathLst>
              </a:custGeom>
              <a:noFill/>
              <a:ln cap="sq" w="2844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352680" y="5638680"/>
                <a:ext cx="304920" cy="228600"/>
              </a:xfrm>
              <a:custGeom>
                <a:avLst/>
                <a:gdLst/>
                <a:ahLst/>
                <a:rect l="l" t="t" r="r" b="b"/>
                <a:pathLst>
                  <a:path w="258" h="148">
                    <a:moveTo>
                      <a:pt x="0" y="140"/>
                    </a:moveTo>
                    <a:cubicBezTo>
                      <a:pt x="19" y="138"/>
                      <a:pt x="87" y="148"/>
                      <a:pt x="114" y="128"/>
                    </a:cubicBezTo>
                    <a:cubicBezTo>
                      <a:pt x="141" y="108"/>
                      <a:pt x="138" y="40"/>
                      <a:pt x="162" y="20"/>
                    </a:cubicBezTo>
                    <a:cubicBezTo>
                      <a:pt x="186" y="0"/>
                      <a:pt x="238" y="10"/>
                      <a:pt x="258" y="8"/>
                    </a:cubicBezTo>
                  </a:path>
                </a:pathLst>
              </a:custGeom>
              <a:noFill/>
              <a:ln cap="sq" w="2844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876920" y="4038480"/>
                <a:ext cx="304560" cy="228600"/>
              </a:xfrm>
              <a:custGeom>
                <a:avLst/>
                <a:gdLst/>
                <a:ahLst/>
                <a:rect l="l" t="t" r="r" b="b"/>
                <a:pathLst>
                  <a:path w="258" h="148">
                    <a:moveTo>
                      <a:pt x="0" y="140"/>
                    </a:moveTo>
                    <a:cubicBezTo>
                      <a:pt x="19" y="138"/>
                      <a:pt x="87" y="148"/>
                      <a:pt x="114" y="128"/>
                    </a:cubicBezTo>
                    <a:cubicBezTo>
                      <a:pt x="141" y="108"/>
                      <a:pt x="138" y="40"/>
                      <a:pt x="162" y="20"/>
                    </a:cubicBezTo>
                    <a:cubicBezTo>
                      <a:pt x="186" y="0"/>
                      <a:pt x="238" y="10"/>
                      <a:pt x="258" y="8"/>
                    </a:cubicBezTo>
                  </a:path>
                </a:pathLst>
              </a:custGeom>
              <a:noFill/>
              <a:ln cap="sq" w="2844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876920" y="4952880"/>
                <a:ext cx="304560" cy="228600"/>
              </a:xfrm>
              <a:custGeom>
                <a:avLst/>
                <a:gdLst/>
                <a:ahLst/>
                <a:rect l="l" t="t" r="r" b="b"/>
                <a:pathLst>
                  <a:path w="258" h="148">
                    <a:moveTo>
                      <a:pt x="0" y="140"/>
                    </a:moveTo>
                    <a:cubicBezTo>
                      <a:pt x="19" y="138"/>
                      <a:pt x="87" y="148"/>
                      <a:pt x="114" y="128"/>
                    </a:cubicBezTo>
                    <a:cubicBezTo>
                      <a:pt x="141" y="108"/>
                      <a:pt x="138" y="40"/>
                      <a:pt x="162" y="20"/>
                    </a:cubicBezTo>
                    <a:cubicBezTo>
                      <a:pt x="186" y="0"/>
                      <a:pt x="238" y="10"/>
                      <a:pt x="258" y="8"/>
                    </a:cubicBezTo>
                  </a:path>
                </a:pathLst>
              </a:custGeom>
              <a:noFill/>
              <a:ln cap="sq" w="2844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876920" y="5867280"/>
                <a:ext cx="304560" cy="228600"/>
              </a:xfrm>
              <a:custGeom>
                <a:avLst/>
                <a:gdLst/>
                <a:ahLst/>
                <a:rect l="l" t="t" r="r" b="b"/>
                <a:pathLst>
                  <a:path w="258" h="148">
                    <a:moveTo>
                      <a:pt x="0" y="140"/>
                    </a:moveTo>
                    <a:cubicBezTo>
                      <a:pt x="19" y="138"/>
                      <a:pt x="87" y="148"/>
                      <a:pt x="114" y="128"/>
                    </a:cubicBezTo>
                    <a:cubicBezTo>
                      <a:pt x="141" y="108"/>
                      <a:pt x="138" y="40"/>
                      <a:pt x="162" y="20"/>
                    </a:cubicBezTo>
                    <a:cubicBezTo>
                      <a:pt x="186" y="0"/>
                      <a:pt x="238" y="10"/>
                      <a:pt x="258" y="8"/>
                    </a:cubicBezTo>
                  </a:path>
                </a:pathLst>
              </a:custGeom>
              <a:noFill/>
              <a:ln cap="sq" w="2844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V="1">
                <a:off x="6324480" y="4952520"/>
                <a:ext cx="304920" cy="228600"/>
              </a:xfrm>
              <a:prstGeom prst="line">
                <a:avLst/>
              </a:prstGeom>
              <a:ln cap="sq"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C4B50-2977-4CDA-9807-58017076EC72}" type="slidenum">
              <a:t>13</a:t>
            </a:fld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468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990720" y="696960"/>
            <a:ext cx="815328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99"/>
                </a:solidFill>
                <a:latin typeface="Tahoma"/>
              </a:rPr>
              <a:t>COD: Relazione Lineare COD vs. Abs. 254</a:t>
            </a:r>
            <a:r>
              <a:rPr b="1" i="1" lang="it-IT" sz="2400" spc="-1" strike="noStrike">
                <a:solidFill>
                  <a:srgbClr val="ffff99"/>
                </a:solidFill>
                <a:latin typeface="Tahoma"/>
              </a:rPr>
              <a:t>nm</a:t>
            </a:r>
            <a:r>
              <a:rPr b="1" lang="it-IT" sz="3200" spc="-1" strike="noStrike">
                <a:solidFill>
                  <a:srgbClr val="ffff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990720" y="1981080"/>
            <a:ext cx="4495680" cy="3581640"/>
            <a:chOff x="990720" y="1981080"/>
            <a:chExt cx="4495680" cy="3581640"/>
          </a:xfrm>
        </p:grpSpPr>
        <p:sp>
          <p:nvSpPr>
            <p:cNvPr id="333" name=""/>
            <p:cNvSpPr/>
            <p:nvPr/>
          </p:nvSpPr>
          <p:spPr>
            <a:xfrm>
              <a:off x="1148040" y="1981080"/>
              <a:ext cx="4248720" cy="3566160"/>
            </a:xfrm>
            <a:prstGeom prst="rect">
              <a:avLst/>
            </a:prstGeom>
            <a:solidFill>
              <a:srgbClr val="cbcbcb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34" name="" descr=""/>
            <p:cNvPicPr/>
            <p:nvPr/>
          </p:nvPicPr>
          <p:blipFill>
            <a:blip r:embed="rId1"/>
            <a:stretch/>
          </p:blipFill>
          <p:spPr>
            <a:xfrm>
              <a:off x="990720" y="1981080"/>
              <a:ext cx="4495680" cy="358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5" name=""/>
          <p:cNvSpPr/>
          <p:nvPr/>
        </p:nvSpPr>
        <p:spPr>
          <a:xfrm>
            <a:off x="5638680" y="2819520"/>
            <a:ext cx="32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La semplice relazione lineare permette una stima del COD nel range 0-100 mg/l con una incertezza di 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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10 mg/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667480" y="5716440"/>
            <a:ext cx="32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ffff00"/>
                </a:solidFill>
                <a:latin typeface="Times New Roman"/>
              </a:rPr>
              <a:t>In collaborazione con Idra S.C.C.A</a:t>
            </a:r>
            <a:r>
              <a:rPr b="0" i="1" lang="it-IT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D24B7-EF9A-4FB3-9B1E-8B0E45FC1B8B}" type="slidenum">
              <a:t>14</a:t>
            </a:fld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468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990720" y="696960"/>
            <a:ext cx="815328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99"/>
                </a:solidFill>
                <a:latin typeface="Tahoma"/>
              </a:rPr>
              <a:t>COD: Reti Neurali per stima del C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143000" y="1333440"/>
            <a:ext cx="80010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5 parametri ottici utilizzati misurati in line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9933"/>
                </a:solidFill>
                <a:latin typeface="Times New Roman"/>
              </a:rPr>
              <a:t>Abs. 420</a:t>
            </a:r>
            <a:r>
              <a:rPr b="0" i="1" lang="it-IT" sz="2000" spc="-1" strike="noStrike">
                <a:solidFill>
                  <a:srgbClr val="ff9933"/>
                </a:solidFill>
                <a:latin typeface="Times New Roman"/>
              </a:rPr>
              <a:t>nm</a:t>
            </a:r>
            <a:r>
              <a:rPr b="0" lang="it-IT" sz="2000" spc="-1" strike="noStrike">
                <a:solidFill>
                  <a:srgbClr val="ff9933"/>
                </a:solidFill>
                <a:latin typeface="Times New Roman"/>
              </a:rPr>
              <a:t>, Abs. 220</a:t>
            </a:r>
            <a:r>
              <a:rPr b="0" i="1" lang="it-IT" sz="2000" spc="-1" strike="noStrike">
                <a:solidFill>
                  <a:srgbClr val="ff9933"/>
                </a:solidFill>
                <a:latin typeface="Times New Roman"/>
              </a:rPr>
              <a:t>nm</a:t>
            </a:r>
            <a:r>
              <a:rPr b="0" lang="it-IT" sz="2000" spc="-1" strike="noStrike">
                <a:solidFill>
                  <a:srgbClr val="ff9933"/>
                </a:solidFill>
                <a:latin typeface="Times New Roman"/>
              </a:rPr>
              <a:t>, Abs. 254</a:t>
            </a:r>
            <a:r>
              <a:rPr b="0" i="1" lang="it-IT" sz="2000" spc="-1" strike="noStrike">
                <a:solidFill>
                  <a:srgbClr val="ff9933"/>
                </a:solidFill>
                <a:latin typeface="Times New Roman"/>
              </a:rPr>
              <a:t>nm</a:t>
            </a:r>
            <a:r>
              <a:rPr b="0" lang="it-IT" sz="2000" spc="-1" strike="noStrike">
                <a:solidFill>
                  <a:srgbClr val="ff9933"/>
                </a:solidFill>
                <a:latin typeface="Times New Roman"/>
              </a:rPr>
              <a:t>, Abs.  275</a:t>
            </a:r>
            <a:r>
              <a:rPr b="0" i="1" lang="it-IT" sz="2000" spc="-1" strike="noStrike">
                <a:solidFill>
                  <a:srgbClr val="ff9933"/>
                </a:solidFill>
                <a:latin typeface="Times New Roman"/>
              </a:rPr>
              <a:t>nm</a:t>
            </a:r>
            <a:r>
              <a:rPr b="0" lang="it-IT" sz="2000" spc="-1" strike="noStrike">
                <a:solidFill>
                  <a:srgbClr val="ff9933"/>
                </a:solidFill>
                <a:latin typeface="Times New Roman"/>
              </a:rPr>
              <a:t>, Torbidit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Rete neurale utilizzat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9933"/>
                </a:solidFill>
                <a:latin typeface="Times New Roman"/>
              </a:rPr>
              <a:t>BackPropagation (5,20,1), Early Stopping, Campioni Disponibili: 77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457200" y="2984400"/>
            <a:ext cx="4548240" cy="3429000"/>
            <a:chOff x="457200" y="2984400"/>
            <a:chExt cx="4548240" cy="3429000"/>
          </a:xfrm>
        </p:grpSpPr>
        <p:sp>
          <p:nvSpPr>
            <p:cNvPr id="340" name=""/>
            <p:cNvSpPr/>
            <p:nvPr/>
          </p:nvSpPr>
          <p:spPr>
            <a:xfrm>
              <a:off x="609840" y="2984400"/>
              <a:ext cx="4267080" cy="3429000"/>
            </a:xfrm>
            <a:prstGeom prst="rect">
              <a:avLst/>
            </a:prstGeom>
            <a:solidFill>
              <a:srgbClr val="cbcbcb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41" name="" descr=""/>
            <p:cNvPicPr/>
            <p:nvPr/>
          </p:nvPicPr>
          <p:blipFill>
            <a:blip r:embed="rId1"/>
            <a:stretch/>
          </p:blipFill>
          <p:spPr>
            <a:xfrm>
              <a:off x="457200" y="2984400"/>
              <a:ext cx="4548240" cy="3411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2" name=""/>
          <p:cNvSpPr/>
          <p:nvPr/>
        </p:nvSpPr>
        <p:spPr>
          <a:xfrm>
            <a:off x="4952880" y="3314880"/>
            <a:ext cx="4038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33"/>
                </a:solidFill>
                <a:latin typeface="Times New Roman"/>
              </a:rPr>
              <a:t>L’utilizzo combinato di 5 parametri e delle reti neurali permette di stimare il COD nel range 0-100 mg/l con una incertezza di soli </a:t>
            </a:r>
            <a:r>
              <a:rPr b="0" lang="it-IT" sz="2400" spc="-1" strike="noStrike">
                <a:solidFill>
                  <a:srgbClr val="ff9933"/>
                </a:solidFill>
                <a:latin typeface="Symbol"/>
                <a:ea typeface="Symbol"/>
              </a:rPr>
              <a:t></a:t>
            </a:r>
            <a:r>
              <a:rPr b="0" lang="it-IT" sz="2400" spc="-1" strike="noStrike">
                <a:solidFill>
                  <a:srgbClr val="ff9933"/>
                </a:solidFill>
                <a:latin typeface="Times New Roman"/>
              </a:rPr>
              <a:t>6.5 mg/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522760" y="579420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ffff00"/>
                </a:solidFill>
                <a:latin typeface="Times New Roman"/>
              </a:rPr>
              <a:t>In collaborazione con Idra S.C.C.A</a:t>
            </a:r>
            <a:r>
              <a:rPr b="0" i="1" lang="it-IT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A2880-097B-4657-A5C4-E4B8EEF790CA}" type="slidenum">
              <a:t>15</a:t>
            </a:fld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468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43000" y="2376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66"/>
                </a:solidFill>
                <a:latin typeface="Futura Md BT"/>
              </a:rPr>
              <a:t>FLIDAR-P </a:t>
            </a:r>
            <a:br>
              <a:rPr sz="4800"/>
            </a:br>
            <a:r>
              <a:rPr b="1" lang="en-GB" sz="4800" spc="-1" strike="noStrike">
                <a:solidFill>
                  <a:srgbClr val="ffff66"/>
                </a:solidFill>
                <a:latin typeface="Futura Md BT"/>
              </a:rPr>
              <a:t>caratteristiche principali</a:t>
            </a:r>
            <a:endParaRPr b="1" lang="en-US" sz="4800" spc="-1" strike="noStrike">
              <a:solidFill>
                <a:srgbClr val="ffff66"/>
              </a:solidFill>
              <a:latin typeface="Futura Md B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440240" y="2009880"/>
            <a:ext cx="4703760" cy="416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96840" indent="-96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Lungh.d’onda laser: 355 nm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96840" indent="-96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energia laser : 8 mJ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96840" indent="-96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freq.ripetiz. laser: 15 Hz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96840" indent="-96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Telescopio: F/3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96840" indent="-96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Risoluz. spettrale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6 nm / 2.8 nm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96840" indent="-96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Rivelatore: PMT linear array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96840" indent="-96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Numero di canali : 32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96840" indent="-96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Finestra spettrale: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185-750nm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96840" indent="-96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Risoluzione temp.: 1 n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96840" indent="-96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Dinamica: 9 bi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96840" indent="-96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Consumo: 1 kW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19080" y="2016000"/>
          <a:ext cx="4327560" cy="396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" y="2016000"/>
                    <a:ext cx="4327560" cy="3967200"/>
                  </a:xfrm>
                  <a:prstGeom prst="rect">
                    <a:avLst/>
                  </a:prstGeom>
                  <a:ln w="19080">
                    <a:solidFill>
                      <a:srgbClr val="330099"/>
                    </a:solidFill>
                    <a:miter/>
                  </a:ln>
                  <a:effectLst>
                    <a:outerShdw dist="143570" dir="2700000" blurRad="0" rotWithShape="0">
                      <a:srgbClr val="5f91d3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F7B72-1650-402D-91A0-F9456D5435A3}" type="slidenum">
              <a:t>16</a:t>
            </a:fld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468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 rot="5400000">
            <a:off x="2516760" y="2796120"/>
            <a:ext cx="182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vert="eaVert" rot="5400000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192320" y="1579680"/>
            <a:ext cx="772632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10000"/>
              </a:lnSpc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</a:rPr>
              <a:t>Disponibilità di colonne d’acqua di 25-m (piscin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lnSpc>
                <a:spcPct val="110000"/>
              </a:lnSpc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</a:rPr>
              <a:t>Misure su colonne d’acqua di varia lunghezz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lnSpc>
                <a:spcPct val="110000"/>
              </a:lnSpc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</a:rPr>
              <a:t>Misura del coefficiente di attenuazione totale delle ac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127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66"/>
                </a:solidFill>
                <a:latin typeface="Futura Md BT"/>
              </a:rPr>
              <a:t>Validazione del FLIDAR-P:</a:t>
            </a:r>
            <a:r>
              <a:rPr b="1" lang="en-GB" sz="4000" spc="-1" strike="noStrike">
                <a:solidFill>
                  <a:srgbClr val="ffff66"/>
                </a:solidFill>
                <a:latin typeface="Futura Md BT"/>
              </a:rPr>
              <a:t> </a:t>
            </a:r>
            <a:r>
              <a:rPr b="1" lang="it-IT" sz="4000" spc="-1" strike="noStrike">
                <a:solidFill>
                  <a:srgbClr val="ffff66"/>
                </a:solidFill>
                <a:latin typeface="Futura Md BT"/>
              </a:rPr>
              <a:t>misure all’aperto</a:t>
            </a:r>
            <a:r>
              <a:rPr b="1" lang="en-GB" sz="4000" spc="-1" strike="noStrike">
                <a:solidFill>
                  <a:srgbClr val="ffff66"/>
                </a:solidFill>
                <a:latin typeface="Futura Md BT"/>
              </a:rPr>
              <a:t> </a:t>
            </a:r>
            <a:endParaRPr b="1" lang="en-US" sz="4000" spc="-1" strike="noStrike">
              <a:solidFill>
                <a:srgbClr val="ffff66"/>
              </a:solidFill>
              <a:latin typeface="Futura Md BT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1476360" y="3463920"/>
            <a:ext cx="6802560" cy="2776320"/>
            <a:chOff x="1476360" y="3463920"/>
            <a:chExt cx="6802560" cy="2776320"/>
          </a:xfrm>
        </p:grpSpPr>
        <p:graphicFrame>
          <p:nvGraphicFramePr>
            <p:cNvPr id="352" name=""/>
            <p:cNvGraphicFramePr/>
            <p:nvPr/>
          </p:nvGraphicFramePr>
          <p:xfrm>
            <a:off x="1476360" y="3463920"/>
            <a:ext cx="4191120" cy="2776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5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76360" y="3463920"/>
                      <a:ext cx="4191120" cy="2776320"/>
                    </a:xfrm>
                    <a:prstGeom prst="rect">
                      <a:avLst/>
                    </a:prstGeom>
                    <a:ln w="12600">
                      <a:solidFill>
                        <a:srgbClr val="6600cc"/>
                      </a:solidFill>
                      <a:miter/>
                    </a:ln>
                    <a:effectLst>
                      <a:outerShdw dist="107932" dir="2700000" blurRad="0" rotWithShape="0">
                        <a:srgbClr val="5f91d3"/>
                      </a:outerShdw>
                    </a:effectLst>
                  </p:spPr>
                </p:pic>
              </p:oleObj>
            </a:graphicData>
          </a:graphic>
        </p:graphicFrame>
        <p:graphicFrame>
          <p:nvGraphicFramePr>
            <p:cNvPr id="354" name=""/>
            <p:cNvGraphicFramePr/>
            <p:nvPr/>
          </p:nvGraphicFramePr>
          <p:xfrm>
            <a:off x="6048360" y="3463920"/>
            <a:ext cx="2230560" cy="2765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5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048360" y="3463920"/>
                      <a:ext cx="2230560" cy="2765520"/>
                    </a:xfrm>
                    <a:prstGeom prst="rect">
                      <a:avLst/>
                    </a:prstGeom>
                    <a:ln w="12600">
                      <a:solidFill>
                        <a:srgbClr val="6600cc"/>
                      </a:solidFill>
                      <a:miter/>
                    </a:ln>
                    <a:effectLst>
                      <a:outerShdw dist="107932" dir="2700000" blurRad="0" rotWithShape="0">
                        <a:srgbClr val="5f91d3"/>
                      </a:outerShdw>
                    </a:effectLst>
                  </p:spPr>
                </p:pic>
              </p:oleObj>
            </a:graphicData>
          </a:graphic>
        </p:graphicFrame>
      </p:grpSp>
      <p:grpSp>
        <p:nvGrpSpPr>
          <p:cNvPr id="356" name=""/>
          <p:cNvGrpSpPr/>
          <p:nvPr/>
        </p:nvGrpSpPr>
        <p:grpSpPr>
          <a:xfrm>
            <a:off x="1473120" y="1528920"/>
            <a:ext cx="6929280" cy="4677840"/>
            <a:chOff x="1473120" y="1528920"/>
            <a:chExt cx="6929280" cy="4677840"/>
          </a:xfrm>
        </p:grpSpPr>
        <p:sp>
          <p:nvSpPr>
            <p:cNvPr id="357" name=""/>
            <p:cNvSpPr/>
            <p:nvPr/>
          </p:nvSpPr>
          <p:spPr>
            <a:xfrm>
              <a:off x="1473120" y="1528920"/>
              <a:ext cx="6929280" cy="4674600"/>
            </a:xfrm>
            <a:prstGeom prst="rect">
              <a:avLst/>
            </a:prstGeom>
            <a:noFill/>
            <a:ln w="19080">
              <a:solidFill>
                <a:srgbClr val="f7fb5f"/>
              </a:solidFill>
              <a:miter/>
            </a:ln>
            <a:effectLst>
              <a:outerShdw dist="107932" dir="2700000" blurRad="0" rotWithShape="0">
                <a:srgbClr val="5f91d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527120" y="15289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473120" y="1528920"/>
              <a:ext cx="6925680" cy="467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0099"/>
              </a:solidFill>
              <a:miter/>
            </a:ln>
            <a:effectLst>
              <a:outerShdw dist="107932" dir="2700000" blurRad="0" rotWithShape="0">
                <a:srgbClr val="66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541960" y="1872360"/>
              <a:ext cx="5349600" cy="3788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541960" y="1872360"/>
              <a:ext cx="5349600" cy="3790080"/>
            </a:xfrm>
            <a:prstGeom prst="rect">
              <a:avLst/>
            </a:prstGeom>
            <a:noFill/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2541960" y="1872000"/>
              <a:ext cx="3600" cy="378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3072960" y="1872000"/>
              <a:ext cx="1440" cy="378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3601800" y="1872000"/>
              <a:ext cx="3600" cy="378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4145040" y="1872000"/>
              <a:ext cx="3600" cy="378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4674240" y="1872000"/>
              <a:ext cx="5400" cy="378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5217840" y="1872000"/>
              <a:ext cx="1440" cy="378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5746680" y="1872000"/>
              <a:ext cx="0" cy="378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6275520" y="1872000"/>
              <a:ext cx="1800" cy="378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6817320" y="1872000"/>
              <a:ext cx="1800" cy="378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7346520" y="1872000"/>
              <a:ext cx="3240" cy="378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541960" y="4906080"/>
              <a:ext cx="534636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541960" y="4152600"/>
              <a:ext cx="534636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541960" y="3388320"/>
              <a:ext cx="534636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541960" y="2636640"/>
              <a:ext cx="534636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541960" y="1872360"/>
              <a:ext cx="53463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541960" y="1872360"/>
              <a:ext cx="53463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2541960" y="1872000"/>
              <a:ext cx="3600" cy="378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545560" y="5661000"/>
              <a:ext cx="53496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2541960" y="1872000"/>
              <a:ext cx="3600" cy="378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2541960" y="5613840"/>
              <a:ext cx="3600" cy="43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541960" y="1872360"/>
              <a:ext cx="3600" cy="56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453040" y="5701320"/>
              <a:ext cx="27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507400" y="5708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707920" y="57128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3072960" y="5613840"/>
              <a:ext cx="1440" cy="43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072960" y="1872360"/>
              <a:ext cx="1440" cy="56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985480" y="5701320"/>
              <a:ext cx="272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038760" y="5708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240720" y="57128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3601800" y="5613840"/>
              <a:ext cx="3600" cy="43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601800" y="1872360"/>
              <a:ext cx="3600" cy="56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514680" y="5701320"/>
              <a:ext cx="273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570840" y="5708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767760" y="57128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4145040" y="5613840"/>
              <a:ext cx="3600" cy="43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145040" y="1872360"/>
              <a:ext cx="3600" cy="56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056480" y="5701320"/>
              <a:ext cx="273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112640" y="5708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316760" y="57128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4674240" y="5613840"/>
              <a:ext cx="5400" cy="43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674240" y="1872360"/>
              <a:ext cx="5400" cy="56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585320" y="5701320"/>
              <a:ext cx="275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644360" y="5708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838400" y="57128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5217840" y="5613840"/>
              <a:ext cx="1440" cy="43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217840" y="1872360"/>
              <a:ext cx="1440" cy="56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128920" y="5701320"/>
              <a:ext cx="27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185080" y="5708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384160" y="57128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5746680" y="5613840"/>
              <a:ext cx="0" cy="43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46680" y="1872360"/>
              <a:ext cx="0" cy="56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659920" y="5701320"/>
              <a:ext cx="27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720" y="5708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909040" y="57128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6275520" y="5613840"/>
              <a:ext cx="1800" cy="43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275520" y="1872360"/>
              <a:ext cx="1800" cy="56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190920" y="5701320"/>
              <a:ext cx="271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245640" y="5708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441480" y="57128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>
              <a:off x="6817320" y="5613840"/>
              <a:ext cx="1800" cy="43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817320" y="1872360"/>
              <a:ext cx="1800" cy="56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730560" y="5701320"/>
              <a:ext cx="27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786360" y="5708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983280" y="57128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7346520" y="5613840"/>
              <a:ext cx="3240" cy="43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346520" y="1872360"/>
              <a:ext cx="3240" cy="56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261560" y="5701320"/>
              <a:ext cx="273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320240" y="5708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514280" y="57128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7888320" y="5613840"/>
              <a:ext cx="3240" cy="43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888320" y="1872360"/>
              <a:ext cx="3240" cy="56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804800" y="5701320"/>
              <a:ext cx="270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859880" y="5708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2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057880" y="57128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541960" y="5657760"/>
              <a:ext cx="4968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7829280" y="5657760"/>
              <a:ext cx="5904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003760" y="5440680"/>
              <a:ext cx="558360" cy="34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985760" y="544392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0.11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519280" y="54504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541960" y="4906080"/>
              <a:ext cx="4968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7829280" y="4906080"/>
              <a:ext cx="5904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003760" y="4739400"/>
              <a:ext cx="545400" cy="29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985760" y="474084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0.12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519280" y="4748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541960" y="4152600"/>
              <a:ext cx="4968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7829280" y="4152600"/>
              <a:ext cx="5904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003760" y="4063680"/>
              <a:ext cx="527040" cy="20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5760" y="406728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0.12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519280" y="40752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541960" y="3388320"/>
              <a:ext cx="496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7829280" y="3388320"/>
              <a:ext cx="590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003760" y="3312360"/>
              <a:ext cx="57672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985760" y="331236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0.13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519280" y="33156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541960" y="2636640"/>
              <a:ext cx="4968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7829280" y="2636640"/>
              <a:ext cx="5904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003760" y="2575080"/>
              <a:ext cx="573120" cy="18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5760" y="257184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0.13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519280" y="25768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541960" y="1872360"/>
              <a:ext cx="496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7829280" y="1872360"/>
              <a:ext cx="590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003760" y="1838160"/>
              <a:ext cx="61560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985760" y="184284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0.14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519280" y="184752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541960" y="1872360"/>
              <a:ext cx="53463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2541960" y="1872000"/>
              <a:ext cx="3600" cy="378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072960" y="2481120"/>
              <a:ext cx="1440" cy="3060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020760" y="2481120"/>
              <a:ext cx="88560" cy="288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020760" y="2787120"/>
              <a:ext cx="88560" cy="468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873240" y="2027520"/>
              <a:ext cx="3600" cy="3092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834720" y="2027520"/>
              <a:ext cx="72000" cy="32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834720" y="2336760"/>
              <a:ext cx="7200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45040" y="2027520"/>
              <a:ext cx="3600" cy="3092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091760" y="2027520"/>
              <a:ext cx="88200" cy="32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091760" y="2336760"/>
              <a:ext cx="8820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400640" y="2181600"/>
              <a:ext cx="1440" cy="29952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365360" y="2181600"/>
              <a:ext cx="8676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365360" y="2481120"/>
              <a:ext cx="86760" cy="288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746680" y="4906080"/>
              <a:ext cx="0" cy="29772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695200" y="4906080"/>
              <a:ext cx="88200" cy="32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695200" y="5204160"/>
              <a:ext cx="88200" cy="32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015240" y="3997440"/>
              <a:ext cx="5400" cy="29952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968440" y="3997440"/>
              <a:ext cx="8712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968440" y="4296960"/>
              <a:ext cx="8712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817320" y="3247200"/>
              <a:ext cx="1800" cy="29628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765840" y="3247200"/>
              <a:ext cx="88560" cy="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765840" y="3543480"/>
              <a:ext cx="8856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076520" y="2934720"/>
              <a:ext cx="1440" cy="31248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037640" y="2934720"/>
              <a:ext cx="8676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037640" y="3247200"/>
              <a:ext cx="86760" cy="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346520" y="2934720"/>
              <a:ext cx="3240" cy="31248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309080" y="2934720"/>
              <a:ext cx="8856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309080" y="3247200"/>
              <a:ext cx="88560" cy="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009960" y="2580120"/>
              <a:ext cx="138600" cy="1242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812400" y="2126520"/>
              <a:ext cx="136440" cy="121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082400" y="2126520"/>
              <a:ext cx="138600" cy="121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341240" y="2281680"/>
              <a:ext cx="136440" cy="121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683680" y="5005080"/>
              <a:ext cx="136800" cy="1245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957640" y="4096080"/>
              <a:ext cx="135000" cy="1245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758280" y="3333240"/>
              <a:ext cx="133200" cy="1245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011360" y="3035160"/>
              <a:ext cx="138600" cy="121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289280" y="3035160"/>
              <a:ext cx="132840" cy="121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246920" y="5892840"/>
              <a:ext cx="1639800" cy="31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880880" y="5895720"/>
              <a:ext cx="486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giorni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868360" y="58989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rot="16200000">
              <a:off x="717120" y="3997080"/>
              <a:ext cx="205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Coeff. Attenuazione tota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rot="16200000">
              <a:off x="1614960" y="2541960"/>
              <a:ext cx="258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(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rot="16200000">
              <a:off x="1650240" y="238824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rot="16200000">
              <a:off x="1635120" y="23360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rot="16200000">
              <a:off x="1714320" y="22161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rot="16200000">
              <a:off x="1743480" y="2142000"/>
              <a:ext cx="58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rot="16200000">
              <a:off x="5442480" y="30106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895520" y="1884960"/>
              <a:ext cx="1800" cy="3769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4802040" y="2030400"/>
            <a:ext cx="237960" cy="3520800"/>
            <a:chOff x="4802040" y="2030400"/>
            <a:chExt cx="237960" cy="3520800"/>
          </a:xfrm>
        </p:grpSpPr>
        <p:sp>
          <p:nvSpPr>
            <p:cNvPr id="516" name=""/>
            <p:cNvSpPr/>
            <p:nvPr/>
          </p:nvSpPr>
          <p:spPr>
            <a:xfrm>
              <a:off x="4806720" y="3021840"/>
              <a:ext cx="233280" cy="188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17" name=""/>
            <p:cNvGrpSpPr/>
            <p:nvPr/>
          </p:nvGrpSpPr>
          <p:grpSpPr>
            <a:xfrm>
              <a:off x="4802040" y="2030400"/>
              <a:ext cx="213480" cy="3520800"/>
              <a:chOff x="4802040" y="2030400"/>
              <a:chExt cx="213480" cy="3520800"/>
            </a:xfrm>
          </p:grpSpPr>
          <p:sp>
            <p:nvSpPr>
              <p:cNvPr id="518" name=""/>
              <p:cNvSpPr/>
              <p:nvPr/>
            </p:nvSpPr>
            <p:spPr>
              <a:xfrm rot="16200000">
                <a:off x="4427640" y="3820320"/>
                <a:ext cx="9622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ff0000"/>
                    </a:solidFill>
                    <a:latin typeface="Arial"/>
                  </a:rPr>
                  <a:t>Trattamento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V="1">
                <a:off x="4916160" y="2030400"/>
                <a:ext cx="1440" cy="88560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20" name=""/>
              <p:cNvGrpSpPr/>
              <p:nvPr/>
            </p:nvGrpSpPr>
            <p:grpSpPr>
              <a:xfrm>
                <a:off x="4851000" y="5202720"/>
                <a:ext cx="129960" cy="348480"/>
                <a:chOff x="4851000" y="5202720"/>
                <a:chExt cx="129960" cy="348480"/>
              </a:xfrm>
            </p:grpSpPr>
            <p:sp>
              <p:nvSpPr>
                <p:cNvPr id="521" name=""/>
                <p:cNvSpPr/>
                <p:nvPr/>
              </p:nvSpPr>
              <p:spPr>
                <a:xfrm>
                  <a:off x="4915800" y="5202720"/>
                  <a:ext cx="2160" cy="210240"/>
                </a:xfrm>
                <a:prstGeom prst="line">
                  <a:avLst/>
                </a:prstGeom>
                <a:ln w="64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4851000" y="5409720"/>
                  <a:ext cx="129960" cy="141480"/>
                </a:xfrm>
                <a:custGeom>
                  <a:avLst/>
                  <a:gdLst/>
                  <a:ahLst/>
                  <a:rect l="l" t="t" r="r" b="b"/>
                  <a:pathLst>
                    <a:path w="95" h="96">
                      <a:moveTo>
                        <a:pt x="0" y="0"/>
                      </a:moveTo>
                      <a:lnTo>
                        <a:pt x="48" y="96"/>
                      </a:lnTo>
                      <a:lnTo>
                        <a:pt x="9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4F83C-44B3-4ED4-B88C-DAF1AEA83437}" type="slidenum">
              <a:t>17</a:t>
            </a:fld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468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79280" y="761760"/>
            <a:ext cx="88884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Tahoma"/>
                <a:ea typeface="Times New Roman"/>
              </a:rPr>
              <a:t>Sensori optoelettronici</a:t>
            </a:r>
            <a:br>
              <a:rPr sz="4400"/>
            </a:br>
            <a:r>
              <a:rPr b="1" lang="en-GB" sz="4400" spc="-1" strike="noStrike">
                <a:solidFill>
                  <a:srgbClr val="ffff66"/>
                </a:solidFill>
                <a:latin typeface="Tahoma"/>
                <a:ea typeface="Times New Roman"/>
              </a:rPr>
              <a:t>per la qualità dell’aria</a:t>
            </a:r>
            <a:r>
              <a:rPr b="1" lang="en-GB" sz="3800" spc="-1" strike="noStrike">
                <a:solidFill>
                  <a:srgbClr val="ffff66"/>
                </a:solidFill>
                <a:latin typeface="Tahoma"/>
                <a:ea typeface="Times New Roman"/>
              </a:rPr>
              <a:t>  </a:t>
            </a:r>
            <a:endParaRPr b="1" lang="en-US" sz="3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917640" y="4190760"/>
            <a:ext cx="83311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3F90A-E280-4E45-9AA8-0661AC1F64AB}" type="slidenum">
              <a:t>18</a:t>
            </a:fld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468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488880" y="326880"/>
            <a:ext cx="8166240" cy="1306800"/>
          </a:xfrm>
          <a:prstGeom prst="roundRect">
            <a:avLst>
              <a:gd name="adj" fmla="val 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2500" spc="-1" strike="noStrike">
                <a:solidFill>
                  <a:srgbClr val="ffff99"/>
                </a:solidFill>
                <a:latin typeface="Tahoma"/>
                <a:ea typeface="msmincho"/>
              </a:rPr>
              <a:t>ATTIVITÀ IN FASE DI SVOLGIMENTO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2500" spc="-1" strike="noStrike">
                <a:solidFill>
                  <a:srgbClr val="ffff99"/>
                </a:solidFill>
                <a:latin typeface="Tahoma"/>
                <a:ea typeface="msmincho"/>
              </a:rPr>
              <a:t>CSC E INOA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295280" y="1752480"/>
            <a:ext cx="7359840" cy="44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800" spc="-1" strike="noStrike">
                <a:solidFill>
                  <a:srgbClr val="ff6600"/>
                </a:solidFill>
                <a:latin typeface="Comic Sans MS"/>
                <a:ea typeface="msmincho"/>
              </a:rPr>
              <a:t>OBIETTIV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mic Sans MS"/>
                <a:ea typeface="msmincho"/>
              </a:rPr>
              <a:t>Sviluppo di un sistema integrato per la previsione/stima delle emissioni e della dispersione di traccianti atmosferici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mic Sans MS"/>
                <a:ea typeface="msmincho"/>
              </a:rPr>
              <a:t>Gli strumenti da sviluppare e mettere a punto sono du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mic Sans MS"/>
                <a:ea typeface="msmincho"/>
              </a:rPr>
              <a:t>- Il sistema di misura delle concentrazioni, costituito da uno spettrometro a diodo laser per misure in campo aperto con retrorifletto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mic Sans MS"/>
                <a:ea typeface="msmincho"/>
              </a:rPr>
              <a:t>- Il modello matematico di previsione della dispersione del tracciante atmosferic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800" spc="-1" strike="noStrike">
                <a:solidFill>
                  <a:srgbClr val="ff6600"/>
                </a:solidFill>
                <a:latin typeface="Comic Sans MS"/>
                <a:ea typeface="msmincho"/>
              </a:rPr>
              <a:t>CASO DI STUD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mic Sans MS"/>
                <a:ea typeface="msmincho"/>
              </a:rPr>
              <a:t>Discarica di rifiuti di Case Passerin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mic Sans MS"/>
                <a:ea typeface="msmincho"/>
              </a:rPr>
              <a:t>Inquinante scelto come tracciante: metan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mic Sans MS"/>
                <a:ea typeface="msmincho"/>
              </a:rPr>
              <a:t>Strumento di misura posizionato nel Polo Scientifico di Sesto Fiorentino (distanza dalla sorgente: circa 1200 m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41280" y="6418440"/>
            <a:ext cx="404496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ffffff"/>
                </a:solidFill>
                <a:latin typeface="Arial"/>
              </a:rPr>
              <a:t>Sottoprogetto MEDUSE  -  Arpat, Firenze 24/02/200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468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Futura Md BT"/>
              </a:rPr>
              <a:t>MEDUSE: PARTENARIATO</a:t>
            </a:r>
            <a:endParaRPr b="1" lang="en-US" sz="4400" spc="-1" strike="noStrike">
              <a:solidFill>
                <a:srgbClr val="ffff66"/>
              </a:solidFill>
              <a:latin typeface="Futura Md B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90360" y="1612440"/>
            <a:ext cx="7924680" cy="461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Ist. di Fisica Applicata “N.Carrara” CNR (IFAC)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Ist. Nazionale di Ottica Applicata (INOA) 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Centro per la previsione di eventi meteo Università de L’Aquila (CETEMPS) 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Centro Studi Sistemi Complessi</a:t>
            </a:r>
            <a:br>
              <a:rPr sz="2800"/>
            </a:b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Università di Siena (CSSC)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Dip.to di Ingegneria dell’Informazione Università di Pisa (UNI-PI)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Universitat Politècnica de Catalunya (UPC)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6935E-2BA7-417B-AAF6-2538BE8FA72B}" type="slidenum">
              <a:t>2</a:t>
            </a:fld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468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488880" y="326880"/>
            <a:ext cx="8166240" cy="1306800"/>
          </a:xfrm>
          <a:prstGeom prst="roundRect">
            <a:avLst>
              <a:gd name="adj" fmla="val 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500" spc="-1" strike="noStrike">
                <a:solidFill>
                  <a:srgbClr val="ffff99"/>
                </a:solidFill>
                <a:latin typeface="Tahoma"/>
                <a:ea typeface="msmincho"/>
              </a:rPr>
              <a:t>Attività in fase di svolgimento - CSC e INO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2900" spc="-1" strike="noStrike">
                <a:solidFill>
                  <a:srgbClr val="ffff99"/>
                </a:solidFill>
                <a:latin typeface="Tahoma"/>
                <a:ea typeface="msmincho"/>
              </a:rPr>
              <a:t>LOCALIZZAZIONE DEL CASO DI STUDIO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2057400" y="1905120"/>
            <a:ext cx="4995720" cy="453852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4370400" y="3618000"/>
            <a:ext cx="326880" cy="488880"/>
          </a:xfrm>
          <a:prstGeom prst="ellipse">
            <a:avLst/>
          </a:prstGeom>
          <a:noFill/>
          <a:ln w="36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rot="1620000">
            <a:off x="5709960" y="3519360"/>
            <a:ext cx="757080" cy="490680"/>
          </a:xfrm>
          <a:prstGeom prst="ellipse">
            <a:avLst/>
          </a:prstGeom>
          <a:noFill/>
          <a:ln w="36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315200" y="4876920"/>
            <a:ext cx="1633680" cy="4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</a:tabLst>
            </a:pPr>
            <a:r>
              <a:rPr b="1" i="1" lang="en-GB" sz="1300" spc="-1" strike="noStrike">
                <a:solidFill>
                  <a:srgbClr val="ff6600"/>
                </a:solidFill>
                <a:latin typeface="Arial"/>
                <a:ea typeface="msmincho"/>
              </a:rPr>
              <a:t>Discarica di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</a:tabLst>
            </a:pPr>
            <a:r>
              <a:rPr b="1" i="1" lang="en-GB" sz="1300" spc="-1" strike="noStrike">
                <a:solidFill>
                  <a:srgbClr val="ff6600"/>
                </a:solidFill>
                <a:latin typeface="Arial"/>
                <a:ea typeface="msmincho"/>
              </a:rPr>
              <a:t>Case Passerini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33" name=""/>
          <p:cNvCxnSpPr>
            <a:stCxn id="530" idx="6"/>
            <a:endCxn id="532" idx="1"/>
          </p:cNvCxnSpPr>
          <p:nvPr/>
        </p:nvCxnSpPr>
        <p:spPr>
          <a:xfrm>
            <a:off x="4714560" y="3862440"/>
            <a:ext cx="2601000" cy="1240560"/>
          </a:xfrm>
          <a:prstGeom prst="curvedConnector5">
            <a:avLst>
              <a:gd name="adj1" fmla="val 49626"/>
              <a:gd name="adj2" fmla="val 49985"/>
              <a:gd name="adj3" fmla="val 49626"/>
            </a:avLst>
          </a:prstGeom>
          <a:ln w="28440">
            <a:solidFill>
              <a:srgbClr val="ff6600"/>
            </a:solidFill>
            <a:miter/>
            <a:tailEnd len="med" type="triangle" w="med"/>
          </a:ln>
        </p:spPr>
      </p:cxnSp>
      <p:sp>
        <p:nvSpPr>
          <p:cNvPr id="534" name=""/>
          <p:cNvSpPr/>
          <p:nvPr/>
        </p:nvSpPr>
        <p:spPr>
          <a:xfrm>
            <a:off x="7238880" y="2819520"/>
            <a:ext cx="1633680" cy="4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</a:tabLst>
            </a:pPr>
            <a:r>
              <a:rPr b="1" i="1" lang="en-GB" sz="1300" spc="-1" strike="noStrike">
                <a:solidFill>
                  <a:srgbClr val="ff6600"/>
                </a:solidFill>
                <a:latin typeface="Arial"/>
                <a:ea typeface="msmincho"/>
              </a:rPr>
              <a:t>Polo scientifico di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</a:tabLst>
            </a:pPr>
            <a:r>
              <a:rPr b="1" i="1" lang="en-GB" sz="1300" spc="-1" strike="noStrike">
                <a:solidFill>
                  <a:srgbClr val="ff6600"/>
                </a:solidFill>
                <a:latin typeface="Arial"/>
                <a:ea typeface="msmincho"/>
              </a:rPr>
              <a:t>Sesto Fiorentino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35" name=""/>
          <p:cNvCxnSpPr>
            <a:stCxn id="531" idx="6"/>
            <a:endCxn id="534" idx="0"/>
          </p:cNvCxnSpPr>
          <p:nvPr/>
        </p:nvCxnSpPr>
        <p:spPr>
          <a:xfrm flipV="1">
            <a:off x="6442200" y="2819160"/>
            <a:ext cx="1614960" cy="1124640"/>
          </a:xfrm>
          <a:prstGeom prst="curvedConnector5">
            <a:avLst>
              <a:gd name="adj1" fmla="val 27625"/>
              <a:gd name="adj2" fmla="val 60166"/>
              <a:gd name="adj3" fmla="val 27625"/>
            </a:avLst>
          </a:prstGeom>
          <a:ln w="28440">
            <a:solidFill>
              <a:srgbClr val="ff6600"/>
            </a:solidFill>
            <a:miter/>
            <a:tailEnd len="med" type="triangle" w="med"/>
          </a:ln>
        </p:spPr>
      </p:cxnSp>
      <p:sp>
        <p:nvSpPr>
          <p:cNvPr id="536" name=""/>
          <p:cNvSpPr/>
          <p:nvPr/>
        </p:nvSpPr>
        <p:spPr>
          <a:xfrm>
            <a:off x="2603520" y="5216400"/>
            <a:ext cx="1143000" cy="1800"/>
          </a:xfrm>
          <a:custGeom>
            <a:avLst/>
            <a:gdLst/>
            <a:ahLst/>
            <a:rect l="l" t="t" r="r" b="b"/>
            <a:pathLst>
              <a:path w="3501" h="1">
                <a:moveTo>
                  <a:pt x="0" y="0"/>
                </a:moveTo>
                <a:cubicBezTo>
                  <a:pt x="1166" y="0"/>
                  <a:pt x="2332" y="0"/>
                  <a:pt x="3500" y="0"/>
                </a:cubicBezTo>
              </a:path>
            </a:pathLst>
          </a:custGeom>
          <a:noFill/>
          <a:ln w="36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901960" y="4964040"/>
            <a:ext cx="513000" cy="2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msmincho"/>
              </a:rPr>
              <a:t>1 k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41280" y="6418440"/>
            <a:ext cx="404496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ffffff"/>
                </a:solidFill>
                <a:latin typeface="Arial"/>
              </a:rPr>
              <a:t>Sottoprogetto MEDUSE  -  Arpat, Firenze 24/02/200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468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488880" y="326880"/>
            <a:ext cx="8166240" cy="1306800"/>
          </a:xfrm>
          <a:prstGeom prst="roundRect">
            <a:avLst>
              <a:gd name="adj" fmla="val 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4400" spc="-1" strike="noStrike">
                <a:solidFill>
                  <a:srgbClr val="ffff99"/>
                </a:solidFill>
                <a:latin typeface="Tahoma"/>
                <a:ea typeface="msmincho"/>
              </a:rPr>
              <a:t>SITO DI MISUR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41280" y="6418440"/>
            <a:ext cx="404496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ffffff"/>
                </a:solidFill>
                <a:latin typeface="Arial"/>
              </a:rPr>
              <a:t>Sottoprogetto MEDUSE  -  Arpat, Firenze 24/02/200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1" name="mappasesto" descr=""/>
          <p:cNvPicPr/>
          <p:nvPr/>
        </p:nvPicPr>
        <p:blipFill>
          <a:blip r:embed="rId1"/>
          <a:stretch/>
        </p:blipFill>
        <p:spPr>
          <a:xfrm>
            <a:off x="1712880" y="2063880"/>
            <a:ext cx="6222960" cy="342900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/>
          <p:nvPr/>
        </p:nvSpPr>
        <p:spPr>
          <a:xfrm>
            <a:off x="2016000" y="5721480"/>
            <a:ext cx="568008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600" spc="-1" strike="noStrike">
                <a:solidFill>
                  <a:srgbClr val="ff6600"/>
                </a:solidFill>
                <a:latin typeface="Times New Roman"/>
              </a:rPr>
              <a:t>Planimetria di una parte del Polo Scientifico di Sesto Fiorenti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4648320" y="3182760"/>
            <a:ext cx="1520640" cy="326520"/>
            <a:chOff x="4648320" y="3182760"/>
            <a:chExt cx="1520640" cy="326520"/>
          </a:xfrm>
        </p:grpSpPr>
        <p:sp>
          <p:nvSpPr>
            <p:cNvPr id="544" name=""/>
            <p:cNvSpPr/>
            <p:nvPr/>
          </p:nvSpPr>
          <p:spPr>
            <a:xfrm>
              <a:off x="4648320" y="3182760"/>
              <a:ext cx="1520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061600" y="3182760"/>
              <a:ext cx="59004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1400" bIns="41400" anchor="t">
              <a:spAutoFit/>
            </a:bodyPr>
            <a:p>
              <a:pPr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1" lang="it-IT" sz="1600" spc="-1" strike="noStrike">
                  <a:solidFill>
                    <a:srgbClr val="0066cc"/>
                  </a:solidFill>
                  <a:latin typeface="Times New Roman"/>
                </a:rPr>
                <a:t>83 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6" name=""/>
          <p:cNvSpPr/>
          <p:nvPr/>
        </p:nvSpPr>
        <p:spPr>
          <a:xfrm>
            <a:off x="2714760" y="2214720"/>
            <a:ext cx="13093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600" spc="-1" strike="noStrike">
                <a:solidFill>
                  <a:srgbClr val="0066cc"/>
                </a:solidFill>
                <a:latin typeface="Times New Roman"/>
              </a:rPr>
              <a:t>Dip. di Fis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444720" y="2284560"/>
            <a:ext cx="66168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600" spc="-1" strike="noStrike">
                <a:solidFill>
                  <a:srgbClr val="0066cc"/>
                </a:solidFill>
                <a:latin typeface="Times New Roman"/>
              </a:rPr>
              <a:t>INF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468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977760" y="193680"/>
            <a:ext cx="8166240" cy="1120680"/>
          </a:xfrm>
          <a:prstGeom prst="roundRect">
            <a:avLst>
              <a:gd name="adj" fmla="val 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Tahoma"/>
                <a:ea typeface="msmincho"/>
              </a:rPr>
              <a:t>STRUMENTO</a:t>
            </a:r>
            <a:br>
              <a:rPr sz="2800"/>
            </a:br>
            <a:r>
              <a:rPr b="1" lang="en-GB" sz="2800" spc="-1" strike="noStrike">
                <a:solidFill>
                  <a:srgbClr val="ffff99"/>
                </a:solidFill>
                <a:latin typeface="Tahoma"/>
                <a:ea typeface="msmincho"/>
              </a:rPr>
              <a:t>MODELLISTICO DIFFUSIONA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054080" y="1320840"/>
            <a:ext cx="8089920" cy="51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Arial"/>
                <a:ea typeface="msmincho"/>
              </a:rPr>
              <a:t>SAFE AIR I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800" spc="-1" strike="noStrike">
                <a:solidFill>
                  <a:srgbClr val="ff6600"/>
                </a:solidFill>
                <a:latin typeface="Arial"/>
                <a:ea typeface="msmincho"/>
              </a:rPr>
              <a:t>(Simulation of Air pollution From Emissions Above Inhomogeneous Regions, version II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800" spc="-1" strike="noStrike">
                <a:solidFill>
                  <a:srgbClr val="cbcbcb"/>
                </a:solidFill>
                <a:latin typeface="Arial"/>
                <a:ea typeface="msmincho"/>
              </a:rPr>
              <a:t>Sviluppato al Dipartimento di Fisica dell'Università di Genova è un modello Gaussiano a puff di nuova generazion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2000" spc="-1" strike="noStrike">
                <a:solidFill>
                  <a:srgbClr val="00ae00"/>
                </a:solidFill>
                <a:latin typeface="Arial"/>
                <a:ea typeface="msmincho"/>
              </a:rPr>
              <a:t>SAFE AIR II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  <a:ea typeface="msmincho"/>
              </a:rPr>
              <a:t> </a:t>
            </a:r>
            <a:r>
              <a:rPr b="1" lang="en-GB" sz="1800" spc="-1" strike="noStrike">
                <a:solidFill>
                  <a:srgbClr val="cbcbcb"/>
                </a:solidFill>
                <a:latin typeface="Arial"/>
                <a:ea typeface="msmincho"/>
              </a:rPr>
              <a:t>è incluso nel database europeo dei modelli di diffusione (Mod. Doc. Sys, EEA, </a:t>
            </a:r>
            <a:r>
              <a:rPr b="1" i="1" lang="en-GB" sz="1800" spc="-1" strike="noStrike" u="sng">
                <a:solidFill>
                  <a:srgbClr val="cbcbcb"/>
                </a:solidFill>
                <a:uFillTx/>
                <a:latin typeface="Arial"/>
                <a:ea typeface="msmincho"/>
              </a:rPr>
              <a:t>http://pandora.meng.auth.gr/mds/mds.php</a:t>
            </a:r>
            <a:r>
              <a:rPr b="1" lang="en-GB" sz="1800" spc="-1" strike="noStrike">
                <a:solidFill>
                  <a:srgbClr val="cbcbcb"/>
                </a:solidFill>
                <a:latin typeface="Arial"/>
                <a:ea typeface="msmincho"/>
              </a:rPr>
              <a:t>) e la versione precedente è stata selezionata dall'APAT per essere inserita tra i modelli di dispersione degli inquinanti da utilizzare nella valutazione della qualità dell'ari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800" spc="-1" strike="noStrike">
                <a:solidFill>
                  <a:srgbClr val="cbcbcb"/>
                </a:solidFill>
                <a:latin typeface="Arial"/>
                <a:ea typeface="msmincho"/>
              </a:rPr>
              <a:t>Il modello si compone di 3 moduli: due pre-processori meteorologici (</a:t>
            </a:r>
            <a:r>
              <a:rPr b="1" lang="en-GB" sz="2000" spc="-1" strike="noStrike">
                <a:solidFill>
                  <a:srgbClr val="00ae00"/>
                </a:solidFill>
                <a:latin typeface="Arial"/>
                <a:ea typeface="msmincho"/>
              </a:rPr>
              <a:t>WINDS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  <a:ea typeface="msmincho"/>
              </a:rPr>
              <a:t> </a:t>
            </a:r>
            <a:r>
              <a:rPr b="1" lang="en-GB" sz="2000" spc="-1" strike="noStrike">
                <a:solidFill>
                  <a:srgbClr val="cbcbcb"/>
                </a:solidFill>
                <a:latin typeface="Arial"/>
                <a:ea typeface="msmincho"/>
              </a:rPr>
              <a:t>4.2</a:t>
            </a:r>
            <a:r>
              <a:rPr b="1" lang="en-GB" sz="1800" spc="-1" strike="noStrike">
                <a:solidFill>
                  <a:srgbClr val="cbcbcb"/>
                </a:solidFill>
                <a:latin typeface="Arial"/>
                <a:ea typeface="msmincho"/>
              </a:rPr>
              <a:t>, Wind-field Interpolation by Non Divergent Schemes, in grado di ricostruire il campo di vento tridimensionale partendo da misure puntuali, e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  <a:ea typeface="msmincho"/>
              </a:rPr>
              <a:t> </a:t>
            </a:r>
            <a:r>
              <a:rPr b="1" lang="en-GB" sz="2000" spc="-1" strike="noStrike">
                <a:solidFill>
                  <a:srgbClr val="00ae00"/>
                </a:solidFill>
                <a:latin typeface="Arial"/>
                <a:ea typeface="msmincho"/>
              </a:rPr>
              <a:t>ABLE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  <a:ea typeface="msmincho"/>
              </a:rPr>
              <a:t> </a:t>
            </a:r>
            <a:r>
              <a:rPr b="1" lang="en-GB" sz="2000" spc="-1" strike="noStrike">
                <a:solidFill>
                  <a:srgbClr val="cbcbcb"/>
                </a:solidFill>
                <a:latin typeface="Arial"/>
                <a:ea typeface="msmincho"/>
              </a:rPr>
              <a:t>1.2</a:t>
            </a:r>
            <a:r>
              <a:rPr b="1" lang="en-GB" sz="1800" spc="-1" strike="noStrike">
                <a:solidFill>
                  <a:srgbClr val="cbcbcb"/>
                </a:solidFill>
                <a:latin typeface="Arial"/>
                <a:ea typeface="msmincho"/>
              </a:rPr>
              <a:t>, Acquisition of Boundary-Layer paramEters, per la stima dei parametri micrometeorologici superficiali), ed il modulo diffusionale vero e proprio (</a:t>
            </a:r>
            <a:r>
              <a:rPr b="1" lang="en-GB" sz="2000" spc="-1" strike="noStrike">
                <a:solidFill>
                  <a:srgbClr val="00ae00"/>
                </a:solidFill>
                <a:latin typeface="Arial"/>
                <a:ea typeface="msmincho"/>
              </a:rPr>
              <a:t>P6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  <a:ea typeface="msmincho"/>
              </a:rPr>
              <a:t> </a:t>
            </a:r>
            <a:r>
              <a:rPr b="1" lang="en-GB" sz="2000" spc="-1" strike="noStrike">
                <a:solidFill>
                  <a:srgbClr val="cbcbcb"/>
                </a:solidFill>
                <a:latin typeface="Arial"/>
                <a:ea typeface="msmincho"/>
              </a:rPr>
              <a:t>2.1</a:t>
            </a:r>
            <a:r>
              <a:rPr b="1" lang="en-GB" sz="1800" spc="-1" strike="noStrike">
                <a:solidFill>
                  <a:srgbClr val="cbcbcb"/>
                </a:solidFill>
                <a:latin typeface="Arial"/>
                <a:ea typeface="msmincho"/>
              </a:rPr>
              <a:t>, Program Plotting Paths of Pollutant Puffs and Plumes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41280" y="6418440"/>
            <a:ext cx="404496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ffffff"/>
                </a:solidFill>
                <a:latin typeface="Arial"/>
              </a:rPr>
              <a:t>Sottoprogetto MEDUSE  -  Arpat, Firenze 24/02/200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468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1090440" y="85680"/>
            <a:ext cx="7767720" cy="1306440"/>
          </a:xfrm>
          <a:prstGeom prst="roundRect">
            <a:avLst>
              <a:gd name="adj" fmla="val 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Tahoma"/>
                <a:ea typeface="msmincho"/>
              </a:rPr>
              <a:t>STRUMENTO</a:t>
            </a:r>
            <a:br>
              <a:rPr sz="2800"/>
            </a:br>
            <a:r>
              <a:rPr b="1" lang="en-GB" sz="2800" spc="-1" strike="noStrike">
                <a:solidFill>
                  <a:srgbClr val="ffff99"/>
                </a:solidFill>
                <a:latin typeface="Tahoma"/>
                <a:ea typeface="msmincho"/>
              </a:rPr>
              <a:t>MODELLISTICO DIFFUSIONA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174680" y="1631880"/>
            <a:ext cx="7667640" cy="16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 marL="1428840" indent="-1428840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2000" spc="-1" strike="noStrike">
                <a:solidFill>
                  <a:srgbClr val="00ae00"/>
                </a:solidFill>
                <a:latin typeface="Arial"/>
                <a:ea typeface="msmincho"/>
              </a:rPr>
              <a:t>SAFE AIR II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  <a:ea typeface="msmincho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msmincho"/>
              </a:rPr>
              <a:t>è stato utilizzato con successo in diverse applicazioni di studio di impatto ambientale e sanitario. E' stato inoltre testato e validato sia con dati di monitoraggio sia mediante prove in galleria del vento presso il laboratorio del CRIACIV situato nella sede di Prato dell'Università degli Studi di Firenz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6205680" y="3530520"/>
            <a:ext cx="2449440" cy="2514600"/>
          </a:xfrm>
          <a:prstGeom prst="rect">
            <a:avLst/>
          </a:prstGeom>
          <a:ln w="0">
            <a:noFill/>
          </a:ln>
        </p:spPr>
      </p:pic>
      <p:pic>
        <p:nvPicPr>
          <p:cNvPr id="554" name="" descr=""/>
          <p:cNvPicPr/>
          <p:nvPr/>
        </p:nvPicPr>
        <p:blipFill>
          <a:blip r:embed="rId2"/>
          <a:stretch/>
        </p:blipFill>
        <p:spPr>
          <a:xfrm>
            <a:off x="488880" y="3530520"/>
            <a:ext cx="2548080" cy="2449440"/>
          </a:xfrm>
          <a:prstGeom prst="rect">
            <a:avLst/>
          </a:prstGeom>
          <a:ln w="0">
            <a:noFill/>
          </a:ln>
        </p:spPr>
      </p:pic>
      <p:sp>
        <p:nvSpPr>
          <p:cNvPr id="555" name=""/>
          <p:cNvSpPr/>
          <p:nvPr/>
        </p:nvSpPr>
        <p:spPr>
          <a:xfrm>
            <a:off x="3154320" y="3530520"/>
            <a:ext cx="2938680" cy="1143000"/>
          </a:xfrm>
          <a:prstGeom prst="roundRect">
            <a:avLst>
              <a:gd name="adj" fmla="val 12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200" spc="-1" strike="noStrike">
                <a:solidFill>
                  <a:srgbClr val="0033cc"/>
                </a:solidFill>
                <a:latin typeface="Arial"/>
                <a:ea typeface="msmincho"/>
              </a:rPr>
              <a:t>Risultati delle simulazioni svolte p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200" spc="-1" strike="noStrike">
                <a:solidFill>
                  <a:srgbClr val="0033cc"/>
                </a:solidFill>
                <a:latin typeface="Arial"/>
                <a:ea typeface="msmincho"/>
              </a:rPr>
              <a:t>lo studio di impatto sanitario del pia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200" spc="-1" strike="noStrike">
                <a:solidFill>
                  <a:srgbClr val="0033cc"/>
                </a:solidFill>
                <a:latin typeface="Arial"/>
                <a:ea typeface="msmincho"/>
              </a:rPr>
              <a:t>provinciale di gestione dei rifiuti c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200" spc="-1" strike="noStrike">
                <a:solidFill>
                  <a:srgbClr val="0033cc"/>
                </a:solidFill>
                <a:latin typeface="Arial"/>
                <a:ea typeface="msmincho"/>
              </a:rPr>
              <a:t>il modello SAFE AIR nella stess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200" spc="-1" strike="noStrike">
                <a:solidFill>
                  <a:srgbClr val="0033cc"/>
                </a:solidFill>
                <a:latin typeface="Arial"/>
                <a:ea typeface="msmincho"/>
              </a:rPr>
              <a:t>zona di riferimento del presente cas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200" spc="-1" strike="noStrike">
                <a:solidFill>
                  <a:srgbClr val="0033cc"/>
                </a:solidFill>
                <a:latin typeface="Arial"/>
                <a:ea typeface="msmincho"/>
              </a:rPr>
              <a:t>di studio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154320" y="4870440"/>
            <a:ext cx="2938680" cy="1143000"/>
          </a:xfrm>
          <a:prstGeom prst="roundRect">
            <a:avLst>
              <a:gd name="adj" fmla="val 12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200" spc="-1" strike="noStrike">
                <a:solidFill>
                  <a:srgbClr val="0033cc"/>
                </a:solidFill>
                <a:latin typeface="Arial"/>
                <a:ea typeface="msmincho"/>
              </a:rPr>
              <a:t>Modello di discarica montato in galler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200" spc="-1" strike="noStrike">
                <a:solidFill>
                  <a:srgbClr val="0033cc"/>
                </a:solidFill>
                <a:latin typeface="Arial"/>
                <a:ea typeface="msmincho"/>
              </a:rPr>
              <a:t>del vento per le prove di diffusio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200" spc="-1" strike="noStrike">
                <a:solidFill>
                  <a:srgbClr val="0033cc"/>
                </a:solidFill>
                <a:latin typeface="Arial"/>
                <a:ea typeface="msmincho"/>
              </a:rPr>
              <a:t>utilizzate per la taratura e la validazio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200" spc="-1" strike="noStrike">
                <a:solidFill>
                  <a:srgbClr val="0033cc"/>
                </a:solidFill>
                <a:latin typeface="Arial"/>
                <a:ea typeface="msmincho"/>
              </a:rPr>
              <a:t>del modello SAFE AIR per tal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200" spc="-1" strike="noStrike">
                <a:solidFill>
                  <a:srgbClr val="0033cc"/>
                </a:solidFill>
                <a:latin typeface="Arial"/>
                <a:ea typeface="msmincho"/>
              </a:rPr>
              <a:t>tipologie di sorgenti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rot="16200000">
            <a:off x="2482920" y="3929040"/>
            <a:ext cx="1163520" cy="163440"/>
          </a:xfrm>
          <a:prstGeom prst="triangle">
            <a:avLst>
              <a:gd name="adj" fmla="val 50000"/>
            </a:avLst>
          </a:prstGeom>
          <a:solidFill>
            <a:srgbClr val="ff33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 flipV="1" rot="16200000">
            <a:off x="5583240" y="5267880"/>
            <a:ext cx="1163520" cy="165240"/>
          </a:xfrm>
          <a:prstGeom prst="triangle">
            <a:avLst>
              <a:gd name="adj" fmla="val 50000"/>
            </a:avLst>
          </a:prstGeom>
          <a:solidFill>
            <a:srgbClr val="ff33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" bIns="8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41280" y="6418440"/>
            <a:ext cx="404496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ffffff"/>
                </a:solidFill>
                <a:latin typeface="Arial"/>
              </a:rPr>
              <a:t>Sottoprogetto MEDUSE  -  Arpat, Firenze 24/02/200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468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/>
          <p:nvPr/>
        </p:nvSpPr>
        <p:spPr>
          <a:xfrm>
            <a:off x="740880" y="5775480"/>
            <a:ext cx="490896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Times New Roman"/>
              </a:rPr>
              <a:t>Lunghezza d'onda: 1.651 mm, cammino ottico: 166 m, </a:t>
            </a:r>
            <a:br>
              <a:rPr sz="1600"/>
            </a:br>
            <a:r>
              <a:rPr b="1" lang="it-IT" sz="1600" spc="-1" strike="noStrike">
                <a:solidFill>
                  <a:srgbClr val="ffffff"/>
                </a:solidFill>
                <a:latin typeface="Times New Roman"/>
              </a:rPr>
              <a:t>tecnica di rivelazione: assorbimento diret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912960" y="1492200"/>
            <a:ext cx="7953480" cy="4319280"/>
            <a:chOff x="912960" y="1492200"/>
            <a:chExt cx="7953480" cy="4319280"/>
          </a:xfrm>
        </p:grpSpPr>
        <p:sp>
          <p:nvSpPr>
            <p:cNvPr id="562" name=""/>
            <p:cNvSpPr/>
            <p:nvPr/>
          </p:nvSpPr>
          <p:spPr>
            <a:xfrm>
              <a:off x="912960" y="1579680"/>
              <a:ext cx="7760520" cy="4165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63" name="" descr=""/>
            <p:cNvPicPr/>
            <p:nvPr/>
          </p:nvPicPr>
          <p:blipFill>
            <a:blip r:embed="rId1"/>
            <a:stretch/>
          </p:blipFill>
          <p:spPr>
            <a:xfrm>
              <a:off x="2537280" y="1989720"/>
              <a:ext cx="5217120" cy="304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" name=""/>
            <p:cNvSpPr/>
            <p:nvPr/>
          </p:nvSpPr>
          <p:spPr>
            <a:xfrm>
              <a:off x="8106840" y="2688480"/>
              <a:ext cx="1080" cy="1014480"/>
            </a:xfrm>
            <a:prstGeom prst="line">
              <a:avLst/>
            </a:prstGeom>
            <a:ln w="442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056600" y="2598480"/>
              <a:ext cx="74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3333cc"/>
                  </a:solidFill>
                  <a:latin typeface="Times New Roman"/>
                  <a:ea typeface="msmincho"/>
                </a:rPr>
                <a:t>Las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691280" y="2801520"/>
              <a:ext cx="845640" cy="20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126800" y="1788120"/>
              <a:ext cx="104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3333cc"/>
                  </a:solidFill>
                  <a:latin typeface="Times New Roman"/>
                  <a:ea typeface="msmincho"/>
                </a:rPr>
                <a:t>Isolat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3333cc"/>
                  </a:solidFill>
                  <a:latin typeface="Times New Roman"/>
                  <a:ea typeface="msmincho"/>
                </a:rPr>
                <a:t>ottic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832400" y="2327760"/>
              <a:ext cx="1127520" cy="67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057680" y="4492440"/>
              <a:ext cx="1360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3333cc"/>
                  </a:solidFill>
                  <a:latin typeface="Times New Roman"/>
                  <a:ea typeface="msmincho"/>
                </a:rPr>
                <a:t>laser 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3333cc"/>
                  </a:solidFill>
                  <a:latin typeface="Times New Roman"/>
                  <a:ea typeface="msmincho"/>
                </a:rPr>
                <a:t>puntament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2043720" y="4355640"/>
              <a:ext cx="704520" cy="34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030840" y="2057400"/>
              <a:ext cx="281880" cy="20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017240" y="1583640"/>
              <a:ext cx="1301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3333cc"/>
                  </a:solidFill>
                  <a:latin typeface="Times New Roman"/>
                  <a:ea typeface="msmincho"/>
                </a:rPr>
                <a:t>Cella 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3333cc"/>
                  </a:solidFill>
                  <a:latin typeface="Times New Roman"/>
                  <a:ea typeface="msmincho"/>
                </a:rPr>
                <a:t>riferiment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3592800" y="2192400"/>
              <a:ext cx="919080" cy="54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807000" y="5168880"/>
              <a:ext cx="1198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3333cc"/>
                  </a:solidFill>
                  <a:latin typeface="Times New Roman"/>
                  <a:ea typeface="msmincho"/>
                </a:rPr>
                <a:t>Rivelat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3333cc"/>
                  </a:solidFill>
                  <a:latin typeface="Times New Roman"/>
                  <a:ea typeface="msmincho"/>
                </a:rPr>
                <a:t>principa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4370400" y="4829040"/>
              <a:ext cx="1080" cy="34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285160" y="1651320"/>
              <a:ext cx="1218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3333cc"/>
                  </a:solidFill>
                  <a:latin typeface="Times New Roman"/>
                  <a:ea typeface="msmincho"/>
                </a:rPr>
                <a:t>Specchi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3333cc"/>
                  </a:solidFill>
                  <a:latin typeface="Times New Roman"/>
                  <a:ea typeface="msmincho"/>
                </a:rPr>
                <a:t>di raccolt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4791600" y="2260440"/>
              <a:ext cx="919440" cy="54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567400" y="4289760"/>
              <a:ext cx="1543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3333cc"/>
                  </a:solidFill>
                  <a:latin typeface="Times New Roman"/>
                  <a:ea typeface="msmincho"/>
                </a:rPr>
                <a:t>Lente 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3333cc"/>
                  </a:solidFill>
                  <a:latin typeface="Times New Roman"/>
                  <a:ea typeface="msmincho"/>
                </a:rPr>
                <a:t>focalizzazi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H="1" flipV="1">
              <a:off x="4861800" y="3949560"/>
              <a:ext cx="1060200" cy="40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247160" y="4086720"/>
              <a:ext cx="16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3333cc"/>
                  </a:solidFill>
                  <a:latin typeface="Times New Roman"/>
                  <a:ea typeface="msmincho"/>
                </a:rPr>
                <a:t>Retroriflett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8106840" y="3746520"/>
              <a:ext cx="1080" cy="34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690200" y="3410280"/>
              <a:ext cx="149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3333cc"/>
                  </a:solidFill>
                  <a:latin typeface="Times New Roman"/>
                  <a:ea typeface="msmincho"/>
                </a:rPr>
                <a:t>Beam spli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3101400" y="3408480"/>
              <a:ext cx="140760" cy="13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143080" y="1492200"/>
              <a:ext cx="1549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3333cc"/>
                  </a:solidFill>
                  <a:latin typeface="Times New Roman"/>
                  <a:ea typeface="msmincho"/>
                </a:rPr>
                <a:t>Rivelat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3333cc"/>
                  </a:solidFill>
                  <a:latin typeface="Times New Roman"/>
                  <a:ea typeface="msmincho"/>
                </a:rPr>
                <a:t>di riferiment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341280" y="6418440"/>
            <a:ext cx="404496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ffffff"/>
                </a:solidFill>
                <a:latin typeface="Arial"/>
              </a:rPr>
              <a:t>Sottoprogetto MEDUSE  -  Arpat, Firenze 24/02/200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944280" y="193680"/>
            <a:ext cx="819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66"/>
                </a:solidFill>
                <a:latin typeface="Arial"/>
                <a:ea typeface="msmincho"/>
              </a:rPr>
              <a:t>Strumento di misura del tracciante: ott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468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977760" y="0"/>
            <a:ext cx="8166240" cy="1306440"/>
          </a:xfrm>
          <a:prstGeom prst="roundRect">
            <a:avLst>
              <a:gd name="adj" fmla="val 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i="1" lang="en-GB" sz="3200" spc="-1" strike="noStrike">
                <a:solidFill>
                  <a:srgbClr val="ffff66"/>
                </a:solidFill>
                <a:latin typeface="Arial"/>
                <a:ea typeface="msmincho"/>
              </a:rPr>
              <a:t>Strumento di misura del tracciante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i="1" lang="en-GB" sz="3200" spc="-1" strike="noStrike">
                <a:solidFill>
                  <a:srgbClr val="ffff66"/>
                </a:solidFill>
                <a:latin typeface="Arial"/>
                <a:ea typeface="msmincho"/>
              </a:rPr>
              <a:t>dalla breadboard a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379160" y="1793880"/>
            <a:ext cx="348876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Terminata la fase sperimentale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620240" y="3111480"/>
            <a:ext cx="4294800" cy="13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.lo strumento assumerà le sembianze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le dimensioni e l'interattività, tipici degl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strumenti stand-alone per applicazion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specifich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231840" y="2349360"/>
            <a:ext cx="4354560" cy="3252600"/>
            <a:chOff x="231840" y="2349360"/>
            <a:chExt cx="4354560" cy="3252600"/>
          </a:xfrm>
        </p:grpSpPr>
        <p:pic>
          <p:nvPicPr>
            <p:cNvPr id="591" name="IMGP0071" descr=""/>
            <p:cNvPicPr/>
            <p:nvPr/>
          </p:nvPicPr>
          <p:blipFill>
            <a:blip r:embed="rId1"/>
            <a:stretch/>
          </p:blipFill>
          <p:spPr>
            <a:xfrm>
              <a:off x="231840" y="2349360"/>
              <a:ext cx="4354560" cy="290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"/>
            <p:cNvSpPr/>
            <p:nvPr/>
          </p:nvSpPr>
          <p:spPr>
            <a:xfrm>
              <a:off x="1065240" y="5275440"/>
              <a:ext cx="238068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1400" bIns="41400" anchor="t">
              <a:spAutoFit/>
            </a:bodyPr>
            <a:p>
              <a:pPr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it-IT" sz="1600" spc="-1" strike="noStrike">
                  <a:solidFill>
                    <a:srgbClr val="ffffff"/>
                  </a:solidFill>
                  <a:latin typeface="Times New Roman"/>
                </a:rPr>
                <a:t>Lo strumento in fase di tes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4575240" y="4424400"/>
            <a:ext cx="4424040" cy="1879200"/>
            <a:chOff x="4575240" y="4424400"/>
            <a:chExt cx="4424040" cy="1879200"/>
          </a:xfrm>
        </p:grpSpPr>
        <p:pic>
          <p:nvPicPr>
            <p:cNvPr id="594" name="" descr=""/>
            <p:cNvPicPr/>
            <p:nvPr/>
          </p:nvPicPr>
          <p:blipFill>
            <a:blip r:embed="rId2"/>
            <a:stretch/>
          </p:blipFill>
          <p:spPr>
            <a:xfrm>
              <a:off x="4646160" y="4424400"/>
              <a:ext cx="4353120" cy="152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5" name=""/>
            <p:cNvSpPr/>
            <p:nvPr/>
          </p:nvSpPr>
          <p:spPr>
            <a:xfrm>
              <a:off x="4575240" y="5977080"/>
              <a:ext cx="434988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1400" bIns="41400" anchor="t">
              <a:spAutoFit/>
            </a:bodyPr>
            <a:p>
              <a:pPr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it-IT" sz="1600" spc="-1" strike="noStrike">
                  <a:solidFill>
                    <a:srgbClr val="ffffff"/>
                  </a:solidFill>
                  <a:latin typeface="Times New Roman"/>
                </a:rPr>
                <a:t>Misuratore di metano per piattaforme stratosferich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6" name=""/>
          <p:cNvSpPr/>
          <p:nvPr/>
        </p:nvSpPr>
        <p:spPr>
          <a:xfrm>
            <a:off x="341280" y="6418440"/>
            <a:ext cx="404496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ffffff"/>
                </a:solidFill>
                <a:latin typeface="Arial"/>
              </a:rPr>
              <a:t>Sottoprogetto MEDUSE  -  Arpat, Firenze 24/02/200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468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1066680" y="1600200"/>
            <a:ext cx="76964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990720" y="88920"/>
            <a:ext cx="8153280" cy="12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99"/>
                </a:solidFill>
                <a:latin typeface="Tahoma"/>
              </a:rPr>
              <a:t>TECNICHE SPETTROSCOPICHE PER INQUINANTI ATMOSFERI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930240" y="1447920"/>
            <a:ext cx="82137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9cc00"/>
                </a:solidFill>
                <a:latin typeface="Comic Sans MS"/>
              </a:rPr>
              <a:t>DO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99cc00"/>
                </a:solidFill>
                <a:latin typeface="Comic Sans MS"/>
              </a:rPr>
              <a:t>Differential Optical Absorption Spectroscop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99cc00"/>
                </a:solidFill>
                <a:latin typeface="Comic Sans MS"/>
              </a:rPr>
              <a:t>Traguardo percorso fiss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99cc00"/>
                </a:solidFill>
                <a:latin typeface="Comic Sans MS"/>
              </a:rPr>
              <a:t>Valore integrato sulla distanz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99cc00"/>
                </a:solidFill>
                <a:latin typeface="Comic Sans MS"/>
              </a:rPr>
              <a:t>Parametri misurabili: benzene, toluene, xilene, ozono, biossodo di zolfo, biossido di azo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9933"/>
                </a:solidFill>
                <a:latin typeface="Comic Sans MS"/>
              </a:rPr>
              <a:t>LID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9933"/>
                </a:solidFill>
                <a:latin typeface="Comic Sans MS"/>
              </a:rPr>
              <a:t>LIght Detection And Rang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9933"/>
                </a:solidFill>
                <a:latin typeface="Comic Sans MS"/>
              </a:rPr>
              <a:t>Monitoraggio 3D su zone ampie geograficamente referenziab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9933"/>
                </a:solidFill>
                <a:latin typeface="Comic Sans MS"/>
              </a:rPr>
              <a:t>Retrodiffusione elastisca: PM10, aeros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9933"/>
                </a:solidFill>
                <a:latin typeface="Comic Sans MS"/>
              </a:rPr>
              <a:t>RAMAN: vapor acqueo, temperatura, ozon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9933"/>
                </a:solidFill>
                <a:latin typeface="Comic Sans MS"/>
              </a:rPr>
              <a:t>DIAL: biossodo di zolfo, biossido di azoto, benzene, toluene, ozono, metano, biossido di carbon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0FFD4-9D17-48FC-91C2-32E92C513310}" type="slidenum">
              <a:t>26</a:t>
            </a:fld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468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9920" y="200160"/>
            <a:ext cx="7848720" cy="111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99"/>
                </a:solidFill>
                <a:latin typeface="Futura Md BT"/>
              </a:rPr>
              <a:t>L’idea di MEDUSE</a:t>
            </a:r>
            <a:endParaRPr b="1" lang="en-US" sz="4400" spc="-1" strike="noStrike">
              <a:solidFill>
                <a:srgbClr val="ffff66"/>
              </a:solidFill>
              <a:latin typeface="Futura Md B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90720" y="152388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58880" indent="-758880" algn="just">
              <a:lnSpc>
                <a:spcPct val="110000"/>
              </a:lnSpc>
              <a:spcBef>
                <a:spcPts val="11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Sensori optoelettronici 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lvl="1" marL="1235160" indent="-285840" algn="just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pplicazione al controllo dell’ambient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2819520"/>
            <a:ext cx="990720" cy="2743200"/>
          </a:xfrm>
          <a:custGeom>
            <a:avLst/>
            <a:gdLst>
              <a:gd name="textAreaLeft" fmla="*/ 132480 w 990720"/>
              <a:gd name="textAreaRight" fmla="*/ 858240 w 990720"/>
              <a:gd name="textAreaTop" fmla="*/ 479880 h 2743200"/>
              <a:gd name="textAreaBottom" fmla="*/ 198900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7040" y="3309840"/>
            <a:ext cx="7162920" cy="2719440"/>
          </a:xfrm>
          <a:prstGeom prst="rect">
            <a:avLst/>
          </a:prstGeom>
          <a:noFill/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7000"/>
          </a:bodyPr>
          <a:p>
            <a:pPr algn="just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Migliorare la qualità dell’aria e delle acque in aree industriali attraverso l’individuazione di un sistema efficace di monitoraggio ambienta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A40F7-C009-49C3-BCA8-70A2590D7A51}" type="slidenum">
              <a:t>3</a:t>
            </a:fld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468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2640" y="723960"/>
            <a:ext cx="800100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190512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99"/>
                </a:solidFill>
                <a:latin typeface="Futura Md BT"/>
              </a:rPr>
              <a:t>AZIONI</a:t>
            </a:r>
            <a:endParaRPr b="1" lang="en-US" sz="4000" spc="-1" strike="noStrike">
              <a:solidFill>
                <a:srgbClr val="ffff66"/>
              </a:solidFill>
              <a:latin typeface="Futura Md B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2640" y="1447560"/>
            <a:ext cx="8001000" cy="504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Coordinamento attività 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(IFAC)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Monitoraggio acque reflue industriali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omic Sans MS"/>
              </a:rPr>
              <a:t>Caratteristiche rete di monitoraggio 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(IFAC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omic Sans MS"/>
              </a:rPr>
              <a:t>Ricognizione parametri da misurare 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(IFAC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omic Sans MS"/>
              </a:rPr>
              <a:t>Ricognizioni metodologie ottiche 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(IFAC UNI-PI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omic Sans MS"/>
              </a:rPr>
              <a:t>Confronto e sviluppo metodologie per il COD 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(IFAC UNI-PI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Monitoraggio emissioni in atmosfera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omic Sans MS"/>
              </a:rPr>
              <a:t>Ricognizioni caratteristiche emissioni in area industriale 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(UPC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omic Sans MS"/>
              </a:rPr>
              <a:t>Ricognizione parametri e inquinanti atmosferici misurabili con lidar 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(CETEMPS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omic Sans MS"/>
              </a:rPr>
              <a:t>Ricognizione modelli e sensori ottici per parametri atmosferici 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(INOA CSSC)</a:t>
            </a:r>
            <a:r>
              <a:rPr b="1" lang="it-IT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omic Sans MS"/>
              </a:rPr>
              <a:t>Sviluppo metodologia, modello e sensore per il CH</a:t>
            </a:r>
            <a:r>
              <a:rPr b="1" lang="it-IT" sz="1800" spc="-1" strike="noStrike" baseline="-25000">
                <a:solidFill>
                  <a:srgbClr val="ffffff"/>
                </a:solidFill>
                <a:latin typeface="Comic Sans MS"/>
              </a:rPr>
              <a:t>4</a:t>
            </a:r>
            <a:r>
              <a:rPr b="1" lang="it-IT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(INOA CSSC)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AD47C-CCC4-4E1C-ADFC-04E91A29F343}" type="slidenum">
              <a:t>4</a:t>
            </a:fld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468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280" y="761760"/>
            <a:ext cx="88884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Tahoma"/>
                <a:ea typeface="Times New Roman"/>
              </a:rPr>
              <a:t>Sensori optoelettronici</a:t>
            </a:r>
            <a:br>
              <a:rPr sz="4400"/>
            </a:br>
            <a:r>
              <a:rPr b="1" lang="en-GB" sz="4400" spc="-1" strike="noStrike">
                <a:solidFill>
                  <a:srgbClr val="ffff66"/>
                </a:solidFill>
                <a:latin typeface="Tahoma"/>
                <a:ea typeface="Times New Roman"/>
              </a:rPr>
              <a:t>per la qualità delle acque</a:t>
            </a:r>
            <a:r>
              <a:rPr b="1" lang="en-GB" sz="3800" spc="-1" strike="noStrike">
                <a:solidFill>
                  <a:srgbClr val="ffff66"/>
                </a:solidFill>
                <a:latin typeface="Tahoma"/>
                <a:ea typeface="Times New Roman"/>
              </a:rPr>
              <a:t>  </a:t>
            </a:r>
            <a:endParaRPr b="1" lang="en-US" sz="3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7640" y="4190760"/>
            <a:ext cx="83311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06088-A004-4EB4-A34E-9B92E13B0836}" type="slidenum">
              <a:t>5</a:t>
            </a:fld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468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66"/>
                </a:solidFill>
                <a:latin typeface="Futura Md BT"/>
              </a:rPr>
              <a:t>QUADRO NORMATIVO</a:t>
            </a:r>
            <a:endParaRPr b="1" lang="en-US" sz="4400" spc="-1" strike="noStrike">
              <a:solidFill>
                <a:srgbClr val="ffff66"/>
              </a:solidFill>
              <a:latin typeface="Futura Md BT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1143000" y="1530360"/>
            <a:ext cx="7696080" cy="4781160"/>
            <a:chOff x="1143000" y="1530360"/>
            <a:chExt cx="7696080" cy="4781160"/>
          </a:xfrm>
        </p:grpSpPr>
        <p:sp>
          <p:nvSpPr>
            <p:cNvPr id="160" name=""/>
            <p:cNvSpPr/>
            <p:nvPr/>
          </p:nvSpPr>
          <p:spPr>
            <a:xfrm>
              <a:off x="1143000" y="1530360"/>
              <a:ext cx="4267080" cy="52020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ffff"/>
                  </a:solidFill>
                  <a:latin typeface="Times New Roman"/>
                </a:rPr>
                <a:t>Direttiva 91/271/CEE (Trattamento delle acque reflue urbane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143000" y="2211480"/>
              <a:ext cx="4267080" cy="73332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ffff"/>
                  </a:solidFill>
                  <a:latin typeface="Times New Roman"/>
                </a:rPr>
                <a:t>Direttiva 91/676/CEE (Protezione delle acque dall’inquinamento provocato dai nitrati provenienti da fonti agricole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43000" y="3106800"/>
              <a:ext cx="4267080" cy="946440"/>
            </a:xfrm>
            <a:prstGeom prst="rect">
              <a:avLst/>
            </a:prstGeom>
            <a:noFill/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ffff"/>
                  </a:solidFill>
                  <a:latin typeface="Times New Roman"/>
                </a:rPr>
                <a:t>Decreto legislativo 11 maggio 1999, n.152 (disposizioni sulla tutela delle acque dall'inquinamento e recepimento della Direttiva 91/271/CEE e della Direttiva 91/676/CEE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43000" y="4213080"/>
              <a:ext cx="4267080" cy="733320"/>
            </a:xfrm>
            <a:prstGeom prst="rect">
              <a:avLst/>
            </a:prstGeom>
            <a:noFill/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ffff"/>
                  </a:solidFill>
                  <a:latin typeface="Times New Roman"/>
                </a:rPr>
                <a:t>Legge Regionale 64/2001 (norme sullo scarico di acque reflue ed ulteriori modifiche alla Legge Regionale 1 dicembre 1998, n.88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43000" y="5108400"/>
              <a:ext cx="4267080" cy="520200"/>
            </a:xfrm>
            <a:prstGeom prst="rect">
              <a:avLst/>
            </a:prstGeom>
            <a:noFill/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ffff"/>
                  </a:solidFill>
                  <a:latin typeface="Times New Roman"/>
                </a:rPr>
                <a:t>Regolamento Regionale n. 28/2002 di attuazione della Legge Regionale n. 64/200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43000" y="5791320"/>
              <a:ext cx="4267080" cy="520200"/>
            </a:xfrm>
            <a:prstGeom prst="rect">
              <a:avLst/>
            </a:prstGeom>
            <a:noFill/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ffff"/>
                  </a:solidFill>
                  <a:latin typeface="Times New Roman"/>
                </a:rPr>
                <a:t>DM 185/2003 recante le norme tecniche di attuazione per il recupero delle acque reflue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915160" y="3603600"/>
              <a:ext cx="2895480" cy="1008720"/>
            </a:xfrm>
            <a:prstGeom prst="rect">
              <a:avLst/>
            </a:prstGeom>
            <a:noFill/>
            <a:ln w="7632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ffffff"/>
                  </a:solidFill>
                  <a:latin typeface="Times New Roman"/>
                </a:rPr>
                <a:t>Parametri, modalità di campionamento ed analisi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884920" y="1828800"/>
              <a:ext cx="2954160" cy="703800"/>
            </a:xfrm>
            <a:prstGeom prst="rect">
              <a:avLst/>
            </a:prstGeom>
            <a:noFill/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ffffff"/>
                  </a:solidFill>
                  <a:latin typeface="Times New Roman"/>
                </a:rPr>
                <a:t>Principi generali del quadro di insiem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943600" y="5280120"/>
              <a:ext cx="2836800" cy="703800"/>
            </a:xfrm>
            <a:prstGeom prst="rect">
              <a:avLst/>
            </a:prstGeom>
            <a:noFill/>
            <a:ln w="76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ffffff"/>
                  </a:solidFill>
                  <a:latin typeface="Times New Roman"/>
                </a:rPr>
                <a:t>Autorizzazioni, controlli e ruolo P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375CE-33D1-493D-98ED-9FF03FB3287A}" type="slidenum">
              <a:t>6</a:t>
            </a:fld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468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42640" y="371160"/>
            <a:ext cx="8001000" cy="77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66"/>
                </a:solidFill>
                <a:latin typeface="Futura Md BT"/>
              </a:rPr>
              <a:t>PARAMETRI ACQUE INDUSTRIALI</a:t>
            </a:r>
            <a:endParaRPr b="1" lang="en-US" sz="3200" spc="-1" strike="noStrike">
              <a:solidFill>
                <a:srgbClr val="ffff66"/>
              </a:solidFill>
              <a:latin typeface="Futura Md BT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069920" y="1368360"/>
          <a:ext cx="7467480" cy="4919400"/>
        </p:xfrm>
        <a:graphic>
          <a:graphicData uri="http://schemas.openxmlformats.org/drawingml/2006/table">
            <a:tbl>
              <a:tblPr/>
              <a:tblGrid>
                <a:gridCol w="2562120"/>
                <a:gridCol w="3587760"/>
                <a:gridCol w="1317600"/>
              </a:tblGrid>
              <a:tr h="273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zoto ammoniacale, NH</a:t>
                      </a:r>
                      <a:r>
                        <a:rPr b="0" lang="it-IT" sz="10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4</a:t>
                      </a: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</a:t>
                      </a:r>
                      <a:r>
                        <a:rPr b="0" lang="it-IT" sz="10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+</a:t>
                      </a: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pettrofotometria assorbimento molecolar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&lt;30 mg/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zoto nitrico, 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pettrofotometria assorbiment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&lt;30 mg/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zoto nitroso, 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pettrofotometria assorbiment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&lt;0.6 mg/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loruri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etodo mercurimetrico con indicator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&lt;1200 mg/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olor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etodo fotometric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  (diluito 1/40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Odor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iluizioni successiv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No molesti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omanda biochimica di ossigeno (BOD5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Ossigeno disciolto (incubazione 5 giorni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&lt;250 mg/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omanda chimica di ossigeno (COD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etodo al bicromato di potassi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&lt;500 mg/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Fenoli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pettrofotometria di assorbiment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&lt;1 mg/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Fosforo total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etodo spettrofotometric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&lt;10 mg/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orbidit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ssorbimento, diffusione e retrodiffusion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olidi sospesi totali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Gravimetria, centrifugazione, filtrazione, essiccazion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&lt;200 mg/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etalli (Al Cd Cr Fe Pb Cu Mn Zn Sn 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pettrofotometria assorbimento atomic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Elettrometri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.5-9.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ensioattivi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pettrofotometria di assorbiment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&lt;4 mg/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asso di saturazione Ossigeno disciolt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etodo di Winkle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drocarburi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Fluorescenza UV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&lt;10 mg/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rom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pettrometria assorbimento atomico , Spettrofotometria di assorbimento molecolar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&lt;4 mg/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olfati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Gravimetria, complessometria EDTA, Spettrofotometria molecolar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&lt;1000 mg/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F1137-F546-4406-AA1E-D95FD201862D}" type="slidenum">
              <a:t>7</a:t>
            </a:fld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468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2640" y="180720"/>
            <a:ext cx="800100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66"/>
                </a:solidFill>
                <a:latin typeface="Futura Md BT"/>
              </a:rPr>
              <a:t>SENSORI IN LINEA</a:t>
            </a:r>
            <a:endParaRPr b="1" lang="en-US" sz="4400" spc="-1" strike="noStrike">
              <a:solidFill>
                <a:srgbClr val="ffff66"/>
              </a:solidFill>
              <a:latin typeface="Futura Md BT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1143000" y="1050840"/>
            <a:ext cx="7719840" cy="5294520"/>
            <a:chOff x="1143000" y="1050840"/>
            <a:chExt cx="7719840" cy="5294520"/>
          </a:xfrm>
        </p:grpSpPr>
        <p:sp>
          <p:nvSpPr>
            <p:cNvPr id="173" name=""/>
            <p:cNvSpPr/>
            <p:nvPr/>
          </p:nvSpPr>
          <p:spPr>
            <a:xfrm>
              <a:off x="1143000" y="1050840"/>
              <a:ext cx="7719840" cy="5294520"/>
            </a:xfrm>
            <a:prstGeom prst="rect">
              <a:avLst/>
            </a:prstGeom>
            <a:solidFill>
              <a:srgbClr val="cbcbcb"/>
            </a:solidFill>
            <a:ln w="936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1301040" y="1121760"/>
              <a:ext cx="7031520" cy="5118120"/>
              <a:chOff x="1301040" y="1121760"/>
              <a:chExt cx="7031520" cy="5118120"/>
            </a:xfrm>
          </p:grpSpPr>
          <p:cxnSp>
            <p:nvCxnSpPr>
              <p:cNvPr id="175" name=""/>
              <p:cNvCxnSpPr>
                <a:stCxn id="176" idx="3"/>
                <a:endCxn id="177" idx="1"/>
              </p:cNvCxnSpPr>
              <p:nvPr/>
            </p:nvCxnSpPr>
            <p:spPr>
              <a:xfrm flipV="1">
                <a:off x="3138480" y="5849280"/>
                <a:ext cx="1489680" cy="191880"/>
              </a:xfrm>
              <a:prstGeom prst="bentConnector2">
                <a:avLst/>
              </a:prstGeom>
              <a:ln w="28440">
                <a:solidFill>
                  <a:srgbClr val="808000"/>
                </a:solidFill>
                <a:miter/>
                <a:tailEnd len="med" type="triangle" w="med"/>
              </a:ln>
            </p:spPr>
          </p:cxnSp>
          <p:sp>
            <p:nvSpPr>
              <p:cNvPr id="178" name=""/>
              <p:cNvSpPr/>
              <p:nvPr/>
            </p:nvSpPr>
            <p:spPr>
              <a:xfrm>
                <a:off x="1985040" y="2935440"/>
                <a:ext cx="1200240" cy="398880"/>
              </a:xfrm>
              <a:prstGeom prst="rect">
                <a:avLst/>
              </a:prstGeom>
              <a:gradFill rotWithShape="0">
                <a:gsLst>
                  <a:gs pos="0">
                    <a:srgbClr val="996633"/>
                  </a:gs>
                  <a:gs pos="100000">
                    <a:srgbClr val="cccc00"/>
                  </a:gs>
                </a:gsLst>
                <a:lin ang="10800000"/>
              </a:gra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4d4d4d"/>
                    </a:solidFill>
                    <a:latin typeface="Times New Roman"/>
                  </a:rPr>
                  <a:t>Industria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985040" y="3410640"/>
                <a:ext cx="1200240" cy="398880"/>
              </a:xfrm>
              <a:prstGeom prst="rect">
                <a:avLst/>
              </a:prstGeom>
              <a:gradFill rotWithShape="0">
                <a:gsLst>
                  <a:gs pos="0">
                    <a:srgbClr val="996633"/>
                  </a:gs>
                  <a:gs pos="100000">
                    <a:srgbClr val="cccc00"/>
                  </a:gs>
                </a:gsLst>
                <a:lin ang="10800000"/>
              </a:gra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4d4d4d"/>
                    </a:solidFill>
                    <a:latin typeface="Times New Roman"/>
                  </a:rPr>
                  <a:t>Industria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985040" y="4247640"/>
                <a:ext cx="1200240" cy="398880"/>
              </a:xfrm>
              <a:prstGeom prst="rect">
                <a:avLst/>
              </a:prstGeom>
              <a:gradFill rotWithShape="0">
                <a:gsLst>
                  <a:gs pos="0">
                    <a:srgbClr val="996633"/>
                  </a:gs>
                  <a:gs pos="100000">
                    <a:srgbClr val="cccc00"/>
                  </a:gs>
                </a:gsLst>
                <a:lin ang="10800000"/>
              </a:gra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4d4d4d"/>
                    </a:solidFill>
                    <a:latin typeface="Times New Roman"/>
                  </a:rPr>
                  <a:t>Industria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985040" y="4672080"/>
                <a:ext cx="1200240" cy="398880"/>
              </a:xfrm>
              <a:prstGeom prst="rect">
                <a:avLst/>
              </a:prstGeom>
              <a:gradFill rotWithShape="0">
                <a:gsLst>
                  <a:gs pos="0">
                    <a:srgbClr val="996633"/>
                  </a:gs>
                  <a:gs pos="100000">
                    <a:srgbClr val="cccc00"/>
                  </a:gs>
                </a:gsLst>
                <a:lin ang="10800000"/>
              </a:gra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4d4d4d"/>
                    </a:solidFill>
                    <a:latin typeface="Times New Roman"/>
                  </a:rPr>
                  <a:t>Industria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985040" y="5279040"/>
                <a:ext cx="1200240" cy="398880"/>
              </a:xfrm>
              <a:prstGeom prst="rect">
                <a:avLst/>
              </a:prstGeom>
              <a:gradFill rotWithShape="0">
                <a:gsLst>
                  <a:gs pos="0">
                    <a:srgbClr val="996633"/>
                  </a:gs>
                  <a:gs pos="100000">
                    <a:srgbClr val="cccc00"/>
                  </a:gs>
                </a:gsLst>
                <a:lin ang="10800000"/>
              </a:gra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4d4d4d"/>
                    </a:solidFill>
                    <a:latin typeface="Times New Roman"/>
                  </a:rPr>
                  <a:t>Industria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797840" y="5841000"/>
                <a:ext cx="1312920" cy="398880"/>
              </a:xfrm>
              <a:prstGeom prst="rect">
                <a:avLst/>
              </a:prstGeom>
              <a:gradFill rotWithShape="0">
                <a:gsLst>
                  <a:gs pos="0">
                    <a:srgbClr val="808000"/>
                  </a:gs>
                  <a:gs pos="100000">
                    <a:srgbClr val="ff9933"/>
                  </a:gs>
                </a:gsLst>
                <a:lin ang="10800000"/>
              </a:gra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4d4d4d"/>
                    </a:solidFill>
                    <a:latin typeface="Times New Roman"/>
                  </a:rPr>
                  <a:t>Abitazioni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554800" y="4534560"/>
                <a:ext cx="2220840" cy="1275120"/>
              </a:xfrm>
              <a:prstGeom prst="rect">
                <a:avLst/>
              </a:prstGeom>
              <a:gradFill rotWithShape="0">
                <a:gsLst>
                  <a:gs pos="0">
                    <a:srgbClr val="cc9900"/>
                  </a:gs>
                  <a:gs pos="100000">
                    <a:srgbClr val="996633"/>
                  </a:gs>
                </a:gsLst>
                <a:lin ang="5400000"/>
              </a:gra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330099"/>
                    </a:solidFill>
                    <a:latin typeface="Times New Roman"/>
                  </a:rPr>
                  <a:t>Impianto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330099"/>
                    </a:solidFill>
                    <a:latin typeface="Times New Roman"/>
                  </a:rPr>
                  <a:t>depurazione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554800" y="2895120"/>
                <a:ext cx="2220840" cy="971280"/>
              </a:xfrm>
              <a:prstGeom prst="rect">
                <a:avLst/>
              </a:prstGeom>
              <a:gradFill rotWithShape="0">
                <a:gsLst>
                  <a:gs pos="0">
                    <a:srgbClr val="cccc00"/>
                  </a:gs>
                  <a:gs pos="100000">
                    <a:srgbClr val="cc9900"/>
                  </a:gs>
                </a:gsLst>
                <a:lin ang="5400000"/>
              </a:gra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330099"/>
                    </a:solidFill>
                    <a:latin typeface="Times New Roman"/>
                  </a:rPr>
                  <a:t>Riciclo per uso industriale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 rot="16200000">
                <a:off x="3947400" y="4971600"/>
                <a:ext cx="1333080" cy="398880"/>
              </a:xfrm>
              <a:prstGeom prst="rect">
                <a:avLst/>
              </a:prstGeom>
              <a:solidFill>
                <a:srgbClr val="996633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330099"/>
                    </a:solidFill>
                    <a:latin typeface="Times New Roman"/>
                  </a:rPr>
                  <a:t>Collettore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85" name=""/>
              <p:cNvCxnSpPr>
                <a:stCxn id="178" idx="3"/>
                <a:endCxn id="177" idx="0"/>
              </p:cNvCxnSpPr>
              <p:nvPr/>
            </p:nvCxnSpPr>
            <p:spPr>
              <a:xfrm>
                <a:off x="3212640" y="3135600"/>
                <a:ext cx="1188360" cy="2034720"/>
              </a:xfrm>
              <a:prstGeom prst="bentConnector3">
                <a:avLst>
                  <a:gd name="adj1" fmla="val 50000"/>
                </a:avLst>
              </a:prstGeom>
              <a:ln w="28440">
                <a:solidFill>
                  <a:srgbClr val="996633"/>
                </a:solidFill>
                <a:miter/>
                <a:tailEnd len="med" type="triangle" w="med"/>
              </a:ln>
            </p:spPr>
          </p:cxnSp>
          <p:cxnSp>
            <p:nvCxnSpPr>
              <p:cNvPr id="186" name=""/>
              <p:cNvCxnSpPr>
                <a:stCxn id="179" idx="3"/>
                <a:endCxn id="177" idx="0"/>
              </p:cNvCxnSpPr>
              <p:nvPr/>
            </p:nvCxnSpPr>
            <p:spPr>
              <a:xfrm>
                <a:off x="3212640" y="3612240"/>
                <a:ext cx="1188360" cy="1558080"/>
              </a:xfrm>
              <a:prstGeom prst="bentConnector3">
                <a:avLst>
                  <a:gd name="adj1" fmla="val 50000"/>
                </a:avLst>
              </a:prstGeom>
              <a:ln w="28440">
                <a:solidFill>
                  <a:srgbClr val="996633"/>
                </a:solidFill>
                <a:miter/>
                <a:tailEnd len="med" type="triangle" w="med"/>
              </a:ln>
            </p:spPr>
          </p:cxnSp>
          <p:cxnSp>
            <p:nvCxnSpPr>
              <p:cNvPr id="187" name=""/>
              <p:cNvCxnSpPr>
                <a:stCxn id="180" idx="3"/>
                <a:endCxn id="177" idx="0"/>
              </p:cNvCxnSpPr>
              <p:nvPr/>
            </p:nvCxnSpPr>
            <p:spPr>
              <a:xfrm>
                <a:off x="3212640" y="4447440"/>
                <a:ext cx="1188360" cy="722520"/>
              </a:xfrm>
              <a:prstGeom prst="bentConnector3">
                <a:avLst>
                  <a:gd name="adj1" fmla="val 50000"/>
                </a:avLst>
              </a:prstGeom>
              <a:ln w="28440">
                <a:solidFill>
                  <a:srgbClr val="996633"/>
                </a:solidFill>
                <a:miter/>
                <a:tailEnd len="med" type="triangle" w="med"/>
              </a:ln>
            </p:spPr>
          </p:cxnSp>
          <p:cxnSp>
            <p:nvCxnSpPr>
              <p:cNvPr id="188" name=""/>
              <p:cNvCxnSpPr>
                <a:stCxn id="181" idx="3"/>
                <a:endCxn id="177" idx="0"/>
              </p:cNvCxnSpPr>
              <p:nvPr/>
            </p:nvCxnSpPr>
            <p:spPr>
              <a:xfrm>
                <a:off x="3212640" y="4872240"/>
                <a:ext cx="1188360" cy="297720"/>
              </a:xfrm>
              <a:prstGeom prst="bentConnector3">
                <a:avLst>
                  <a:gd name="adj1" fmla="val 50000"/>
                </a:avLst>
              </a:prstGeom>
              <a:ln w="28440">
                <a:solidFill>
                  <a:srgbClr val="996633"/>
                </a:solidFill>
                <a:miter/>
                <a:tailEnd len="med" type="triangle" w="med"/>
              </a:ln>
            </p:spPr>
          </p:cxnSp>
          <p:cxnSp>
            <p:nvCxnSpPr>
              <p:cNvPr id="189" name=""/>
              <p:cNvCxnSpPr>
                <a:stCxn id="182" idx="3"/>
                <a:endCxn id="177" idx="0"/>
              </p:cNvCxnSpPr>
              <p:nvPr/>
            </p:nvCxnSpPr>
            <p:spPr>
              <a:xfrm flipV="1">
                <a:off x="3212640" y="5169240"/>
                <a:ext cx="1188360" cy="309960"/>
              </a:xfrm>
              <a:prstGeom prst="bentConnector3">
                <a:avLst>
                  <a:gd name="adj1" fmla="val 50000"/>
                </a:avLst>
              </a:prstGeom>
              <a:ln w="28440">
                <a:solidFill>
                  <a:srgbClr val="996633"/>
                </a:solidFill>
                <a:miter/>
                <a:tailEnd len="med" type="triangle" w="med"/>
              </a:ln>
            </p:spPr>
          </p:cxnSp>
          <p:cxnSp>
            <p:nvCxnSpPr>
              <p:cNvPr id="190" name=""/>
              <p:cNvCxnSpPr>
                <a:stCxn id="177" idx="2"/>
                <a:endCxn id="183" idx="1"/>
              </p:cNvCxnSpPr>
              <p:nvPr/>
            </p:nvCxnSpPr>
            <p:spPr>
              <a:xfrm>
                <a:off x="4854240" y="5169960"/>
                <a:ext cx="686520" cy="3600"/>
              </a:xfrm>
              <a:prstGeom prst="bentConnector3">
                <a:avLst>
                  <a:gd name="adj1" fmla="val 50000"/>
                </a:avLst>
              </a:prstGeom>
              <a:ln w="28440">
                <a:solidFill>
                  <a:srgbClr val="996633"/>
                </a:solidFill>
                <a:miter/>
                <a:tailEnd len="med" type="triangle" w="med"/>
              </a:ln>
            </p:spPr>
          </p:cxnSp>
          <p:cxnSp>
            <p:nvCxnSpPr>
              <p:cNvPr id="191" name=""/>
              <p:cNvCxnSpPr>
                <a:stCxn id="183" idx="0"/>
                <a:endCxn id="184" idx="2"/>
              </p:cNvCxnSpPr>
              <p:nvPr/>
            </p:nvCxnSpPr>
            <p:spPr>
              <a:xfrm flipV="1">
                <a:off x="6665400" y="3877560"/>
                <a:ext cx="1080" cy="644760"/>
              </a:xfrm>
              <a:prstGeom prst="bentConnector2">
                <a:avLst/>
              </a:prstGeom>
              <a:ln w="28440">
                <a:solidFill>
                  <a:srgbClr val="cc9900"/>
                </a:solidFill>
                <a:miter/>
                <a:tailEnd len="med" type="triangle" w="med"/>
              </a:ln>
            </p:spPr>
          </p:cxnSp>
          <p:cxnSp>
            <p:nvCxnSpPr>
              <p:cNvPr id="192" name=""/>
              <p:cNvCxnSpPr>
                <a:stCxn id="184" idx="0"/>
                <a:endCxn id="178" idx="1"/>
              </p:cNvCxnSpPr>
              <p:nvPr/>
            </p:nvCxnSpPr>
            <p:spPr>
              <a:xfrm rot="5400000">
                <a:off x="4200120" y="639720"/>
                <a:ext cx="220320" cy="4710240"/>
              </a:xfrm>
              <a:prstGeom prst="bentConnector4">
                <a:avLst>
                  <a:gd name="adj1" fmla="val -186252"/>
                  <a:gd name="adj2" fmla="val 109806"/>
                </a:avLst>
              </a:prstGeom>
              <a:ln w="28440">
                <a:solidFill>
                  <a:srgbClr val="cccc00"/>
                </a:solidFill>
                <a:miter/>
                <a:tailEnd len="med" type="triangle" w="med"/>
              </a:ln>
            </p:spPr>
          </p:cxnSp>
          <p:cxnSp>
            <p:nvCxnSpPr>
              <p:cNvPr id="193" name=""/>
              <p:cNvCxnSpPr>
                <a:stCxn id="184" idx="0"/>
                <a:endCxn id="179" idx="1"/>
              </p:cNvCxnSpPr>
              <p:nvPr/>
            </p:nvCxnSpPr>
            <p:spPr>
              <a:xfrm rot="5400000">
                <a:off x="3961080" y="878760"/>
                <a:ext cx="698400" cy="4710240"/>
              </a:xfrm>
              <a:prstGeom prst="bentConnector4">
                <a:avLst>
                  <a:gd name="adj1" fmla="val -56936"/>
                  <a:gd name="adj2" fmla="val 109806"/>
                </a:avLst>
              </a:prstGeom>
              <a:ln w="28440">
                <a:solidFill>
                  <a:srgbClr val="cccc00"/>
                </a:solidFill>
                <a:miter/>
                <a:tailEnd len="med" type="triangle" w="med"/>
              </a:ln>
            </p:spPr>
          </p:cxnSp>
          <p:cxnSp>
            <p:nvCxnSpPr>
              <p:cNvPr id="194" name=""/>
              <p:cNvCxnSpPr>
                <a:stCxn id="184" idx="0"/>
                <a:endCxn id="180" idx="1"/>
              </p:cNvCxnSpPr>
              <p:nvPr/>
            </p:nvCxnSpPr>
            <p:spPr>
              <a:xfrm rot="5400000">
                <a:off x="3544200" y="1294920"/>
                <a:ext cx="1532520" cy="4710240"/>
              </a:xfrm>
              <a:prstGeom prst="bentConnector4">
                <a:avLst>
                  <a:gd name="adj1" fmla="val -23989"/>
                  <a:gd name="adj2" fmla="val 110012"/>
                </a:avLst>
              </a:prstGeom>
              <a:ln w="28440">
                <a:solidFill>
                  <a:srgbClr val="cccc00"/>
                </a:solidFill>
                <a:miter/>
                <a:tailEnd len="med" type="triangle" w="med"/>
              </a:ln>
            </p:spPr>
          </p:cxnSp>
          <p:cxnSp>
            <p:nvCxnSpPr>
              <p:cNvPr id="195" name=""/>
              <p:cNvCxnSpPr>
                <a:stCxn id="184" idx="0"/>
                <a:endCxn id="181" idx="1"/>
              </p:cNvCxnSpPr>
              <p:nvPr/>
            </p:nvCxnSpPr>
            <p:spPr>
              <a:xfrm rot="5400000">
                <a:off x="3331800" y="1508040"/>
                <a:ext cx="1956960" cy="4710240"/>
              </a:xfrm>
              <a:prstGeom prst="bentConnector4">
                <a:avLst>
                  <a:gd name="adj1" fmla="val -19558"/>
                  <a:gd name="adj2" fmla="val 110112"/>
                </a:avLst>
              </a:prstGeom>
              <a:ln w="28440">
                <a:solidFill>
                  <a:srgbClr val="cccc00"/>
                </a:solidFill>
                <a:miter/>
                <a:tailEnd len="med" type="triangle" w="med"/>
              </a:ln>
            </p:spPr>
          </p:cxnSp>
          <p:cxnSp>
            <p:nvCxnSpPr>
              <p:cNvPr id="196" name=""/>
              <p:cNvCxnSpPr>
                <a:stCxn id="184" idx="0"/>
                <a:endCxn id="182" idx="1"/>
              </p:cNvCxnSpPr>
              <p:nvPr/>
            </p:nvCxnSpPr>
            <p:spPr>
              <a:xfrm rot="5400000">
                <a:off x="3027600" y="1812240"/>
                <a:ext cx="2565360" cy="4710240"/>
              </a:xfrm>
              <a:prstGeom prst="bentConnector4">
                <a:avLst>
                  <a:gd name="adj1" fmla="val -14385"/>
                  <a:gd name="adj2" fmla="val 110150"/>
                </a:avLst>
              </a:prstGeom>
              <a:ln w="28440">
                <a:solidFill>
                  <a:srgbClr val="cccc00"/>
                </a:solidFill>
                <a:miter/>
                <a:tailEnd len="med" type="triangle" w="med"/>
              </a:ln>
            </p:spPr>
          </p:cxnSp>
          <p:sp>
            <p:nvSpPr>
              <p:cNvPr id="197" name=""/>
              <p:cNvSpPr/>
              <p:nvPr/>
            </p:nvSpPr>
            <p:spPr>
              <a:xfrm>
                <a:off x="2631960" y="1959120"/>
                <a:ext cx="3151080" cy="398880"/>
              </a:xfrm>
              <a:prstGeom prst="rect">
                <a:avLst/>
              </a:prstGeom>
              <a:solidFill>
                <a:srgbClr val="330099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cbcbcb"/>
                    </a:solidFill>
                    <a:latin typeface="Times New Roman"/>
                  </a:rPr>
                  <a:t>Acquedotto ad uso potabile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98" name=""/>
              <p:cNvCxnSpPr>
                <a:stCxn id="197" idx="1"/>
                <a:endCxn id="176" idx="1"/>
              </p:cNvCxnSpPr>
              <p:nvPr/>
            </p:nvCxnSpPr>
            <p:spPr>
              <a:xfrm flipV="1" rot="10800000">
                <a:off x="1769400" y="2158920"/>
                <a:ext cx="840600" cy="3882240"/>
              </a:xfrm>
              <a:prstGeom prst="bentConnector3">
                <a:avLst>
                  <a:gd name="adj1" fmla="val 155741"/>
                </a:avLst>
              </a:prstGeom>
              <a:ln w="28440">
                <a:solidFill>
                  <a:srgbClr val="330099"/>
                </a:solidFill>
                <a:miter/>
                <a:tailEnd len="med" type="triangle" w="med"/>
              </a:ln>
            </p:spPr>
          </p:cxnSp>
          <p:cxnSp>
            <p:nvCxnSpPr>
              <p:cNvPr id="199" name=""/>
              <p:cNvCxnSpPr>
                <a:stCxn id="200" idx="3"/>
                <a:endCxn id="184" idx="3"/>
              </p:cNvCxnSpPr>
              <p:nvPr/>
            </p:nvCxnSpPr>
            <p:spPr>
              <a:xfrm>
                <a:off x="5273640" y="1537560"/>
                <a:ext cx="2517120" cy="1843560"/>
              </a:xfrm>
              <a:prstGeom prst="bentConnector3">
                <a:avLst>
                  <a:gd name="adj1" fmla="val 108510"/>
                </a:avLst>
              </a:prstGeom>
              <a:ln w="28440">
                <a:solidFill>
                  <a:srgbClr val="330099"/>
                </a:solidFill>
                <a:miter/>
                <a:tailEnd len="med" type="triangle" w="med"/>
              </a:ln>
            </p:spPr>
          </p:cxnSp>
          <p:grpSp>
            <p:nvGrpSpPr>
              <p:cNvPr id="201" name=""/>
              <p:cNvGrpSpPr/>
              <p:nvPr/>
            </p:nvGrpSpPr>
            <p:grpSpPr>
              <a:xfrm>
                <a:off x="1798560" y="2629080"/>
                <a:ext cx="1668600" cy="1223640"/>
                <a:chOff x="1798560" y="2629080"/>
                <a:chExt cx="1668600" cy="122364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1798560" y="2745000"/>
                  <a:ext cx="1668600" cy="1107720"/>
                </a:xfrm>
                <a:prstGeom prst="roundRect">
                  <a:avLst>
                    <a:gd name="adj" fmla="val 16667"/>
                  </a:avLst>
                </a:prstGeom>
                <a:noFill/>
                <a:ln w="9360">
                  <a:solidFill>
                    <a:srgbClr val="ff505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1870200" y="2629080"/>
                  <a:ext cx="798480" cy="276480"/>
                </a:xfrm>
                <a:prstGeom prst="rect">
                  <a:avLst/>
                </a:prstGeom>
                <a:solidFill>
                  <a:srgbClr val="cbcb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it-IT" sz="1200" spc="-1" strike="noStrike">
                      <a:solidFill>
                        <a:srgbClr val="ff5050"/>
                      </a:solidFill>
                      <a:latin typeface="Times New Roman"/>
                    </a:rPr>
                    <a:t>tessile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1827360" y="3968280"/>
                <a:ext cx="1609560" cy="1212840"/>
                <a:chOff x="1827360" y="3968280"/>
                <a:chExt cx="1609560" cy="121284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1827360" y="4083120"/>
                  <a:ext cx="1609560" cy="1098000"/>
                </a:xfrm>
                <a:prstGeom prst="roundRect">
                  <a:avLst>
                    <a:gd name="adj" fmla="val 16667"/>
                  </a:avLst>
                </a:prstGeom>
                <a:noFill/>
                <a:ln w="9360">
                  <a:solidFill>
                    <a:srgbClr val="ff505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895400" y="3968280"/>
                  <a:ext cx="1174680" cy="276480"/>
                </a:xfrm>
                <a:prstGeom prst="rect">
                  <a:avLst/>
                </a:prstGeom>
                <a:solidFill>
                  <a:srgbClr val="cbcb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it-IT" sz="1200" spc="-1" strike="noStrike">
                      <a:solidFill>
                        <a:srgbClr val="ff5050"/>
                      </a:solidFill>
                      <a:latin typeface="Times New Roman"/>
                    </a:rPr>
                    <a:t>calzaturiero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0" name=""/>
              <p:cNvSpPr/>
              <p:nvPr/>
            </p:nvSpPr>
            <p:spPr>
              <a:xfrm>
                <a:off x="3212640" y="1335600"/>
                <a:ext cx="2034000" cy="398880"/>
              </a:xfrm>
              <a:prstGeom prst="rect">
                <a:avLst/>
              </a:prstGeom>
              <a:solidFill>
                <a:srgbClr val="330099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cbcbcb"/>
                    </a:solidFill>
                    <a:latin typeface="Times New Roman"/>
                  </a:rPr>
                  <a:t>Fiume / Sorgente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7" name=""/>
              <p:cNvCxnSpPr>
                <a:stCxn id="200" idx="2"/>
                <a:endCxn id="197" idx="0"/>
              </p:cNvCxnSpPr>
              <p:nvPr/>
            </p:nvCxnSpPr>
            <p:spPr>
              <a:xfrm rot="5400000">
                <a:off x="4122000" y="1837080"/>
                <a:ext cx="194760" cy="23040"/>
              </a:xfrm>
              <a:prstGeom prst="bentConnector3">
                <a:avLst>
                  <a:gd name="adj1" fmla="val 50000"/>
                </a:avLst>
              </a:prstGeom>
              <a:ln w="28440">
                <a:solidFill>
                  <a:srgbClr val="330099"/>
                </a:solidFill>
                <a:miter/>
                <a:tailEnd len="med" type="triangle" w="med"/>
              </a:ln>
            </p:spPr>
          </p:cxnSp>
          <p:cxnSp>
            <p:nvCxnSpPr>
              <p:cNvPr id="208" name=""/>
              <p:cNvCxnSpPr>
                <a:stCxn id="183" idx="3"/>
                <a:endCxn id="200" idx="0"/>
              </p:cNvCxnSpPr>
              <p:nvPr/>
            </p:nvCxnSpPr>
            <p:spPr>
              <a:xfrm flipH="1" flipV="1">
                <a:off x="4230000" y="1323360"/>
                <a:ext cx="3560040" cy="3849480"/>
              </a:xfrm>
              <a:prstGeom prst="bentConnector4">
                <a:avLst>
                  <a:gd name="adj1" fmla="val -15250"/>
                  <a:gd name="adj2" fmla="val 105237"/>
                </a:avLst>
              </a:prstGeom>
              <a:ln w="28440">
                <a:solidFill>
                  <a:srgbClr val="cc99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209" name=""/>
          <p:cNvGrpSpPr/>
          <p:nvPr/>
        </p:nvGrpSpPr>
        <p:grpSpPr>
          <a:xfrm>
            <a:off x="3429000" y="2557440"/>
            <a:ext cx="5397480" cy="3713760"/>
            <a:chOff x="3429000" y="2557440"/>
            <a:chExt cx="5397480" cy="3713760"/>
          </a:xfrm>
        </p:grpSpPr>
        <p:grpSp>
          <p:nvGrpSpPr>
            <p:cNvPr id="210" name=""/>
            <p:cNvGrpSpPr/>
            <p:nvPr/>
          </p:nvGrpSpPr>
          <p:grpSpPr>
            <a:xfrm>
              <a:off x="6553080" y="4135320"/>
              <a:ext cx="228600" cy="252360"/>
              <a:chOff x="6553080" y="4135320"/>
              <a:chExt cx="228600" cy="252360"/>
            </a:xfrm>
          </p:grpSpPr>
          <p:sp>
            <p:nvSpPr>
              <p:cNvPr id="211" name=""/>
              <p:cNvSpPr/>
              <p:nvPr/>
            </p:nvSpPr>
            <p:spPr>
              <a:xfrm>
                <a:off x="6573600" y="4158000"/>
                <a:ext cx="186840" cy="206640"/>
              </a:xfrm>
              <a:prstGeom prst="ellipse">
                <a:avLst/>
              </a:prstGeom>
              <a:solidFill>
                <a:srgbClr val="ff3300"/>
              </a:solidFill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553080" y="4158000"/>
                <a:ext cx="228600" cy="206640"/>
              </a:xfrm>
              <a:prstGeom prst="line">
                <a:avLst/>
              </a:prstGeom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H="1">
                <a:off x="6573240" y="4135320"/>
                <a:ext cx="186840" cy="252360"/>
              </a:xfrm>
              <a:prstGeom prst="line">
                <a:avLst/>
              </a:prstGeom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7924680" y="5068800"/>
              <a:ext cx="228600" cy="250920"/>
              <a:chOff x="7924680" y="5068800"/>
              <a:chExt cx="228600" cy="250920"/>
            </a:xfrm>
          </p:grpSpPr>
          <p:sp>
            <p:nvSpPr>
              <p:cNvPr id="215" name=""/>
              <p:cNvSpPr/>
              <p:nvPr/>
            </p:nvSpPr>
            <p:spPr>
              <a:xfrm>
                <a:off x="7945200" y="5091480"/>
                <a:ext cx="186840" cy="205200"/>
              </a:xfrm>
              <a:prstGeom prst="ellipse">
                <a:avLst/>
              </a:prstGeom>
              <a:solidFill>
                <a:srgbClr val="ff3300"/>
              </a:solidFill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924680" y="5091480"/>
                <a:ext cx="228600" cy="205200"/>
              </a:xfrm>
              <a:prstGeom prst="line">
                <a:avLst/>
              </a:prstGeom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>
                <a:off x="7944840" y="5068800"/>
                <a:ext cx="186840" cy="250920"/>
              </a:xfrm>
              <a:prstGeom prst="line">
                <a:avLst/>
              </a:prstGeom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4952880" y="5068800"/>
              <a:ext cx="228600" cy="250920"/>
              <a:chOff x="4952880" y="5068800"/>
              <a:chExt cx="228600" cy="250920"/>
            </a:xfrm>
          </p:grpSpPr>
          <p:sp>
            <p:nvSpPr>
              <p:cNvPr id="219" name=""/>
              <p:cNvSpPr/>
              <p:nvPr/>
            </p:nvSpPr>
            <p:spPr>
              <a:xfrm>
                <a:off x="4973400" y="5091480"/>
                <a:ext cx="186840" cy="205200"/>
              </a:xfrm>
              <a:prstGeom prst="ellipse">
                <a:avLst/>
              </a:prstGeom>
              <a:solidFill>
                <a:srgbClr val="ff3300"/>
              </a:solidFill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952880" y="5091480"/>
                <a:ext cx="228600" cy="205200"/>
              </a:xfrm>
              <a:prstGeom prst="line">
                <a:avLst/>
              </a:prstGeom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4973040" y="5068800"/>
                <a:ext cx="186840" cy="250920"/>
              </a:xfrm>
              <a:prstGeom prst="line">
                <a:avLst/>
              </a:prstGeom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3429000" y="2987640"/>
              <a:ext cx="228600" cy="250920"/>
              <a:chOff x="3429000" y="2987640"/>
              <a:chExt cx="228600" cy="250920"/>
            </a:xfrm>
          </p:grpSpPr>
          <p:sp>
            <p:nvSpPr>
              <p:cNvPr id="223" name=""/>
              <p:cNvSpPr/>
              <p:nvPr/>
            </p:nvSpPr>
            <p:spPr>
              <a:xfrm>
                <a:off x="3449520" y="3010320"/>
                <a:ext cx="186840" cy="205200"/>
              </a:xfrm>
              <a:prstGeom prst="ellipse">
                <a:avLst/>
              </a:prstGeom>
              <a:solidFill>
                <a:srgbClr val="ff3300"/>
              </a:solidFill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429000" y="3010320"/>
                <a:ext cx="228600" cy="205200"/>
              </a:xfrm>
              <a:prstGeom prst="line">
                <a:avLst/>
              </a:prstGeom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3449160" y="2987640"/>
                <a:ext cx="186840" cy="250920"/>
              </a:xfrm>
              <a:prstGeom prst="line">
                <a:avLst/>
              </a:prstGeom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3429000" y="3490920"/>
              <a:ext cx="228600" cy="250920"/>
              <a:chOff x="3429000" y="3490920"/>
              <a:chExt cx="228600" cy="250920"/>
            </a:xfrm>
          </p:grpSpPr>
          <p:sp>
            <p:nvSpPr>
              <p:cNvPr id="227" name=""/>
              <p:cNvSpPr/>
              <p:nvPr/>
            </p:nvSpPr>
            <p:spPr>
              <a:xfrm>
                <a:off x="3449520" y="3513600"/>
                <a:ext cx="186840" cy="205200"/>
              </a:xfrm>
              <a:prstGeom prst="ellipse">
                <a:avLst/>
              </a:prstGeom>
              <a:solidFill>
                <a:srgbClr val="ff3300"/>
              </a:solidFill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429000" y="3513600"/>
                <a:ext cx="228600" cy="205200"/>
              </a:xfrm>
              <a:prstGeom prst="line">
                <a:avLst/>
              </a:prstGeom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H="1">
                <a:off x="3449160" y="3490920"/>
                <a:ext cx="186840" cy="250920"/>
              </a:xfrm>
              <a:prstGeom prst="line">
                <a:avLst/>
              </a:prstGeom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3429000" y="4280040"/>
              <a:ext cx="228600" cy="250560"/>
              <a:chOff x="3429000" y="4280040"/>
              <a:chExt cx="228600" cy="250560"/>
            </a:xfrm>
          </p:grpSpPr>
          <p:sp>
            <p:nvSpPr>
              <p:cNvPr id="231" name=""/>
              <p:cNvSpPr/>
              <p:nvPr/>
            </p:nvSpPr>
            <p:spPr>
              <a:xfrm>
                <a:off x="3449520" y="4302720"/>
                <a:ext cx="186840" cy="205200"/>
              </a:xfrm>
              <a:prstGeom prst="ellipse">
                <a:avLst/>
              </a:prstGeom>
              <a:solidFill>
                <a:srgbClr val="ff3300"/>
              </a:solidFill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429000" y="4302720"/>
                <a:ext cx="228600" cy="205200"/>
              </a:xfrm>
              <a:prstGeom prst="line">
                <a:avLst/>
              </a:prstGeom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3449160" y="4280040"/>
                <a:ext cx="186840" cy="250560"/>
              </a:xfrm>
              <a:prstGeom prst="line">
                <a:avLst/>
              </a:prstGeom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3429000" y="4746600"/>
              <a:ext cx="228600" cy="250920"/>
              <a:chOff x="3429000" y="4746600"/>
              <a:chExt cx="228600" cy="250920"/>
            </a:xfrm>
          </p:grpSpPr>
          <p:sp>
            <p:nvSpPr>
              <p:cNvPr id="235" name=""/>
              <p:cNvSpPr/>
              <p:nvPr/>
            </p:nvSpPr>
            <p:spPr>
              <a:xfrm>
                <a:off x="3449520" y="4769280"/>
                <a:ext cx="186840" cy="205200"/>
              </a:xfrm>
              <a:prstGeom prst="ellipse">
                <a:avLst/>
              </a:prstGeom>
              <a:solidFill>
                <a:srgbClr val="ff3300"/>
              </a:solidFill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429000" y="4769280"/>
                <a:ext cx="228600" cy="205200"/>
              </a:xfrm>
              <a:prstGeom prst="line">
                <a:avLst/>
              </a:prstGeom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H="1">
                <a:off x="3449160" y="4746600"/>
                <a:ext cx="186840" cy="250920"/>
              </a:xfrm>
              <a:prstGeom prst="line">
                <a:avLst/>
              </a:prstGeom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3429000" y="5356080"/>
              <a:ext cx="228600" cy="250920"/>
              <a:chOff x="3429000" y="5356080"/>
              <a:chExt cx="228600" cy="250920"/>
            </a:xfrm>
          </p:grpSpPr>
          <p:sp>
            <p:nvSpPr>
              <p:cNvPr id="239" name=""/>
              <p:cNvSpPr/>
              <p:nvPr/>
            </p:nvSpPr>
            <p:spPr>
              <a:xfrm>
                <a:off x="3449520" y="5378760"/>
                <a:ext cx="186840" cy="205200"/>
              </a:xfrm>
              <a:prstGeom prst="ellipse">
                <a:avLst/>
              </a:prstGeom>
              <a:solidFill>
                <a:srgbClr val="ff3300"/>
              </a:solidFill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429000" y="5378760"/>
                <a:ext cx="228600" cy="205200"/>
              </a:xfrm>
              <a:prstGeom prst="line">
                <a:avLst/>
              </a:prstGeom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3449160" y="5356080"/>
                <a:ext cx="186840" cy="250920"/>
              </a:xfrm>
              <a:prstGeom prst="line">
                <a:avLst/>
              </a:prstGeom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6553080" y="2557440"/>
              <a:ext cx="228600" cy="250920"/>
              <a:chOff x="6553080" y="2557440"/>
              <a:chExt cx="228600" cy="250920"/>
            </a:xfrm>
          </p:grpSpPr>
          <p:sp>
            <p:nvSpPr>
              <p:cNvPr id="243" name=""/>
              <p:cNvSpPr/>
              <p:nvPr/>
            </p:nvSpPr>
            <p:spPr>
              <a:xfrm>
                <a:off x="6573600" y="2580120"/>
                <a:ext cx="186840" cy="205200"/>
              </a:xfrm>
              <a:prstGeom prst="ellipse">
                <a:avLst/>
              </a:prstGeom>
              <a:solidFill>
                <a:srgbClr val="ff3300"/>
              </a:solidFill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553080" y="2580120"/>
                <a:ext cx="228600" cy="205200"/>
              </a:xfrm>
              <a:prstGeom prst="line">
                <a:avLst/>
              </a:prstGeom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>
                <a:off x="6573240" y="2557440"/>
                <a:ext cx="186840" cy="250920"/>
              </a:xfrm>
              <a:prstGeom prst="line">
                <a:avLst/>
              </a:prstGeom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4952880" y="5872320"/>
              <a:ext cx="3873600" cy="398880"/>
              <a:chOff x="4952880" y="5872320"/>
              <a:chExt cx="3873600" cy="398880"/>
            </a:xfrm>
          </p:grpSpPr>
          <p:grpSp>
            <p:nvGrpSpPr>
              <p:cNvPr id="247" name=""/>
              <p:cNvGrpSpPr/>
              <p:nvPr/>
            </p:nvGrpSpPr>
            <p:grpSpPr>
              <a:xfrm>
                <a:off x="4952880" y="5928840"/>
                <a:ext cx="228600" cy="251640"/>
                <a:chOff x="4952880" y="5928840"/>
                <a:chExt cx="228600" cy="25164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4973400" y="5951520"/>
                  <a:ext cx="186840" cy="205920"/>
                </a:xfrm>
                <a:prstGeom prst="ellipse">
                  <a:avLst/>
                </a:prstGeom>
                <a:solidFill>
                  <a:srgbClr val="ff3300"/>
                </a:solidFill>
                <a:ln w="2844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4952880" y="5951520"/>
                  <a:ext cx="228600" cy="205920"/>
                </a:xfrm>
                <a:prstGeom prst="line">
                  <a:avLst/>
                </a:prstGeom>
                <a:ln w="2844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flipH="1">
                  <a:off x="4973040" y="5928840"/>
                  <a:ext cx="186840" cy="251640"/>
                </a:xfrm>
                <a:prstGeom prst="line">
                  <a:avLst/>
                </a:prstGeom>
                <a:ln w="2844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1" name=""/>
              <p:cNvSpPr/>
              <p:nvPr/>
            </p:nvSpPr>
            <p:spPr>
              <a:xfrm>
                <a:off x="5328000" y="5872320"/>
                <a:ext cx="3498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ff5050"/>
                    </a:solidFill>
                    <a:latin typeface="Times New Roman"/>
                  </a:rPr>
                  <a:t>Sensori optoelettronici in linea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64163-16B7-4828-8B5B-F1BCF9E88430}" type="slidenum">
              <a:t>8</a:t>
            </a:fld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468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1066680" y="1599840"/>
            <a:ext cx="73915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9933"/>
                </a:solidFill>
                <a:latin typeface="Comic Sans MS"/>
              </a:rPr>
              <a:t>PRINCIPI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Comic Sans MS"/>
              </a:rPr>
              <a:t>ASSORBIMENTO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Comic Sans MS"/>
              </a:rPr>
              <a:t>Esempio: il COD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Comic Sans MS"/>
              </a:rPr>
              <a:t>FLUORESCENZA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Comic Sans MS"/>
              </a:rPr>
              <a:t>Esempio: Idrocarburi, Chl, CDO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66"/>
                </a:solidFill>
                <a:latin typeface="Futura Md BT"/>
              </a:rPr>
              <a:t>TECNICHE OTTICHE IN LINEA</a:t>
            </a:r>
            <a:endParaRPr b="1" lang="en-US" sz="3600" spc="-1" strike="noStrike">
              <a:solidFill>
                <a:srgbClr val="ffff66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AE030-18F9-4DE1-9C2F-489DCC379FCF}" type="slidenum">
              <a:t>9</a:t>
            </a:fld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9T08:56:53Z</dcterms:created>
  <dc:creator>Valentina Raimondi</dc:creator>
  <dc:description/>
  <dc:language>en-US</dc:language>
  <cp:lastModifiedBy>pc-pquerci</cp:lastModifiedBy>
  <cp:lastPrinted>2002-05-28T13:04:35Z</cp:lastPrinted>
  <dcterms:modified xsi:type="dcterms:W3CDTF">2006-03-02T14:36:02Z</dcterms:modified>
  <cp:revision>459</cp:revision>
  <dc:subject/>
  <dc:title>Il telerilevamento lidar per il controllo vegetazione</dc:title>
</cp:coreProperties>
</file>