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EE8-53EE-4AE5-9445-137F1C38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332-D96F-42BE-9743-3A2CDE2D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1F3-AACD-49D5-8B43-0B7A1CB9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BF2-473B-4D0E-939F-01954DA7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B42-F88E-4C51-ACCE-B2FA5EE7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9E97-A055-4FA7-A544-1239A79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F462-D576-40ED-964A-644EE596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5BC7-ABDB-4328-8F12-232C1BAD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EF3C-90BB-4511-84F4-EBA456E2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B763-CE29-4589-8C1F-AB0563C7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F456-C2CE-4663-8A5A-6BD0312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BA1-845A-4ACF-89A2-EF827BB7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7024-643A-42D7-A7E6-394B600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925D-11EB-4646-A4D0-296FF569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C85F-09B2-473D-A6A8-897B6C1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0E84-6B71-4A22-98C1-D52967E8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FAA6-3FA2-41C8-965F-E4F12C22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39F-DE50-46ED-91BF-772F4AA5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ACD-9872-4EBA-A01A-7217281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27B-847D-47EC-B4BC-01720F1B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4D9-7B31-4A24-BCBA-8ABC0AFE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1D1-182E-40DA-8F66-EFFEA09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20C-1E6E-490E-B7F5-672DFCC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F0C-EF3F-49BF-9FF6-5814C264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A26-16BB-47C2-8EA3-5B17A6C439D3}" type="slidenum">
              <a:rPr b="0" lang="it-IT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A877-2BBB-43F2-A00D-1378EB332562}" type="slidenum">
              <a:rPr b="0" lang="it-IT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Europa e lavoro:</a:t>
            </a:r>
            <a:br>
              <a:rPr sz="4000"/>
            </a:b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problemi e prospettive</a:t>
            </a:r>
            <a:br>
              <a:rPr sz="6000"/>
            </a:br>
            <a:br>
              <a:rPr sz="6000"/>
            </a:br>
            <a:r>
              <a:rPr b="1" lang="it-IT" sz="4000" spc="-1" strike="noStrike">
                <a:solidFill>
                  <a:srgbClr val="ff0066"/>
                </a:solidFill>
                <a:latin typeface="Tahoma"/>
              </a:rPr>
              <a:t>strategia di Lisbona e occupabilità delle donn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ahoma"/>
              </a:rPr>
              <a:t>La strategia di Lisbon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Fare dell’Europa l’economia più competitiva del mondo, puntando sulla </a:t>
            </a:r>
            <a:r>
              <a:rPr b="1" lang="it-IT" sz="2800" spc="-1" strike="noStrike">
                <a:solidFill>
                  <a:srgbClr val="ff99ff"/>
                </a:solidFill>
                <a:latin typeface="Arial"/>
              </a:rPr>
              <a:t>conoscenz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+ occupazione </a:t>
            </a:r>
            <a:r>
              <a:rPr b="1" i="1" lang="it-IT" sz="2800" spc="-1" strike="noStrike">
                <a:solidFill>
                  <a:srgbClr val="ff99ff"/>
                </a:solidFill>
                <a:latin typeface="Arial"/>
              </a:rPr>
              <a:t>di qualità, </a:t>
            </a: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e aumento dei tassi di occupazione  entro il 2010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dal 61% al 70% quello general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per le donne</a:t>
            </a:r>
            <a:r>
              <a:rPr b="1" lang="it-IT" sz="3200" spc="-1" strike="noStrike">
                <a:solidFill>
                  <a:srgbClr val="ff99ff"/>
                </a:solidFill>
                <a:latin typeface="Arial"/>
              </a:rPr>
              <a:t>: dal 51% a oltre il 6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ff"/>
                </a:solidFill>
                <a:latin typeface="Arial"/>
              </a:rPr>
              <a:t>per i lavoratori  anzia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La strategia di Lisbona oggi: punto della situazion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Problema: Lisbona scommetteva tasso medio di </a:t>
            </a:r>
            <a:r>
              <a:rPr b="1" lang="it-IT" sz="2400" spc="-1" strike="noStrike">
                <a:solidFill>
                  <a:srgbClr val="ff99ff"/>
                </a:solidFill>
                <a:latin typeface="Arial"/>
              </a:rPr>
              <a:t>crescita del 3%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non realizz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 primavera del 2004 un rapporto intermedio della Commissione fa il punto sullo stato di avanzamen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 ritardi più significativi in tre ambiti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reti e conoscen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ompetitività di industria e serviz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vecchiamento attiv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l novembre 2004 : costituito un gruppo di “alto livello” presieduto da Wim Kok, che rileva gli scarsi progressi compiu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dividuati progressi e ritardi per ciascun pae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a promozione della crescita e dell ‘ occupazione costituisce il prossimo progetto europeo di vasta port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3 as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Rendere l’Europa + capace di attrarre investimenti e lavor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mpliare e rafforzare il mercato intern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Migliorare le normative comunitarie e naziona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Mercati aperti e competitivi dentro e fuori l’Un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mpliare e migliorare le infrastrut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2) Conoscenza e innovazione devono rappresentare il fulcro della crescita europe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+ investimenti in ricerca e svilupp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+ innovazione e adozione di I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+ solidità della base industriale europe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3) creare nuovi e migliori posti di lavo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umentare i tassi di attività e modernizzare i sistemi di protezione soci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ccrescere la capacità di adeguamento dei lavoratori e delle imprese e la flessibilità dei mercati del lavo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umentare gli investimenti in capitale umano migliorando l’istruzione ele qualific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La strategia di Lisbona: revisione intermedi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Un nuovo partenariato per la crescita e l’occupazi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Una migliore gestione : rendere la SdL più conosciuta e comprensib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Coinvolgere maggiormente le parti social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e  criticità del mercato del lavoro contenute nel “Libro Bianco”:  </a:t>
            </a:r>
            <a:br>
              <a:rPr sz="3200"/>
            </a:br>
            <a:r>
              <a:rPr b="1" lang="it-IT" sz="2400" spc="-1" strike="noStrike">
                <a:solidFill>
                  <a:srgbClr val="00ffcc"/>
                </a:solidFill>
                <a:latin typeface="Arial"/>
              </a:rPr>
              <a:t>raffronti Italia /  UE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Basso tasso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occupazione genera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Italia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53.5%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    UE 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63.3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Basso tasso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occupazione femmini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Italia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39.6%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    UE 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53.4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Alta disoccupazione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lunga dur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Italia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8.3%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      UE 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4.9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Basso tasso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occupazione ultra 55enn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Italia 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27.7%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    UE 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37.7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Alta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disoccupazione giovani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SzPct val="8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Divario occupazione </a:t>
            </a:r>
            <a:r>
              <a:rPr b="1" lang="it-IT" sz="1800" spc="-1" strike="noStrike">
                <a:solidFill>
                  <a:srgbClr val="00ffcc"/>
                </a:solidFill>
                <a:latin typeface="Tahoma"/>
              </a:rPr>
              <a:t>Nord-Su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.. ma non si parlava delle criticità più preoccupante: economia sommersa e lavoro ner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d0cc10"/>
                </a:solidFill>
                <a:latin typeface="Arial"/>
              </a:rPr>
              <a:t>Lisbona/ valutazione sull’ Italia: progressi</a:t>
            </a:r>
            <a:r>
              <a:rPr b="1" lang="it-IT" sz="3600" spc="-1" strike="noStrike">
                <a:solidFill>
                  <a:srgbClr val="d0cc1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Il più alto aumento di investimenti delle imprese (1999-2002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Un piano di riforma pensionistica di medio termine annunciato nell’autunno 2003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Introdotte misure per aumentare la flessibilità del mercato del lavoro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Attuata la riforma del sistema educativo primario e secondario; aumento nei livelli di risultati dell’istruzione tra i giovani (1999-2003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  <a:ea typeface="Times New Roman"/>
              </a:rPr>
              <a:t>Riduzione nel recepimento del mercato interno, fra i tre Paesi migliori per quanto riguarda il recepimento delle “direttive di Lisbona”.</a:t>
            </a:r>
            <a:r>
              <a:rPr b="0" lang="it-IT" sz="2000" spc="-1" strike="noStrike">
                <a:solidFill>
                  <a:srgbClr val="d0cc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d0cc10"/>
                </a:solidFill>
                <a:latin typeface="Arial"/>
              </a:rPr>
              <a:t>Lisbona/ valutazione sull’ Italia: ritardi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Il più basso tasso occupazionale complessivo (56,1%) e delle donne (42%) nell’Ue, con il più alto tasso di disoccupazione di lunga durata, al 5,3%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Considerevole calo della produttività del lavoro tra il 1999 e il 2003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Un consolidamento finanziario durevole dev’essere ancora conseguito e la sostenibilità a lungo termine delle finanze pubbliche è incert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Lentezze nella liberalizzazione del settore dei servizi e dei mercati dell’energi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0cc10"/>
                </a:solidFill>
                <a:latin typeface="Verdana"/>
              </a:rPr>
              <a:t>Un elevato numero di infrazioni per scorretta applicazione delle norme del mercato interno e un alto deficit di recepimento per quanto riguarda le direttive sul mercato interno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cuni indicatori chiave generali</a:t>
            </a:r>
            <a:br>
              <a:rPr sz="3600"/>
            </a:b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TO=  tasso di occupazione</a:t>
            </a:r>
            <a:br>
              <a:rPr sz="1600"/>
            </a:b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TA= tasso di attività</a:t>
            </a:r>
            <a:endParaRPr b="0" lang="en-US" sz="1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15 - 64 an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O 63,3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TA 69,7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15 - 24  an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O 36,8 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TA 45,1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25 - 54  an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O 76,8 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TA 83,6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55  – 64 an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O 41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TA 43,9%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avoro, occupazione e dialogo sociale nel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trattato costituzional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el progetto si parla di 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economia sociale di mercat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fortemente competitiv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Di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piena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ccupazione e di elevati livelli di occupazi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l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dialogo sociale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è nel capitolo “vita democratica dell’Unione”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Strategie senza Costituzione ?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uò esistere un strategia europea senza una Costituzione Europea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A che punto siamo nel processo di ratifica del trattato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14 paesi che hanno ratificato e  e 2 n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bbiamo rassegnarci ad una Europa a “geometria variabile”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3600"/>
            </a:b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UE 2007 – 2013 / 1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Giugno 2005: vi è un primo fallimento del Consiglio a giugno 2005. Divergenze su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Quanto versare da parte di ciascun stato membr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Come spendere (articolazione della spes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Lo “scontro” Blair / Chira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3600"/>
            </a:b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UE 2007 – 2013 / 2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l  Consiglio europeo  (capi di stato e di governo) a  dicembre 2005 trova un accordo …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.. Ma il parlamento europeo (autorità di bilancio) a gennaio contesta l’accor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2800"/>
            </a:b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UE 2007 / 2013 – Mediazione al Consiglio di dicembre</a:t>
            </a:r>
            <a:r>
              <a:rPr b="1" lang="it-IT" sz="36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GB:  accetta la riduzione di 10 miliardi di € in sette anni dello sconto sui contributi all’UE di cui gode da 20 an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FR: accetta di anticipare al 2008 / 2009 la discussione sulla PAC che doveva  svolgersi nel 201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D: mette a disposizione 100 milioni di € già assegnati ai lander tedesch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2800"/>
            </a:b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UE 2007 / 2013 – Mediazione al Consiglio di dicembre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i stabilisce una spesa complessiva di 862,363 mld di €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Che rappresenta 1,045 sul PIL (prodotto interno lord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.. Netto calo finanziario rispetto al massimale finanziario fissato a suo tempo (1,24% sul PIL), a metà strada tra la proposta della presidenza lussemburghese e l’opposizione di molti pae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Le prospettive finanziarie </a:t>
            </a:r>
            <a:br>
              <a:rPr sz="2800"/>
            </a:br>
            <a:r>
              <a:rPr b="1" lang="it-IT" sz="2800" spc="-1" strike="noStrike">
                <a:solidFill>
                  <a:srgbClr val="ebd189"/>
                </a:solidFill>
                <a:latin typeface="Arial"/>
              </a:rPr>
              <a:t>UE 2007 / 2013 – Mediazione al Consiglio di dicembre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pese raggruppate in alcuni capitol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Strategia di Lisbo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Politica di coesione (nuovi fondi strutturali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Tutela e gestione delle risorse naturali (agricoltura, pesca, etc) il cui massimale è stato fissato nel 200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Libertà sicurezza e giustiz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………………………</a:t>
            </a: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………………………</a:t>
            </a: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</a:rPr>
              <a:t>Per cooperazione e aiuti umanitari : 6,3 mld nel 2007 che saliranno a 8 mld nel 2013……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bd189"/>
                </a:solidFill>
                <a:latin typeface="Arial"/>
              </a:rPr>
              <a:t>Le critiche del parlamento europeo …… e l’accordo di questa nott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l 18 gennaio ha respinto la proposta e ha proposta l’avvio di “negoziati costruttivi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 governi combattono per preservare i propri interessi nazionali piuttosto che generare una dimensione europea 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Accordo  tra parlamento e consiglio: + 4 MLD di € (rispetto ai 12 proposti dal P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cuni indicatori chiave generali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ccupati PT: 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16,7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 tempo determinato 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13,7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ei servizi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69,7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ell’ industria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25,2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n agricoltura: 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5,1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avoratori autonomi:</a:t>
            </a:r>
            <a:r>
              <a:rPr b="1" lang="it-IT" sz="3200" spc="-1" strike="noStrike">
                <a:solidFill>
                  <a:srgbClr val="ff0066"/>
                </a:solidFill>
                <a:latin typeface="Arial"/>
              </a:rPr>
              <a:t> 15,9%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cuni indicatori chiave comparati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l’occupazione nell’UE 2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63,3 % 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Tahoma"/>
              </a:rPr>
              <a:t>(I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57,6 ) -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Uomini 70,9  %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(I  70,1)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Donne  55,7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(45,2  I 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la disoccupazione nell ‘UE  25 8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          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(eurostat nov. 05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TOT.    8,5%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(I 7,5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Uomini 7,6 5%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(I 6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nne 9,6 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( I 9,7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Giovani 18,4  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( 24,1 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Tahoma"/>
              </a:rPr>
              <a:t>Usa :  5 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Tahoma"/>
              </a:rPr>
              <a:t>Giappone:   4,6 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cuni indicatori chiave comparati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ahoma"/>
              </a:rPr>
              <a:t>14,4% delle donne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e 13,2 % degli uomini hanno un impiego temporane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(13,7 % media genera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Occupazione  U/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D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part time</a:t>
            </a:r>
            <a:r>
              <a:rPr b="1" lang="it-IT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 20-49 anni con/  senza figli minori di 12 anni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Senza fig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U   PT   3,5 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D   PT   15,2 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Con fig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U    PT  2,6 %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ahoma"/>
              </a:rPr>
              <a:t>D    PT  22,7 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bd189"/>
                </a:solidFill>
                <a:latin typeface="Arial"/>
              </a:rPr>
              <a:t>La crescita in Europa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EUROPA    + O,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USA  + 3,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GIAPPONE  + 2,5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ahoma"/>
              </a:rPr>
              <a:t>Le “tappe storiche”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Il </a:t>
            </a: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libro bianco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di </a:t>
            </a: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Delors ( ’93)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 fa nascere la discussione sull’occupazione e la necessità di politiche coordi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Il Consiglio di </a:t>
            </a: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Essen (’94 )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vara  il primo piano di azione in 5 settori prioritar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Il Consiglio di Lussemburgo (’97)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sancisce un nuovo metodo di coordinament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Consiglio  di Lisbona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99ff"/>
                </a:solidFill>
                <a:latin typeface="Tahoma"/>
              </a:rPr>
              <a:t>(2000)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definisce  la strategia europea sull’occupaz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Lussemburgo: </a:t>
            </a:r>
            <a:br>
              <a:rPr sz="2800"/>
            </a:br>
            <a:r>
              <a:rPr b="1" lang="it-IT" sz="2800" spc="-1" strike="noStrike">
                <a:solidFill>
                  <a:srgbClr val="ff99ff"/>
                </a:solidFill>
                <a:latin typeface="Tahoma"/>
              </a:rPr>
              <a:t>4 pilastri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         /      </a:t>
            </a:r>
            <a:r>
              <a:rPr b="1" lang="it-IT" sz="2800" spc="-1" strike="noStrike">
                <a:solidFill>
                  <a:srgbClr val="ff99ff"/>
                </a:solidFill>
                <a:latin typeface="Tahoma"/>
              </a:rPr>
              <a:t>un nuovo metodo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Occupabilit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Adattabilit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Imprenditorialità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Pari opportunità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Si concretizza il principi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it-IT" sz="3600" spc="-1" strike="noStrike">
                <a:solidFill>
                  <a:srgbClr val="ff99ff"/>
                </a:solidFill>
                <a:latin typeface="Arial"/>
              </a:rPr>
              <a:t>occupazione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preoccupazione </a:t>
            </a:r>
            <a:r>
              <a:rPr b="1" lang="it-IT" sz="3600" spc="-1" strike="noStrike">
                <a:solidFill>
                  <a:srgbClr val="ff99ff"/>
                </a:solidFill>
                <a:latin typeface="Arial"/>
              </a:rPr>
              <a:t>comune”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l procedimento di Lussemburgo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izio anno: il Consiglio approva orientamenti occupazionali su proposta della Commissione 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(Linee guida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rogrammi di azione nazionali 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(NA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Relazione congiunta di Commissione  e Consiglio a fine anno sugli 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andament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La Commissione 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fa proposte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sulla revisione delle priorit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rende corpo il “</a:t>
            </a:r>
            <a:r>
              <a:rPr b="1" lang="it-IT" sz="2000" spc="-1" strike="noStrike">
                <a:solidFill>
                  <a:srgbClr val="ff99ff"/>
                </a:solidFill>
                <a:latin typeface="Arial"/>
              </a:rPr>
              <a:t>metodo di coordinamento aperto”: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programmazione,  monitoraggio,  esame e  riadeguementi annual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ta Pavan - CISL Lombard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7:30:01Z</dcterms:created>
  <dc:creator>rita.pavan</dc:creator>
  <dc:description/>
  <dc:language>en-US</dc:language>
  <cp:lastModifiedBy>pc-gcognigni</cp:lastModifiedBy>
  <dcterms:modified xsi:type="dcterms:W3CDTF">2008-11-27T10:48:25Z</dcterms:modified>
  <cp:revision>24</cp:revision>
  <dc:subject/>
  <dc:title>Europa e lavoro</dc:title>
</cp:coreProperties>
</file>