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6354-4995-4E7C-A02E-1C1E863D5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DE24-32D9-418C-8A09-555840D04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2CA9-D3B8-4280-8627-83952C278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5757-35A1-45B8-9685-3C2CF1B0B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B7EB7-A263-4333-9BAA-C5DCDD57D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0CA53-DA1A-42C8-A426-8A9CEC2DA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2F31C-CA95-4CAC-A316-E0C149632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1132D-5D37-4B42-BF4C-90F5F40E2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9B1BE-0D8B-451C-A7E5-F0E4014F5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3AA29-0AF2-4BCD-A7F5-65C2912B9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FA426-4D38-45FB-B47A-AB6E811F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AB68-6564-4D5A-9AD1-EA7085394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902BA-855C-4A0B-A7E5-8C567A2A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3EFC2-40B6-4065-A2E0-08401DC9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68AC4-8583-404D-A0A6-948748DA5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6ECFB-F4E0-47B2-BB80-29EDA6A7B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0A2B0-76F9-4EC6-8819-30B7CF67E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794E-2277-4A1C-942E-38061DEEC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0DB7-6706-43D9-8525-7C0AAFD86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5028-4094-4FE6-A015-B8E14B9BF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3F1D-BB8D-4B0E-9DB6-2AE3129E9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2413-0E40-4F4D-8EAE-4C1F874F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21BD-90AC-41C9-9DA5-C5893423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D6E6-BA4D-49DA-B742-8A64CBBC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40F5C-D825-4319-86CF-8517AE130480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8097B-D4AA-48C8-B8B4-A0DF64630401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ff00"/>
                </a:solidFill>
                <a:latin typeface="Tahoma"/>
              </a:rPr>
              <a:t>Pari opportunità in Europa:</a:t>
            </a:r>
            <a:endParaRPr b="0" lang="en-US" sz="4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258920" y="3213000"/>
            <a:ext cx="640080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Strumenti legislativi e contrattual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Rita Pavan - CISL Lombard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00"/>
                </a:solidFill>
                <a:latin typeface="Tahoma"/>
              </a:rPr>
              <a:t>Il dialogo sociale europeo (DSE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92:   inserito come </a:t>
            </a:r>
            <a:r>
              <a:rPr b="1" lang="it-IT" sz="2000" spc="-1" strike="noStrike">
                <a:solidFill>
                  <a:srgbClr val="ffff00"/>
                </a:solidFill>
                <a:latin typeface="Tahoma"/>
              </a:rPr>
              <a:t>protocollo aggiuntivo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 nel trattato di Maastrich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97:  </a:t>
            </a:r>
            <a:r>
              <a:rPr b="1" lang="it-IT" sz="2000" spc="-1" strike="noStrike">
                <a:solidFill>
                  <a:srgbClr val="ffff00"/>
                </a:solidFill>
                <a:latin typeface="Tahoma"/>
              </a:rPr>
              <a:t>pienamente integrato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 nel  Trattato di Amsterdam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Il ruolo delle parti e del dialogo sociale è </a:t>
            </a:r>
            <a:r>
              <a:rPr b="1" lang="it-IT" sz="2000" spc="-1" strike="noStrike">
                <a:solidFill>
                  <a:srgbClr val="ffff00"/>
                </a:solidFill>
                <a:latin typeface="Tahoma"/>
              </a:rPr>
              <a:t>presente nel testo di Costituzione  Europe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24280" y="1676160"/>
            <a:ext cx="38102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Cosa preved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se le parti decidono di trattare su una determinata materia, </a:t>
            </a:r>
            <a:r>
              <a:rPr b="0" lang="it-IT" sz="2000" spc="-1" strike="noStrike">
                <a:solidFill>
                  <a:srgbClr val="ffff00"/>
                </a:solidFill>
                <a:latin typeface="Tahoma"/>
              </a:rPr>
              <a:t>viene sospesa l’iniziativa legislativa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 e, se raggiunto,  il testo dell’accordo diventa </a:t>
            </a:r>
            <a:r>
              <a:rPr b="0" lang="it-IT" sz="2000" spc="-1" strike="noStrike">
                <a:solidFill>
                  <a:srgbClr val="ffff00"/>
                </a:solidFill>
                <a:latin typeface="Tahoma"/>
              </a:rPr>
              <a:t>legislazione comunitar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ahoma"/>
              </a:rPr>
              <a:t>(es: congedi parentali, part time, contratto a termine, telelavor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00"/>
                </a:solidFill>
                <a:latin typeface="Tahoma"/>
              </a:rPr>
              <a:t>con altre modalità, il DSE è avvenuto anche a livelli categorial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ta Pavan - CISL Lombard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Times New Roman"/>
              </a:rPr>
              <a:t>Programmi comunitari P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Times New Roman"/>
              </a:rPr>
              <a:t>Per sostenere il principio delle pari opportunità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Times New Roman"/>
              </a:rPr>
              <a:t>Programma di azione comunitaria PO (bandi per azioni a sostegno delle donne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Times New Roman"/>
              </a:rPr>
              <a:t>Creazione di un Istituto di gen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ta Pavan - CISL Lombard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Tahoma"/>
              </a:rPr>
              <a:t>pari opportunità 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nella </a:t>
            </a:r>
            <a:r>
              <a:rPr b="0" lang="it-IT" sz="3200" spc="-1" strike="noStrike">
                <a:solidFill>
                  <a:srgbClr val="ffff00"/>
                </a:solidFill>
                <a:latin typeface="Tahoma"/>
              </a:rPr>
              <a:t>contrattazione collettiva 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in Europ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Ancora scarsa, con situazioni differenti tra i vari paesi, ha toccato prevalentemente i seguenti punti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ahoma"/>
              </a:rPr>
              <a:t>Parità salaria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ahoma"/>
              </a:rPr>
              <a:t>Misure antidiscriminatorie per l’accesso al lavoro,  promozione, formazione e sistemi pensionistic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ahoma"/>
              </a:rPr>
              <a:t>Discriminazione indiret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ahoma"/>
              </a:rPr>
              <a:t>Diritti dei lavoratori part-time e interinal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ahoma"/>
              </a:rPr>
              <a:t>Azioni posi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ahoma"/>
              </a:rPr>
              <a:t>Gravidanza, maternità, congedi parentali e custodia dei minor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ahoma"/>
              </a:rPr>
              <a:t>Molestie sessuali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ahoma"/>
              </a:rPr>
              <a:t>tempi di lavo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ahoma"/>
              </a:rPr>
              <a:t>conciliazione tra vita professionale e  famili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ta Pavan - CISL Lombard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Tahoma"/>
              </a:rPr>
              <a:t>Pari opportunità e contrattazione collettiva </a:t>
            </a:r>
            <a:r>
              <a:rPr b="1" lang="it-IT" sz="2800" spc="-1" strike="noStrike">
                <a:solidFill>
                  <a:srgbClr val="ffff00"/>
                </a:solidFill>
                <a:latin typeface="Tahoma"/>
              </a:rPr>
              <a:t>negli negli altri Stati membri/2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Danimar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Le pari opportunità</a:t>
            </a: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 sono integrate 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nella contrattazione</a:t>
            </a: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collettiva</a:t>
            </a: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 anche se esistono differenze tra il settorepubblico e quello privato. Un accordo nazionale sulla 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parità </a:t>
            </a: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di trattamento tra le organizzazioni dei datori di lavoro e la principale confederazione sindacale è stato firmato nel 1991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ahoma"/>
              </a:rPr>
              <a:t>Finland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Le pari opportunità</a:t>
            </a: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 sono integrate 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nella contrattazione</a:t>
            </a: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collettiva </a:t>
            </a: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e negli accordi interprofessionali sulla politic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dei redditi. Gli aumenti salariali delle donne ottenuti al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fine degli anni ’80 e nel 1995 e i sistemi di valutazion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del lavoro sono stati introdotti per pareggiare l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retribuzioni delle donne e degli uomini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ta Pavan - CISL Lombard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Tahoma"/>
              </a:rPr>
              <a:t>Pari opportunità e contrattazione collettiva </a:t>
            </a:r>
            <a:r>
              <a:rPr b="1" lang="it-IT" sz="2800" spc="-1" strike="noStrike">
                <a:solidFill>
                  <a:srgbClr val="ffff00"/>
                </a:solidFill>
                <a:latin typeface="Tahoma"/>
              </a:rPr>
              <a:t>negli negli altri Stati membri/3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Aust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ffff00"/>
                </a:solidFill>
                <a:latin typeface="Tahoma"/>
              </a:rPr>
              <a:t>sono state strettamente definite come lo stato</a:t>
            </a:r>
            <a:r>
              <a:rPr b="1" lang="it-IT" sz="1600" spc="-1" strike="noStrike">
                <a:solidFill>
                  <a:srgbClr val="ffffff"/>
                </a:solidFill>
                <a:latin typeface="Tahoma"/>
              </a:rPr>
              <a:t> di parità </a:t>
            </a:r>
            <a:r>
              <a:rPr b="1" lang="it-IT" sz="1600" spc="-1" strike="noStrike">
                <a:solidFill>
                  <a:srgbClr val="ffff00"/>
                </a:solidFill>
                <a:latin typeface="Tahoma"/>
              </a:rPr>
              <a:t>di trattamento tra uomini e donne.  La legislazione copre la discriminazione salariale, </a:t>
            </a:r>
            <a:r>
              <a:rPr b="1" lang="it-IT" sz="1600" spc="-1" strike="noStrike">
                <a:solidFill>
                  <a:srgbClr val="ffffff"/>
                </a:solidFill>
                <a:latin typeface="Tahoma"/>
              </a:rPr>
              <a:t>la parità</a:t>
            </a:r>
            <a:r>
              <a:rPr b="1" lang="it-IT" sz="1600" spc="-1" strike="noStrike">
                <a:solidFill>
                  <a:srgbClr val="ffff00"/>
                </a:solidFill>
                <a:latin typeface="Tahoma"/>
              </a:rPr>
              <a:t> di trattamento nella concessione di benefit, le molestie sessuali, la discriminazione indiretta e la pariretribuzione per un lavoro di pari valore. Esistono pochi  accordi collettivi sulle </a:t>
            </a:r>
            <a:r>
              <a:rPr b="1" lang="it-IT" sz="1600" spc="-1" strike="noStrike">
                <a:solidFill>
                  <a:srgbClr val="ffffff"/>
                </a:solidFill>
                <a:latin typeface="Tahoma"/>
              </a:rPr>
              <a:t>pari opportunità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Belg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it-IT" sz="1600" spc="-1" strike="noStrike">
                <a:solidFill>
                  <a:srgbClr val="ffff00"/>
                </a:solidFill>
                <a:latin typeface="Tahoma"/>
              </a:rPr>
              <a:t>rimangono marginali nella</a:t>
            </a:r>
            <a:r>
              <a:rPr b="1" lang="it-IT" sz="1600" spc="-1" strike="noStrike">
                <a:solidFill>
                  <a:srgbClr val="ffffff"/>
                </a:solidFill>
                <a:latin typeface="Tahoma"/>
              </a:rPr>
              <a:t> contrattazione collettiva, </a:t>
            </a:r>
            <a:r>
              <a:rPr b="1" lang="it-IT" sz="1600" spc="-1" strike="noStrike">
                <a:solidFill>
                  <a:srgbClr val="ffff00"/>
                </a:solidFill>
                <a:latin typeface="Tahoma"/>
              </a:rPr>
              <a:t>anche se la legislazione che copre le azioni positive, le molestie sessuali e il lavoro notturno è stata ricollegata</a:t>
            </a:r>
            <a:r>
              <a:rPr b="1" lang="it-IT" sz="1600" spc="-1" strike="noStrike">
                <a:solidFill>
                  <a:srgbClr val="ffffff"/>
                </a:solidFill>
                <a:latin typeface="Tahoma"/>
              </a:rPr>
              <a:t> alla contrattazione collettiva.Le pari opportunità,</a:t>
            </a:r>
            <a:r>
              <a:rPr b="1" lang="it-IT" sz="1600" spc="-1" strike="noStrike">
                <a:solidFill>
                  <a:srgbClr val="ffff00"/>
                </a:solidFill>
                <a:latin typeface="Tahoma"/>
              </a:rPr>
              <a:t> per quanto riguarda i tempi  e le condizioni di lavoro, sono presenti  nella </a:t>
            </a:r>
            <a:r>
              <a:rPr b="1" lang="it-IT" sz="1600" spc="-1" strike="noStrike">
                <a:solidFill>
                  <a:srgbClr val="ffffff"/>
                </a:solidFill>
                <a:latin typeface="Tahoma"/>
              </a:rPr>
              <a:t> contrattazion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ta Pavan - CISL Lombard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Tahoma"/>
              </a:rPr>
              <a:t>Pari opportunità e contrattazione collettiva </a:t>
            </a:r>
            <a:r>
              <a:rPr b="1" lang="it-IT" sz="2800" spc="-1" strike="noStrike">
                <a:solidFill>
                  <a:srgbClr val="ffff00"/>
                </a:solidFill>
                <a:latin typeface="Tahoma"/>
              </a:rPr>
              <a:t>negli negli altri Stati membri/4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Tahoma"/>
              </a:rPr>
              <a:t>German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ffff00"/>
                </a:solidFill>
                <a:latin typeface="Tahoma"/>
              </a:rPr>
              <a:t>soggetto sempre più importante nella contrattazione.   Nel corso degli ultimi anni le questioni relative al tempo di lavoro sono  divenute un importante elemento di negoziazione e le considerazioni relative </a:t>
            </a:r>
            <a:r>
              <a:rPr b="0" lang="it-IT" sz="1600" spc="-1" strike="noStrike">
                <a:solidFill>
                  <a:srgbClr val="ffffff"/>
                </a:solidFill>
                <a:latin typeface="Tahoma"/>
              </a:rPr>
              <a:t>alle pari opportunità</a:t>
            </a:r>
            <a:r>
              <a:rPr b="0" lang="it-IT" sz="1600" spc="-1" strike="noStrike">
                <a:solidFill>
                  <a:srgbClr val="ffff00"/>
                </a:solidFill>
                <a:latin typeface="Tahoma"/>
              </a:rPr>
              <a:t> sono state significative a questo riguardo. Il centro di interesse è stato rappresentato dai benefici per la famiglia piuttosto  </a:t>
            </a:r>
            <a:r>
              <a:rPr b="0" lang="it-IT" sz="1800" spc="-1" strike="noStrike">
                <a:solidFill>
                  <a:srgbClr val="ffff00"/>
                </a:solidFill>
                <a:latin typeface="Tahoma"/>
              </a:rPr>
              <a:t>che 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dalle pari opportunità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Tahoma"/>
              </a:rPr>
              <a:t>Greci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Tahoma"/>
              </a:rPr>
              <a:t>C’è una relazione debole tra </a:t>
            </a:r>
            <a:r>
              <a:rPr b="1" lang="it-IT" sz="1600" spc="-1" strike="noStrike">
                <a:solidFill>
                  <a:srgbClr val="ffffff"/>
                </a:solidFill>
                <a:latin typeface="Tahoma"/>
              </a:rPr>
              <a:t>pari opportunità</a:t>
            </a:r>
            <a:r>
              <a:rPr b="1" lang="it-IT" sz="1600" spc="-1" strike="noStrike">
                <a:solidFill>
                  <a:srgbClr val="ffff00"/>
                </a:solidFill>
                <a:latin typeface="Tahoma"/>
              </a:rPr>
              <a:t> 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Tahoma"/>
              </a:rPr>
              <a:t>contrattazione collettiva.</a:t>
            </a:r>
            <a:r>
              <a:rPr b="1" lang="it-IT" sz="1600" spc="-1" strike="noStrike">
                <a:solidFill>
                  <a:srgbClr val="ffff00"/>
                </a:solidFill>
                <a:latin typeface="Tahoma"/>
              </a:rPr>
              <a:t> Per la prima volta, l’accord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Tahoma"/>
              </a:rPr>
              <a:t>collettivo</a:t>
            </a:r>
            <a:r>
              <a:rPr b="1" lang="it-IT" sz="1600" spc="-1" strike="noStrike">
                <a:solidFill>
                  <a:srgbClr val="ffff00"/>
                </a:solidFill>
                <a:latin typeface="Tahoma"/>
              </a:rPr>
              <a:t> nazionale del 1993 ha preteso dai partner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Tahoma"/>
              </a:rPr>
              <a:t>sociali che promuovessero </a:t>
            </a:r>
            <a:r>
              <a:rPr b="1" lang="it-IT" sz="1600" spc="-1" strike="noStrike">
                <a:solidFill>
                  <a:srgbClr val="ffffff"/>
                </a:solidFill>
                <a:latin typeface="Tahoma"/>
              </a:rPr>
              <a:t>la parità</a:t>
            </a:r>
            <a:r>
              <a:rPr b="1" lang="it-IT" sz="1600" spc="-1" strike="noStrike">
                <a:solidFill>
                  <a:srgbClr val="ffff00"/>
                </a:solidFill>
                <a:latin typeface="Tahoma"/>
              </a:rPr>
              <a:t> di trattamento e </a:t>
            </a:r>
            <a:r>
              <a:rPr b="1" lang="it-IT" sz="1600" spc="-1" strike="noStrike">
                <a:solidFill>
                  <a:srgbClr val="ffffff"/>
                </a:solidFill>
                <a:latin typeface="Tahoma"/>
              </a:rPr>
              <a:t>l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Tahoma"/>
              </a:rPr>
              <a:t>pari opportunità,</a:t>
            </a:r>
            <a:r>
              <a:rPr b="1" lang="it-IT" sz="1600" spc="-1" strike="noStrike">
                <a:solidFill>
                  <a:srgbClr val="ffff00"/>
                </a:solidFill>
                <a:latin typeface="Tahoma"/>
              </a:rPr>
              <a:t> prevedendo anche le clausol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Tahoma"/>
              </a:rPr>
              <a:t>per combattere le molestie sessuali e in favore dei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Tahoma"/>
              </a:rPr>
              <a:t>congedi per maternità e paternità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ta Pavan - CISL Lombard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38088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Tahoma"/>
              </a:rPr>
              <a:t>Irlanda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ahoma"/>
              </a:rPr>
              <a:t>Nonostante che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le pari opportunità</a:t>
            </a:r>
            <a:r>
              <a:rPr b="0" lang="it-IT" sz="2800" spc="-1" strike="noStrike">
                <a:solidFill>
                  <a:srgbClr val="ffff00"/>
                </a:solidFill>
                <a:latin typeface="Tahoma"/>
              </a:rPr>
              <a:t> sian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ahoma"/>
              </a:rPr>
              <a:t>raramente legate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alla contrattazione collettiva,</a:t>
            </a:r>
            <a:r>
              <a:rPr b="0" lang="it-IT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ahoma"/>
              </a:rPr>
              <a:t>gli accordi nazionali fin dal 1987 si son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ahoma"/>
              </a:rPr>
              <a:t>occupati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di pari opportunità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ahoma"/>
              </a:rPr>
              <a:t>comprendendo anche azioni positive, salar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ahoma"/>
              </a:rPr>
              <a:t>bassi e custodia dei minori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ta Pavan - CISL Lombard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Tahoma"/>
              </a:rPr>
              <a:t>Lussemburgo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La contrattazione collettiva</a:t>
            </a: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 è raramente legata 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alle pari</a:t>
            </a: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opportunità:</a:t>
            </a: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 queste sono considerate come question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che devono essere trattate dalla legislazione. Nessu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accordo specifico riguarda 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le pari opportunità</a:t>
            </a: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nell’insieme, ma un numero ristretto di accordi tratta d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molestie sessuali, di tempi di lavoro e di rientro 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seguito di un congedo per occuparsi di minor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ta Pavan - CISL Lombard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Tahoma"/>
              </a:rPr>
              <a:t>Paesi Bassi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Le pari opportunità</a:t>
            </a: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 sono strettamente integrate nell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contrattazione collettiva</a:t>
            </a: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 e 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la parità</a:t>
            </a: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 fa largamente par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dell’ordine del giorno 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della contrattazione.</a:t>
            </a: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 Sono stat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organizzati un gran numero di accordi. Riguardano: 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l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parità</a:t>
            </a: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 di trattamento, le azioni positive, il lavor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part- time, la maternità, i congedi parentali, la custodi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dei minori, le molestie sessuali e 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la parità</a:t>
            </a: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 dei salar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ta Pavan - CISL Lombard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Tahoma"/>
              </a:rPr>
              <a:t>Portogallo</a:t>
            </a:r>
            <a:r>
              <a:rPr b="0" lang="it-IT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La principale fonte di progresso a livello di </a:t>
            </a:r>
            <a:r>
              <a:rPr b="0" lang="it-IT" sz="2800" spc="-1" strike="noStrike">
                <a:solidFill>
                  <a:srgbClr val="ffff00"/>
                </a:solidFill>
                <a:latin typeface="Tahoma"/>
              </a:rPr>
              <a:t>par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ahoma"/>
              </a:rPr>
              <a:t>opportunità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e di</a:t>
            </a:r>
            <a:r>
              <a:rPr b="0" lang="it-IT" sz="2800" spc="-1" strike="noStrike">
                <a:solidFill>
                  <a:srgbClr val="ffff00"/>
                </a:solidFill>
                <a:latin typeface="Tahoma"/>
              </a:rPr>
              <a:t> parità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è stata la legislazion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piuttosto che </a:t>
            </a:r>
            <a:r>
              <a:rPr b="0" lang="it-IT" sz="2800" spc="-1" strike="noStrike">
                <a:solidFill>
                  <a:srgbClr val="ffff00"/>
                </a:solidFill>
                <a:latin typeface="Tahoma"/>
              </a:rPr>
              <a:t>la contrattazione collettiva.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rapporti e le questioni relative alla </a:t>
            </a:r>
            <a:r>
              <a:rPr b="0" lang="it-IT" sz="2800" spc="-1" strike="noStrike">
                <a:solidFill>
                  <a:srgbClr val="ffff00"/>
                </a:solidFill>
                <a:latin typeface="Tahoma"/>
              </a:rPr>
              <a:t>parità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raramente sono all’ordine del giorno dell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ahoma"/>
              </a:rPr>
              <a:t>contrattazio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ta Pavan - CISL Lombard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Alcuni dati generali…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ahoma"/>
                <a:ea typeface="Tahoma"/>
              </a:rPr>
              <a:t>• </a:t>
            </a:r>
            <a:r>
              <a:rPr b="0" lang="it-IT" sz="2000" spc="-1" strike="noStrike">
                <a:solidFill>
                  <a:srgbClr val="ffff00"/>
                </a:solidFill>
                <a:latin typeface="Tahoma"/>
              </a:rPr>
              <a:t>Disoccupazione in crescita. Si osserva una tendenza al rialz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ahoma"/>
              </a:rPr>
              <a:t>nell’ultimo anno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ahoma"/>
              </a:rPr>
              <a:t>14 milioni di disoccupati ( in percentuale 7,9%):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- Uomini  7,2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ahoma"/>
              </a:rPr>
              <a:t>      </a:t>
            </a:r>
            <a:r>
              <a:rPr b="0" lang="it-IT" sz="2000" spc="-1" strike="noStrike">
                <a:solidFill>
                  <a:srgbClr val="ffff00"/>
                </a:solidFill>
                <a:latin typeface="Tahoma"/>
              </a:rPr>
              <a:t>- Donne   8,9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ahoma"/>
                <a:ea typeface="Tahoma"/>
              </a:rPr>
              <a:t>• </a:t>
            </a:r>
            <a:r>
              <a:rPr b="0" lang="it-IT" sz="2000" spc="-1" strike="noStrike">
                <a:solidFill>
                  <a:srgbClr val="ffff00"/>
                </a:solidFill>
                <a:latin typeface="Tahoma"/>
              </a:rPr>
              <a:t>Persone occupate in impieghi temporanei:  tendenza costant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ahoma"/>
              </a:rPr>
              <a:t>all’aument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ahoma"/>
              </a:rPr>
              <a:t>      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-Uomini  12,5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ahoma"/>
              </a:rPr>
              <a:t>      </a:t>
            </a:r>
            <a:r>
              <a:rPr b="0" lang="it-IT" sz="2000" spc="-1" strike="noStrike">
                <a:solidFill>
                  <a:srgbClr val="ffff00"/>
                </a:solidFill>
                <a:latin typeface="Tahoma"/>
              </a:rPr>
              <a:t>-Donne   14,5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ahoma"/>
                <a:ea typeface="Tahoma"/>
              </a:rPr>
              <a:t>• </a:t>
            </a:r>
            <a:r>
              <a:rPr b="0" lang="it-IT" sz="2000" spc="-1" strike="noStrike">
                <a:solidFill>
                  <a:srgbClr val="ffff00"/>
                </a:solidFill>
                <a:latin typeface="Tahoma"/>
              </a:rPr>
              <a:t>E’ più alta la presenza di donne nel  lavoro “abituale” durante il fine settiman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ahoma"/>
              </a:rPr>
              <a:t>      </a:t>
            </a:r>
            <a:r>
              <a:rPr b="0" lang="it-IT" sz="2000" spc="-1" strike="noStrike">
                <a:solidFill>
                  <a:srgbClr val="ffff00"/>
                </a:solidFill>
                <a:latin typeface="Tahoma"/>
              </a:rPr>
              <a:t>-Al sabato </a:t>
            </a:r>
            <a:r>
              <a:rPr b="0" lang="it-IT" sz="2000" spc="-1" strike="noStrike">
                <a:solidFill>
                  <a:srgbClr val="ffff00"/>
                </a:solidFill>
                <a:latin typeface="Tahoma"/>
                <a:ea typeface="Tahoma"/>
              </a:rPr>
              <a:t>&gt; 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  <a:ea typeface="Tahoma"/>
              </a:rPr>
              <a:t>Uomini   21,3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ahoma"/>
              </a:rPr>
              <a:t>                     </a:t>
            </a:r>
            <a:r>
              <a:rPr b="0" lang="it-IT" sz="2000" spc="-1" strike="noStrike">
                <a:solidFill>
                  <a:srgbClr val="ffff00"/>
                </a:solidFill>
                <a:latin typeface="Tahoma"/>
                <a:ea typeface="Tahoma"/>
              </a:rPr>
              <a:t>&gt; Donne   24,2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ahoma"/>
                <a:ea typeface="Tahoma"/>
              </a:rPr>
              <a:t>      </a:t>
            </a:r>
            <a:r>
              <a:rPr b="0" lang="it-IT" sz="2000" spc="-1" strike="noStrike">
                <a:solidFill>
                  <a:srgbClr val="ffff00"/>
                </a:solidFill>
                <a:latin typeface="Tahoma"/>
                <a:ea typeface="Tahoma"/>
              </a:rPr>
              <a:t>-Alla domenica &gt; 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  <a:ea typeface="Tahoma"/>
              </a:rPr>
              <a:t>Uomini    9,9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  <a:ea typeface="Tahoma"/>
              </a:rPr>
              <a:t>                            </a:t>
            </a:r>
            <a:r>
              <a:rPr b="0" lang="it-IT" sz="2000" spc="-1" strike="noStrike">
                <a:solidFill>
                  <a:srgbClr val="ffff00"/>
                </a:solidFill>
                <a:latin typeface="Tahoma"/>
                <a:ea typeface="Tahoma"/>
              </a:rPr>
              <a:t>&gt; Donne  10,7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ta Pavan - CISL Lombard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Tahoma"/>
              </a:rPr>
              <a:t>Regno Unito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Le pari opportunità</a:t>
            </a:r>
            <a:r>
              <a:rPr b="0" lang="it-IT" sz="2800" spc="-1" strike="noStrike">
                <a:solidFill>
                  <a:srgbClr val="ffff00"/>
                </a:solidFill>
                <a:latin typeface="Tahoma"/>
              </a:rPr>
              <a:t> sono divenute un element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ahoma"/>
              </a:rPr>
              <a:t>sempre più importante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nella contrattazion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collettiva </a:t>
            </a:r>
            <a:r>
              <a:rPr b="0" lang="it-IT" sz="2800" spc="-1" strike="noStrike">
                <a:solidFill>
                  <a:srgbClr val="ffff00"/>
                </a:solidFill>
                <a:latin typeface="Tahoma"/>
              </a:rPr>
              <a:t>e la legislazione permett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ahoma"/>
              </a:rPr>
              <a:t>l’annullamento di quegli accordi che violano i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ahoma"/>
              </a:rPr>
              <a:t>principio delle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pari opportunità.</a:t>
            </a:r>
            <a:r>
              <a:rPr b="0" lang="it-IT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L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contrattazione</a:t>
            </a:r>
            <a:r>
              <a:rPr b="0" lang="it-IT" sz="2800" spc="-1" strike="noStrike">
                <a:solidFill>
                  <a:srgbClr val="ffff00"/>
                </a:solidFill>
                <a:latin typeface="Tahoma"/>
              </a:rPr>
              <a:t> decentrata ha reso difficil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ahoma"/>
              </a:rPr>
              <a:t>l’applicazione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delle pari opportunità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ta Pavan - CISL Lombard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Tahoma"/>
              </a:rPr>
              <a:t>Spagna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La contrattazione collettiva</a:t>
            </a: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 gioca un ruol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limitato nella promozione 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delle pari opportunità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Gli accordi riguardano raramente gli interessi e 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problemi specifici delle donne e quando l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fanno, tendono a riprodurre i diritti già esistent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nella legislazione. Si è giunti ad accordi p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azioni positive in alcune imprese 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nell’amministrazione pubblica, ed è stato fatto qualch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progresso per potenziare il ruolo 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delle pari opportunità</a:t>
            </a: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per il futu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ta Pavan - CISL Lombard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Tahoma"/>
              </a:rPr>
              <a:t>Svezia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Le pari opportunità </a:t>
            </a: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sono uno degli elementi guida della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contrattazione collettiva </a:t>
            </a: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e, a partire dall’approvazion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della legge per le pari opportunità del 1979, i partn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sociali sono stati incaricati di concludere accord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riguardanti l’argomento. E tuttavia, dal 1994 un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emendamento a questa legge ha attribuito un ruolo pi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importante alla legislazione e all’Ombudsman per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 l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Parità </a:t>
            </a: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nella implementazione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 delle pari opportunità, </a:t>
            </a: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p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esempio esigendo l’applicazione di un piano di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 parit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nella maggior parte dei posti di lavo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ta Pavan - CISL Lombard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Tahoma"/>
              </a:rPr>
              <a:t>Strategie europee su </a:t>
            </a:r>
            <a:br>
              <a:rPr sz="3200"/>
            </a:br>
            <a:r>
              <a:rPr b="1" lang="it-IT" sz="3200" spc="-1" strike="noStrike">
                <a:solidFill>
                  <a:srgbClr val="ffff00"/>
                </a:solidFill>
                <a:latin typeface="Tahoma"/>
              </a:rPr>
              <a:t>occupazione e parità/1</a:t>
            </a:r>
            <a:r>
              <a:rPr b="1" lang="it-IT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Tahoma"/>
              </a:rPr>
              <a:t>Dall’agenda sociale approvata a Nizz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applicazione trasversale della parità in tutte le politiche  </a:t>
            </a:r>
            <a:r>
              <a:rPr b="1" lang="it-IT" sz="2400" spc="-1" strike="noStrike">
                <a:solidFill>
                  <a:srgbClr val="ffff00"/>
                </a:solidFill>
                <a:latin typeface="Tahoma"/>
              </a:rPr>
              <a:t>(principio di mainstreaming)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 accompagnata da azioni specific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Integrare la nozione di parità in </a:t>
            </a:r>
            <a:r>
              <a:rPr b="0" lang="it-IT" sz="2000" spc="-1" strike="noStrike">
                <a:solidFill>
                  <a:srgbClr val="ffff00"/>
                </a:solidFill>
                <a:latin typeface="Tahoma"/>
              </a:rPr>
              <a:t>tutti i settor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Sviluppare l’accesso delle donne al </a:t>
            </a:r>
            <a:r>
              <a:rPr b="0" lang="it-IT" sz="2000" spc="-1" strike="noStrike">
                <a:solidFill>
                  <a:srgbClr val="ffff00"/>
                </a:solidFill>
                <a:latin typeface="Tahoma"/>
              </a:rPr>
              <a:t>processo decisiona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Quantità e qualità dell’occupazione (strategia di Lisbona) : </a:t>
            </a:r>
            <a:r>
              <a:rPr b="0" lang="it-IT" sz="2000" spc="-1" strike="noStrike">
                <a:solidFill>
                  <a:srgbClr val="ffff00"/>
                </a:solidFill>
                <a:latin typeface="Tahoma"/>
              </a:rPr>
              <a:t>elevare i tassi di attività delle donne dal 51% a oltre il 60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(in generale dal 61 al 70%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ta Pavan - CISL Lombard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Tahoma"/>
              </a:rPr>
              <a:t>La parità nei trattati europe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Tahoma"/>
              </a:rPr>
              <a:t>1957: il Trattato costitutivo di Roma 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definisce all’art. 119 il principio di parità salaria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Tahoma"/>
              </a:rPr>
              <a:t>Le motivazioni erano anche di natura “economica”: evitare 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distorsioni di concorrenza</a:t>
            </a:r>
            <a:r>
              <a:rPr b="1" lang="it-IT" sz="2000" spc="-1" strike="noStrike">
                <a:solidFill>
                  <a:srgbClr val="ffff00"/>
                </a:solidFill>
                <a:latin typeface="Tahoma"/>
              </a:rPr>
              <a:t> tra paesi fondator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-    </a:t>
            </a:r>
            <a:r>
              <a:rPr b="1" lang="it-IT" sz="2000" spc="-1" strike="noStrike">
                <a:solidFill>
                  <a:srgbClr val="ffff00"/>
                </a:solidFill>
                <a:latin typeface="Tahoma"/>
              </a:rPr>
              <a:t>1992: il Trattato di Maastricht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 amplia il concetto di parità salariale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ffff00"/>
                </a:solidFill>
                <a:latin typeface="Tahoma"/>
              </a:rPr>
              <a:t>-1997:  il Trattato di Amsterdam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 introduce altri principi,  tra cui quello della non discriminazione tra i sessi e del mainstreaming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ta Pavan - CISL Lombard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Tahoma"/>
              </a:rPr>
              <a:t>Parità e pari opportunità nella legislazione e negli atti comunitari/1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Tahoma"/>
              </a:rPr>
              <a:t>(anni settanta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Tahoma"/>
              </a:rPr>
              <a:t>1975</a:t>
            </a:r>
            <a:r>
              <a:rPr b="1" lang="it-IT" sz="20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Direttiva riguardante il riavvicinamento delle legislazioni degl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Stati membri relative all’applicazione del principio di </a:t>
            </a: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parità di retribuzione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 tra lavoratori uomini e lavoratrici donne (n° 757117/CE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ahoma"/>
              </a:rPr>
              <a:t>197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Direttiva relativa all’applicazione del principio di parità di trattamento tra uomini e donne per quanto riguarda </a:t>
            </a: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l’accesso al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lavoro, la formazione e la promozione professionali, e le condizioni di lavoro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 (n°  76/207/CEE)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Tahoma"/>
              </a:rPr>
              <a:t>1978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Direttiva relativa all’applicazione progressiva del principio di parità di trattamento tra uomini e donne in materia di </a:t>
            </a: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sicurezza sociale  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(n°  79/7/CE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ta Pavan - CISL Lombard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Tahoma"/>
              </a:rPr>
              <a:t>Atti comunitari /2</a:t>
            </a:r>
            <a:br>
              <a:rPr sz="3600"/>
            </a:br>
            <a:r>
              <a:rPr b="1" lang="it-IT" sz="3600" spc="-1" strike="noStrike">
                <a:solidFill>
                  <a:srgbClr val="ffff00"/>
                </a:solidFill>
                <a:latin typeface="Tahoma"/>
              </a:rPr>
              <a:t>(anni 80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ahoma"/>
              </a:rPr>
              <a:t>1984: 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Raccomandazione della Commissione Europea </a:t>
            </a:r>
            <a:r>
              <a:rPr b="0" lang="it-IT" sz="2000" spc="-1" strike="noStrike">
                <a:solidFill>
                  <a:srgbClr val="ffff00"/>
                </a:solidFill>
                <a:latin typeface="Tahoma"/>
              </a:rPr>
              <a:t>sulle azioni posi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ahoma"/>
              </a:rPr>
              <a:t>1986 : 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Direttiva relativa all’applicazione </a:t>
            </a:r>
            <a:r>
              <a:rPr b="0" lang="it-IT" sz="2000" spc="-1" strike="noStrike">
                <a:solidFill>
                  <a:srgbClr val="ffff00"/>
                </a:solidFill>
                <a:latin typeface="Tahoma"/>
              </a:rPr>
              <a:t>del principio di parità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 di trattamento tra uomini e  donne nei regimi professionali di sicurezzasociale (no 86/378/CE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ahoma"/>
              </a:rPr>
              <a:t>1986 : 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Direttiva sull’applicazione del principio di parità di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trattamento tra uomini e donne che esercitano </a:t>
            </a:r>
            <a:r>
              <a:rPr b="0" lang="it-IT" sz="2000" spc="-1" strike="noStrike">
                <a:solidFill>
                  <a:srgbClr val="ffff00"/>
                </a:solidFill>
                <a:latin typeface="Tahoma"/>
              </a:rPr>
              <a:t>un’attività indipendente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, compresa l’attività agricola, e sulla protezione della </a:t>
            </a:r>
            <a:r>
              <a:rPr b="0" lang="it-IT" sz="2000" spc="-1" strike="noStrike">
                <a:solidFill>
                  <a:srgbClr val="ffff00"/>
                </a:solidFill>
                <a:latin typeface="Tahoma"/>
              </a:rPr>
              <a:t>maternità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 (no 86/613/CE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ta Pavan - CISL Lombard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Tahoma"/>
              </a:rPr>
              <a:t>Atti comunitari/3</a:t>
            </a:r>
            <a:br>
              <a:rPr sz="3600"/>
            </a:br>
            <a:r>
              <a:rPr b="1" lang="it-IT" sz="3600" spc="-1" strike="noStrike">
                <a:solidFill>
                  <a:srgbClr val="ffff00"/>
                </a:solidFill>
                <a:latin typeface="Tahoma"/>
              </a:rPr>
              <a:t>(anni 90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Tahoma"/>
              </a:rPr>
              <a:t>199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Direttiva sulla sicurezza e della salute delle </a:t>
            </a: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lavoratrici incinte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, partorienti o che allattano sul lavoro (n°  92/85/CE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Raccomandazione del Consiglio relativa alla </a:t>
            </a: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custodia dei bambini 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 (n°  92/241/CE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Raccomandazione della Commissione sulle </a:t>
            </a: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molestie sessuali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, alle quali è stato affiancato un </a:t>
            </a: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codice di condotta (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n°  92/131/C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Tahoma"/>
              </a:rPr>
              <a:t>1994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Memorandum della commissione sulla parità di retribuzione per </a:t>
            </a: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lavori di eguale valo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Risoluzione del Consiglio sulla pari opportunità nell’ ambito dei </a:t>
            </a: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fondi struttural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Risoluzione del Consiglio sulla pari opportunità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 nella 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strategia di </a:t>
            </a: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crescita econom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ta Pavan - CISL Lombard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Tahoma"/>
              </a:rPr>
              <a:t>Atti comunitari/3</a:t>
            </a:r>
            <a:br>
              <a:rPr sz="3600"/>
            </a:br>
            <a:r>
              <a:rPr b="1" lang="it-IT" sz="3600" spc="-1" strike="noStrike">
                <a:solidFill>
                  <a:srgbClr val="ffff00"/>
                </a:solidFill>
                <a:latin typeface="Tahoma"/>
              </a:rPr>
              <a:t>(anni 90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1996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Comunicazione della Commissione relativa all’ applicazione del principio di </a:t>
            </a: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mainstream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Codice di condotta per l’applicazione della </a:t>
            </a: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parità retributi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ahoma"/>
              </a:rPr>
              <a:t>1997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direttiva relativa </a:t>
            </a: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all’onere della prova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 nei casi di discriminazione  basata sul sesso (n°  97/80/C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Tahoma"/>
              </a:rPr>
              <a:t>Nel corso degli anni, numerose sono state anche le sentenze in materia di pari opportunità della Corte di Giustizia (es: lavoro notturno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ta Pavan - CISL Lombard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La </a:t>
            </a:r>
            <a:r>
              <a:rPr b="0" lang="it-IT" sz="2800" spc="-1" strike="noStrike">
                <a:solidFill>
                  <a:srgbClr val="ffff00"/>
                </a:solidFill>
                <a:latin typeface="Tahoma"/>
              </a:rPr>
              <a:t>CES  (Confederazione Europea dei Sindacati)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definisce</a:t>
            </a:r>
            <a:r>
              <a:rPr b="0" lang="it-IT" sz="2800" spc="-1" strike="noStrike">
                <a:solidFill>
                  <a:srgbClr val="ffff00"/>
                </a:solidFill>
                <a:latin typeface="Tahoma"/>
              </a:rPr>
              <a:t> l’ Integrazione della dimensione di genere”  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come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Tahoma"/>
              </a:rPr>
              <a:t>La mobilitazione di tutte le politiche generali e di tutte le misure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A quale scopo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ahoma"/>
              </a:rPr>
              <a:t>“ </a:t>
            </a:r>
            <a:r>
              <a:rPr b="0" lang="it-IT" sz="2000" spc="-1" strike="noStrike">
                <a:solidFill>
                  <a:srgbClr val="ffff00"/>
                </a:solidFill>
                <a:latin typeface="Tahoma"/>
              </a:rPr>
              <a:t>Raggiungere 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la parità</a:t>
            </a:r>
            <a:r>
              <a:rPr b="0" lang="it-IT" sz="2000" spc="-1" strike="noStrike">
                <a:solidFill>
                  <a:srgbClr val="ffff00"/>
                </a:solidFill>
                <a:latin typeface="Tahoma"/>
              </a:rPr>
              <a:t> tenendo conto attivamente e apertamente, in fase di </a:t>
            </a:r>
            <a:r>
              <a:rPr b="0" i="1" lang="it-IT" sz="2000" spc="-1" strike="noStrike">
                <a:solidFill>
                  <a:srgbClr val="ffff00"/>
                </a:solidFill>
                <a:latin typeface="Tahoma"/>
              </a:rPr>
              <a:t>pianificazione</a:t>
            </a:r>
            <a:r>
              <a:rPr b="0" lang="it-IT" sz="2000" spc="-1" strike="noStrike">
                <a:solidFill>
                  <a:srgbClr val="ffff00"/>
                </a:solidFill>
                <a:latin typeface="Tahoma"/>
              </a:rPr>
              <a:t>, dei possibili effetti sulle condizioni rispettive di donne e  uomini … Ciò implica la valutazione  </a:t>
            </a:r>
            <a:r>
              <a:rPr b="0" i="1" lang="it-IT" sz="2000" spc="-1" strike="noStrike">
                <a:solidFill>
                  <a:srgbClr val="ffff00"/>
                </a:solidFill>
                <a:latin typeface="Tahoma"/>
              </a:rPr>
              <a:t>sistematica</a:t>
            </a:r>
            <a:r>
              <a:rPr b="0" lang="it-IT" sz="2000" spc="-1" strike="noStrike">
                <a:solidFill>
                  <a:srgbClr val="ffff00"/>
                </a:solidFill>
                <a:latin typeface="Tahoma"/>
              </a:rPr>
              <a:t> delle misure e delle politiche e la valutazione  degli  effetti in fase definizione e di  applicazione.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0" algn="ctr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ta Pavan - CISL Lombard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9T08:38:00Z</dcterms:created>
  <dc:creator>rita.pavan</dc:creator>
  <dc:description/>
  <dc:language>en-US</dc:language>
  <cp:lastModifiedBy>lleonardi</cp:lastModifiedBy>
  <dcterms:modified xsi:type="dcterms:W3CDTF">2006-06-05T12:16:48Z</dcterms:modified>
  <cp:revision>16</cp:revision>
  <dc:subject/>
  <dc:title>Pari Opportunità e Contrattazione Collettiva In Europa</dc:title>
</cp:coreProperties>
</file>