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029-D5F5-4F3B-982F-711E53DC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873-65F8-4B11-A1CF-89B6EC4E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0AE-0A74-44EC-A760-B89B5D92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6A4D-9D6F-469F-B513-D2105EC0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B05-1092-45A4-A73F-80B478F3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F4C1-77AB-4C8C-B2D2-CD1C4C35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D2A5-D99C-47B9-8ECE-78A905DE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D07B-B396-43CC-9E55-B7D56815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CC5-57E4-4FDF-9612-94A101E6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4B4-DF8F-416F-9B00-D2251376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7622-721F-4722-B372-7F7739ED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D5AA-B99F-45CF-B669-C0CBE1C9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1E80-D49A-42C1-894C-A0477AAA8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6720" y="260280"/>
            <a:ext cx="3810240" cy="747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1504800"/>
            <a:ext cx="741672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80"/>
                </a:solidFill>
                <a:latin typeface="Times New Roman"/>
              </a:rPr>
              <a:t>Verso i LE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80"/>
                </a:solidFill>
                <a:latin typeface="Times New Roman"/>
              </a:rPr>
              <a:t>Prospettive ed esperienze in co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80"/>
                </a:solidFill>
                <a:latin typeface="Times New Roman"/>
              </a:rPr>
              <a:t>Proposte ed analisi per la definizione dei L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80"/>
                </a:solidFill>
                <a:latin typeface="Times New Roman"/>
              </a:rPr>
              <a:t>Seminario Asso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80"/>
                </a:solidFill>
                <a:latin typeface="Times New Roman"/>
              </a:rPr>
              <a:t>Firenze - Villa Mont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8080"/>
                </a:solidFill>
                <a:latin typeface="Times New Roman"/>
              </a:rPr>
              <a:t>26 giugno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0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24000" y="6021360"/>
          <a:ext cx="244764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6021360"/>
                    <a:ext cx="24476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54160" y="189000"/>
            <a:ext cx="2157120" cy="639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96360" y="629280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otype Corsiva"/>
              </a:rPr>
              <a:t>Pietro Maria Testa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299736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8080"/>
                </a:solidFill>
                <a:latin typeface="Times New Roman"/>
              </a:rPr>
              <a:t>l’attività dell’Osservatorio Nazionale sull’Organizzazione e sulla Gestione delle Arpa Ap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L’attività ONOG sui LET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zione progetti elabor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26120" y="115920"/>
            <a:ext cx="3809880" cy="74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4000" y="6021360"/>
          <a:ext cx="244764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6021360"/>
                    <a:ext cx="24476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2411640" cy="714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96360" y="629280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otype Corsiva"/>
              </a:rPr>
              <a:t>Pietro Maria Testa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1300320"/>
            <a:ext cx="44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ttu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2092320"/>
            <a:ext cx="8496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ttività ONOG sui LETA: elaborazioni, risultati, prodo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ttività ONOG sui LETA: programmazione progetti elabor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26120" y="115920"/>
            <a:ext cx="3809880" cy="74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324000" y="6021360"/>
          <a:ext cx="244764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6021360"/>
                    <a:ext cx="24476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54160" y="189000"/>
            <a:ext cx="2157120" cy="639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96360" y="629280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otype Corsiva"/>
              </a:rPr>
              <a:t>Pietro Maria Testa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1915920"/>
            <a:ext cx="885672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ON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Osservatorio Nazionale sull’Organizzazione e sulla Gestione delle Arpa Ap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26120" y="115920"/>
            <a:ext cx="3809880" cy="74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324000" y="6021360"/>
          <a:ext cx="244764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6021360"/>
                    <a:ext cx="24476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54160" y="189000"/>
            <a:ext cx="2157120" cy="639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96360" y="629280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otype Corsiva"/>
              </a:rPr>
              <a:t>Pietro Maria Testa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48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292720" y="2781360"/>
            <a:ext cx="3672000" cy="40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80"/>
                </a:solidFill>
                <a:latin typeface="Arial"/>
              </a:rPr>
              <a:t>Costituzione</a:t>
            </a:r>
            <a:r>
              <a:rPr b="0" lang="it-IT" sz="1400" spc="-1" strike="noStrike">
                <a:solidFill>
                  <a:srgbClr val="008080"/>
                </a:solidFill>
                <a:latin typeface="Arial"/>
              </a:rPr>
              <a:t>: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80"/>
                </a:solidFill>
                <a:latin typeface="Arial"/>
              </a:rPr>
              <a:t>Primo rinnovo</a:t>
            </a:r>
            <a:r>
              <a:rPr b="0" lang="it-IT" sz="1400" spc="-1" strike="noStrike">
                <a:solidFill>
                  <a:srgbClr val="008080"/>
                </a:solidFill>
                <a:latin typeface="Arial"/>
              </a:rPr>
              <a:t>: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80"/>
                </a:solidFill>
                <a:latin typeface="Arial"/>
              </a:rPr>
              <a:t>Secondo rinnovo</a:t>
            </a:r>
            <a:r>
              <a:rPr b="0" lang="it-IT" sz="1400" spc="-1" strike="noStrike">
                <a:solidFill>
                  <a:srgbClr val="008080"/>
                </a:solidFill>
                <a:latin typeface="Arial"/>
              </a:rPr>
              <a:t>: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80"/>
                </a:solidFill>
                <a:latin typeface="Arial"/>
              </a:rPr>
              <a:t>Prodott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8080"/>
                </a:solidFill>
                <a:latin typeface="Arial"/>
              </a:rPr>
              <a:t>3 Rapporti di Benchmar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8080"/>
                </a:solidFill>
                <a:latin typeface="Arial"/>
              </a:rPr>
              <a:t>2 pubblicazioni su tema del “Finanziamento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8080"/>
                </a:solidFill>
                <a:latin typeface="Arial"/>
              </a:rPr>
              <a:t>Partecipazion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8080"/>
                </a:solidFill>
                <a:latin typeface="Arial"/>
              </a:rPr>
              <a:t>FORUM 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8080"/>
                </a:solidFill>
                <a:latin typeface="Arial"/>
              </a:rPr>
              <a:t>Conferenze delle Agenzie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8080"/>
                </a:solidFill>
                <a:latin typeface="Arial"/>
              </a:rPr>
              <a:t>Laboratorio Cantieri D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2131920"/>
            <a:ext cx="82789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ivelli Essenziali di Tutela Ambien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226120" y="115920"/>
            <a:ext cx="3809880" cy="74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24000" y="6021360"/>
          <a:ext cx="244764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6021360"/>
                    <a:ext cx="24476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54160" y="189000"/>
            <a:ext cx="2157120" cy="639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96360" y="629280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otype Corsiva"/>
              </a:rPr>
              <a:t>Pietro Maria Testa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8964720" cy="33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concetto di LETA viene utilizzato per la prima volta in una ricerca condotta da Arpa Lombardia per conto di ONO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ccessivamente ONOG ha sviluppato un progetto specifico - tutt’ora in corso - il cui coordinamento generale è affidato ad Arpa Emilia Romag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progetto ha come obiettivi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analisi delle modalità e delle forme di sostentamento economico del Sistema Agenziale nelle diverse realtà regionali, anche in rapporto agli aspetti legislativi ed economico-finanziari della spesa in campo ambientale in Itali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definizione, la quantificazione e la determinazione di LETA per il Sistema Agenziale, con analisi della struttura dei costi delle attività per stimare l'ammontare della quota minima di finanziamento delle Agenzie e la correlazioni fra finanziamento e attività istituzional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26120" y="115920"/>
            <a:ext cx="3809880" cy="74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324000" y="6021360"/>
          <a:ext cx="244764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6021360"/>
                    <a:ext cx="24476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54160" y="189000"/>
            <a:ext cx="2157120" cy="639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96360" y="629280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otype Corsiva"/>
              </a:rPr>
              <a:t>Pietro Maria Testa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496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percorso delineato dal progetto preve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definizione, attraverso un ampio set di indicatori ambientali e socioeconomici, di un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indice territoriale sintetic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appresentativo del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quadro dei determinant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he influiscono in via diretta o indiretta sulla domanda di prevenzione e controllo incidente sulle Agenzi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nalisi e l’individuazione di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ipologie ed entità di prestazioni che le stesse debbono assicurar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n riferimento ai dettami normativi ed alle istanze territoriali local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disegno unitario e condiviso su cui oggi si muove il Sistema agenziale prevede i seguenti passagg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troduzione di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menti di rilevazione analitica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in grado di interfacciare le rilevazioni dei dati sulle attività (utilizzando indicatori tecnico-scientifici secondo lo schema DPSIR) con i dati di contabilità economico-finanziaria, per tipologie di intervento e per matrice ambienta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eterminazione sistematica del fabbisogno finanziario per centri di spesa (o di costo) attraverso la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rilevazione delle attività caratteristiche e l’applicazione di costi standard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ai processi precedentemente definit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individuazione dei livelli essenziali di tutela dell’ambient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LETA) per garantire la uniformità di prestazioni su tutto il territorio naziona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oposta di attribuzione del finanziamento a copertura dei LETA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– secondo parametri e indicatori territoriali – e individuazione dei canali di finanziamento per l’attuazione di programmi regionali, nel rispetto delle prerogative attribuite ai diversi livelli di gover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226120" y="115920"/>
            <a:ext cx="3809880" cy="74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324000" y="6021360"/>
          <a:ext cx="244764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6021360"/>
                    <a:ext cx="24476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54160" y="189000"/>
            <a:ext cx="2157120" cy="639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596360" y="629280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otype Corsiva"/>
              </a:rPr>
              <a:t>Pietro Maria Testa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9600" y="2349360"/>
            <a:ext cx="638028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L’attività ONOG sui LET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borazioni, risultati, prodo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226120" y="115920"/>
            <a:ext cx="3809880" cy="74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324000" y="6021360"/>
          <a:ext cx="244764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6021360"/>
                    <a:ext cx="24476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2411640" cy="714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596360" y="629280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Monotype Corsiva"/>
              </a:rPr>
              <a:t>Pietro Maria Testa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13:08:24Z</dcterms:created>
  <dc:creator>rossato</dc:creator>
  <dc:description/>
  <dc:language>en-US</dc:language>
  <cp:lastModifiedBy>ptestai</cp:lastModifiedBy>
  <dcterms:modified xsi:type="dcterms:W3CDTF">2008-06-24T10:37:10Z</dcterms:modified>
  <cp:revision>8</cp:revision>
  <dc:subject/>
  <dc:title>Presentazione di PowerPoint</dc:title>
</cp:coreProperties>
</file>