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EC8-DCE3-4B6C-8388-6B258132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1EF-D20A-4B72-BAE0-EB3569AD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213-F050-4ADA-AB98-02A7AD01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31B-8E69-49FF-8983-B9804F2F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EFE-4147-4509-8819-626AAAB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C5E-B9DD-4EB3-86A3-9163684D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455-465F-4082-B1C6-E37ECC7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E89-3D8A-4C63-BA31-3E606328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057-565E-46AE-B97A-08447CD3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DA0-C9B2-4CAD-9602-3081B42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F11-B924-4BFF-A63A-5D9885F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D67-A957-4C0A-8226-31B13138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70B2-A818-4B1B-8A8F-EB026C425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2205000"/>
            <a:ext cx="619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c6648"/>
                </a:solidFill>
                <a:latin typeface="Arial"/>
              </a:rPr>
              <a:t>Firenze, 26 giugno 200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1c6648"/>
                </a:solidFill>
                <a:latin typeface="Arial"/>
              </a:rPr>
              <a:t>Asso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1338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c6648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1c6648"/>
                </a:solidFill>
                <a:latin typeface="Arial"/>
              </a:rPr>
              <a:t>L’esperienza LETA in Arpa Vene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D43-26A6-497B-9930-DB54B05600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541600"/>
            <a:ext cx="7704000" cy="302580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I risultati del progetto Benchmarking con particolare riferimento alle lin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   “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Attività e Funzioni” </a:t>
            </a:r>
            <a:r>
              <a:rPr b="1" lang="it-IT" sz="1600" spc="-1" strike="noStrike">
                <a:solidFill>
                  <a:srgbClr val="1c6648"/>
                </a:solidFill>
                <a:latin typeface="Arial"/>
              </a:rPr>
              <a:t>(coordinata da Arpa Veneto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    “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Pianificazione e Controllo” </a:t>
            </a:r>
            <a:r>
              <a:rPr b="1" lang="it-IT" sz="1600" spc="-1" strike="noStrike">
                <a:solidFill>
                  <a:srgbClr val="1c6648"/>
                </a:solidFill>
                <a:latin typeface="Arial"/>
              </a:rPr>
              <a:t>(coordinata da Arpa Lombardia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sono stati un punto di partenza per il lavoro svolto da ARPA Emilia-Romagna nella definizione di una prima ipotesi di dimensionamento dei LETA presentata alla X Conferenza delle Agenzie Ambientali nel marzo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di condivisione </a:t>
            </a:r>
            <a:r>
              <a:rPr b="1" lang="en-US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999-CD40-459B-A5AA-321652D06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1844640"/>
            <a:ext cx="770436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Quanto è stato fatto (…e si farà) internamente ad ARPAV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Le esperienze maturate nell’ambito del sistema agenziale con il progetto Benchmark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L’ipotesi di dimensionamento elaborata da ARPA 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Gli auspicabili risultati del Gruppo di lavoro agenziale sui LETA promosso da ONOG </a:t>
            </a:r>
            <a:r>
              <a:rPr b="0" lang="it-IT" sz="1600" spc="-1" strike="noStrike">
                <a:solidFill>
                  <a:srgbClr val="1c6648"/>
                </a:solidFill>
                <a:latin typeface="Arial"/>
              </a:rPr>
              <a:t>(Piano Attività ONOG 2007-2008)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in conclu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487760"/>
            <a:ext cx="7704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6648"/>
                </a:solidFill>
                <a:latin typeface="Arial"/>
              </a:rPr>
              <a:t>Queste sono le basi da cui ARPAV intende partire per raggiungere l’obiettivo prefissatosi nella pianificazione strategica 2008-201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  <a:ea typeface="Times New Roman"/>
              </a:rPr>
              <a:t>Definire ed elaborare i Livelli Essenziali di Tutela Ambientale da impiegare nella pianificazione e programmazione a livello region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6E1-BE50-4E6C-B345-05AAC8EA3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6720" y="1125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Il finanziamento delle Agenzie per l’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7548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4365720"/>
            <a:ext cx="7705800" cy="10792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ETA come premessa indispensabile per poter procedere all’individuazione di idonei criteri per i trasferimenti di riso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492280"/>
            <a:ext cx="7705800" cy="10810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l finanziamento delle agenzie: un tema “scottante” fin dalla legge costitutiva 61/94 e gli indicatori ivi previsti (art. 03 comma 2) per la definizione delle risorse (mai applicati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038-805F-4061-9DBC-DACE357606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844640"/>
            <a:ext cx="7705800" cy="144144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ivelli Essenziali di Tutela Ambientale garantiscono l’uniformità di godimento del diritto alla tutela dell’ambiente da parte di tutti i cittadini italiani (analogia con i LEA della sanità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’esperienza LETA in Arpa Ven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3645000"/>
            <a:ext cx="7705800" cy="25207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6040" indent="-176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 LETA nel Piano Pluriennale 2008-2010 di attività di ARP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99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Obiettivo strategico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(“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</a:rPr>
              <a:t>4.4 - 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Definire ed elaborare i Livelli Essenziali di Tutela Ambientale da impiegare nella pianificazione e programmazione a livello region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”)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451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Azione strategica</a:t>
            </a:r>
            <a:r>
              <a:rPr b="1" lang="en-US" sz="1800" spc="-1" strike="noStrike">
                <a:solidFill>
                  <a:srgbClr val="1c6648"/>
                </a:solidFill>
                <a:latin typeface="Arial"/>
              </a:rPr>
              <a:t> di implementazione dell’Obiettivo 4.4,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(“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</a:rPr>
              <a:t>4.4.1 - </a:t>
            </a:r>
            <a:r>
              <a:rPr b="0" i="1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Contribuire attivamente alla definizione dei LETA a livello nazionale all'interno del sistema agenzi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  <a:ea typeface="Times New Roman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D50-D270-4939-9D19-5D48B704A6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3213000"/>
            <a:ext cx="7991280" cy="144000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In entrambi i casi appena citati non si tratta, in realtà, di avviare nel prossimo futuro azioni </a:t>
            </a:r>
            <a:r>
              <a:rPr b="1" i="1" lang="en-US" sz="2000" spc="-1" strike="noStrike">
                <a:solidFill>
                  <a:srgbClr val="1c6648"/>
                </a:solidFill>
                <a:latin typeface="Arial"/>
              </a:rPr>
              <a:t>ex novo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volte a sviluppare la tematica LETA, ma piuttosto di </a:t>
            </a:r>
            <a:r>
              <a:rPr b="1" i="1" lang="en-US" sz="2000" spc="-1" strike="noStrike" u="sng">
                <a:solidFill>
                  <a:srgbClr val="1c6648"/>
                </a:solidFill>
                <a:uFillTx/>
                <a:latin typeface="Arial"/>
              </a:rPr>
              <a:t>confermare e rinnovare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sforzi già profusi in tale direzione da ARPAV negli ultimi an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12536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’esperienza LETA in Arpa Ven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0BA-9E85-4BA4-8846-086DFD04F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700280"/>
            <a:ext cx="7848360" cy="79200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Temi propedeutici ai LETA sviluppati in un’ottica interna all’Agenz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851200"/>
            <a:ext cx="7848360" cy="324180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c6648"/>
                </a:solidFill>
                <a:uFillTx/>
                <a:latin typeface="Arial"/>
              </a:rPr>
              <a:t>La determinazione della pressione ambientale sul territorio</a:t>
            </a:r>
            <a:r>
              <a:rPr b="1" lang="en-US" sz="1800" spc="-1" strike="noStrike">
                <a:solidFill>
                  <a:srgbClr val="1c6648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Stima delle peculiarità del territorio geografico di riferimento e degli impatti dei fattori di pressione che vi intervengo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A questo fine è stata effettu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00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la raccolta dei “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Determinanti la Pressione Ambiental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” del Veneto </a:t>
            </a:r>
            <a:r>
              <a:rPr b="0" lang="en-US" sz="1600" spc="-1" strike="noStrike">
                <a:solidFill>
                  <a:srgbClr val="1c6648"/>
                </a:solidFill>
                <a:latin typeface="Arial"/>
              </a:rPr>
              <a:t>(Piano Pluriennale 2005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la pubblicazione (cartacea e virtuale) del “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Rapporto sugli Indicatori Ambientali del Veneto 2008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83808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0FF-FE25-47C2-BD6A-9726934807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692280"/>
            <a:ext cx="8136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 </a:t>
            </a:r>
            <a:br>
              <a:rPr sz="2800"/>
            </a:br>
            <a:br>
              <a:rPr sz="400"/>
            </a:b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“</a:t>
            </a: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focus sui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 Determinanti la Pressione Ambientale</a:t>
            </a:r>
            <a:r>
              <a:rPr b="0" lang="it-IT" sz="2000" spc="-1" strike="noStrike">
                <a:solidFill>
                  <a:srgbClr val="1c6648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680000" cy="4492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76720" y="1557360"/>
            <a:ext cx="37432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c6648"/>
                </a:solidFill>
                <a:latin typeface="Arial"/>
              </a:rPr>
              <a:t>86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voci raggruppate in </a:t>
            </a:r>
            <a:r>
              <a:rPr b="1" lang="it-IT" sz="1800" spc="-1" strike="noStrike">
                <a:solidFill>
                  <a:srgbClr val="1c6648"/>
                </a:solidFill>
                <a:latin typeface="Arial"/>
              </a:rPr>
              <a:t>8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macro descrittori</a:t>
            </a:r>
            <a:r>
              <a:rPr b="1" lang="it-IT" sz="2400" spc="-1" strike="noStrike">
                <a:solidFill>
                  <a:srgbClr val="1c6648"/>
                </a:solidFill>
                <a:latin typeface="Arial"/>
              </a:rPr>
              <a:t>*</a:t>
            </a:r>
            <a:r>
              <a:rPr b="0" lang="it-IT" sz="16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che tengono conto delle peculiarità geografiche del territorio e delle fonti di pressione ambientale, suddivisi a livello provinciale che, opportunamente elaborati, restituiscono una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STIM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 del </a:t>
            </a:r>
            <a:r>
              <a:rPr b="0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peso percentuale della pressione ambientale per provinci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6165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6648"/>
                </a:solidFill>
                <a:latin typeface="Arial"/>
              </a:rPr>
              <a:t>*</a:t>
            </a:r>
            <a:r>
              <a:rPr b="1" lang="en-US" sz="13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1c6648"/>
                </a:solidFill>
                <a:latin typeface="Arial"/>
              </a:rPr>
              <a:t>Scelti sulla base di precedenti  esperienze ARPA ER, ARPAV e Sistema Agenzia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437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Un dato importante, da tenere in considerazione durante la delicata fase di ripartizione delle risorse (umane ed economiche) tra le strutture operative dell’Agenz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90A-2121-4D67-A1ED-8AE0C4219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828800"/>
            <a:ext cx="8424720" cy="45529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Gli “standard di risposta alle problematiche ambientali”: </a:t>
            </a:r>
            <a:r>
              <a:rPr b="1" i="1" lang="it-IT" sz="1800" spc="-1" strike="noStrike" u="sng">
                <a:solidFill>
                  <a:srgbClr val="1c6648"/>
                </a:solidFill>
                <a:uFillTx/>
                <a:latin typeface="Arial"/>
              </a:rPr>
              <a:t>Attività Teoric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. Individuazione di “standard di risposta”, finalizzati all’adozione di comportamenti omogenei su tutto il territorio regionale (uguali condizioni di sicurezza ambientale e quantificazione delle risorse) tram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Il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Piano Generale delle reti di monitoraggio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I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Protocolli di Controllo sulle Fonti di Pressione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(PCFP) riguardanti depuratori, discariche, aziende a rischio di incidente rilevante (Seveso) e un gruppo sperimentale di 8  tipologie di aziende IPP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La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Gerarchia dei controlli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controllo documentale, tecnico, gestionale, analitic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L’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Analisi critica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sull’utilizzo pedìssequo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dei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1c6648"/>
                </a:solidFill>
                <a:latin typeface="Arial"/>
              </a:rPr>
              <a:t>trend storici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 per le attività non ancora coperte da standard condivisi (spesso consuetudini operative e richieste locali condizionano pesantemente l’attività sul territori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76500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CDA-EBB1-4933-A1F6-741BA3A781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…</a:t>
            </a:r>
            <a:r>
              <a:rPr b="1" lang="it-IT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interno </a:t>
            </a:r>
            <a:r>
              <a:rPr b="1" lang="it-IT" sz="2000" spc="-1" strike="noStrike" u="sng">
                <a:solidFill>
                  <a:srgbClr val="1c6648"/>
                </a:solidFill>
                <a:uFillTx/>
                <a:latin typeface="Arial"/>
              </a:rPr>
              <a:t>(se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924280"/>
            <a:ext cx="8064360" cy="1313640"/>
          </a:xfrm>
          <a:prstGeom prst="rect">
            <a:avLst/>
          </a:prstGeom>
          <a:noFill/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9640" indent="-80964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6648"/>
                </a:solidFill>
                <a:latin typeface="Arial"/>
              </a:rPr>
              <a:t>N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1c6648"/>
                </a:solidFill>
                <a:latin typeface="Arial"/>
              </a:rPr>
              <a:t>Ovviamente è implicito che qualsiasi tentativo di costruire standard di risposta significativi presuppone necessariamente un’analisi puntuale della domanda di attività indotta dalla normativa in vig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393-1ABF-4E04-A810-7392DF94AC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6680" cy="71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1280" y="1159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1c6648"/>
                </a:solidFill>
                <a:latin typeface="Arial"/>
              </a:rPr>
              <a:t>AssoArpa, 26 giugno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720" y="907920"/>
            <a:ext cx="81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… </a:t>
            </a:r>
            <a:r>
              <a:rPr b="1" lang="en-US" sz="2800" spc="-1" strike="noStrike" u="sng">
                <a:solidFill>
                  <a:srgbClr val="1c6648"/>
                </a:solidFill>
                <a:uFillTx/>
                <a:latin typeface="Arial"/>
              </a:rPr>
              <a:t>LETA in un contesto di condivi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844640"/>
            <a:ext cx="7848360" cy="79236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Temi propedeutici ai LETA sviluppati in un’ottica condivisa con il sistema agenziale </a:t>
            </a:r>
            <a:r>
              <a:rPr b="0" lang="it-IT" sz="1800" spc="-1" strike="noStrike">
                <a:solidFill>
                  <a:srgbClr val="1c6648"/>
                </a:solidFill>
                <a:latin typeface="Arial"/>
              </a:rPr>
              <a:t>(progetto Benchmarking)</a:t>
            </a:r>
            <a:r>
              <a:rPr b="1" lang="it-IT" sz="2000" spc="-1" strike="noStrike">
                <a:solidFill>
                  <a:srgbClr val="1c664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144960"/>
            <a:ext cx="7848360" cy="136368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Definizione delle attività istituzionali del sistema delle agenzie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. Sono state individuate le attività condivise dalle varie agenzie che possono rappresentare con oggettività le competenze, gli obblighi, gli impegni comuni sul territorio naz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4748040"/>
            <a:ext cx="7848360" cy="1273320"/>
          </a:xfrm>
          <a:prstGeom prst="rect">
            <a:avLst/>
          </a:prstGeom>
          <a:solidFill>
            <a:srgbClr val="ccffcc"/>
          </a:solidFill>
          <a:ln w="38160">
            <a:solidFill>
              <a:srgbClr val="1c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6840" indent="-343080" algn="just">
              <a:spcBef>
                <a:spcPts val="451"/>
              </a:spcBef>
              <a:buClr>
                <a:srgbClr val="1c664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1c6648"/>
                </a:solidFill>
                <a:latin typeface="Arial"/>
              </a:rPr>
              <a:t>Relazione tra pressione ambientale e attività di risposta</a:t>
            </a:r>
            <a:r>
              <a:rPr b="0" lang="en-US" sz="1800" spc="-1" strike="noStrike">
                <a:solidFill>
                  <a:srgbClr val="1c6648"/>
                </a:solidFill>
                <a:latin typeface="Arial"/>
              </a:rPr>
              <a:t>. È stata definita una metodologia sperimentale in grado di mettere in relazione determinati livelli di pressione ambientale con la risposta potenziale delle agenzie ambient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712-5F35-4BC2-8193-6DB19D3AD7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2:09:45Z</dcterms:created>
  <dc:creator>gbaldo</dc:creator>
  <dc:description/>
  <dc:language>en-US</dc:language>
  <cp:lastModifiedBy>sboato</cp:lastModifiedBy>
  <dcterms:modified xsi:type="dcterms:W3CDTF">2008-06-25T20:19:30Z</dcterms:modified>
  <cp:revision>27</cp:revision>
  <dc:subject/>
  <dc:title>Diapositiva 1</dc:title>
</cp:coreProperties>
</file>