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3BFC-B3FB-490B-96CE-43112B68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6D22-6076-4551-A7D5-2C2F1DDD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58F1-858A-4471-AB13-81403DBB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04D9-6F4C-4834-A7CF-00881175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080A-5124-4B8A-BDBE-C02A5925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86AD-5C13-4477-BD36-0336B40C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857F-2DE6-4269-B9D9-B1B51E44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C209-6E6C-4142-88D7-1501A358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09CE-74FB-421C-8A22-AC1F7BB3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ABF8-3C9E-4F6C-BC09-C345F2C1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83B8-17A6-43FF-8DF9-1FA96836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23A-50F3-4BA2-A6CD-DBBE7FF4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480" y="6244920"/>
            <a:ext cx="3733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F916-311F-40E0-8A7A-BAFA70C1B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50328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o i LETA: esperienze in corso a livello regionale. </a:t>
            </a:r>
            <a:br>
              <a:rPr sz="28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l caso Lombar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uca Marche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rettore Settore Programmazione e sviluppo organizza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PA Lombard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minario AssoAr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Verso i LETA: prospettive ed esperienze a confro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6 giugno 2008 - Firen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 Marchesi                                               Verso i LETA. Il caso ARPA Lombar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DCF6-EAF7-4F93-B098-1F94ADC839F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/06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questione dei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T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è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ò, in realtà, assai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iù ampia e più comples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uazione della Costituzione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t. 11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econdo comma, letter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ttribuisce all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gislazione esclusiva dello Sta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“la determinazione dei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velli essenziali delle prestazioni (LEP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enti i diritti civili e sociali che devono essere garantiti su tutto il territorio naziona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zion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sercitate d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tri soggett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 (p.e. provinc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 Marchesi                                               Verso i LETA. Il caso ARPA Lombar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6F2E-6DF6-4001-A5F0-82E7F8EE665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/06/2008</a:t>
            </a:r>
          </a:p>
        </p:txBody>
      </p:sp>
    </p:spTree>
  </p:cSld>
  <p:transition spd="slow"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sempi di LE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15328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 – Livelli Essenziali di Assistenza (D.Lgs. 502/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AS – Livelli Essenziali dell’Assistenza Sociale (L. 328/2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o la giurisprudenza della Suprema Corte, il  concetto è applicabile a ciò che garantisce diritti civili e sociali, dunque anche all’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’attuazione dell’art. 116 Cost. (il cd. REGIONALISMO DIFFERENZIATO) potrebbe aprire nuove prospettive sul tema dei 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 Marchesi                                               Verso i LETA. Il caso ARPA Lombar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E4B9-E96C-4B26-8FB3-6B59C4D4E06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/06/2008</a:t>
            </a:r>
          </a:p>
        </p:txBody>
      </p:sp>
    </p:spTree>
  </p:cSld>
  <p:transition spd="slow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stema Agenzial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 ruolo di proposta al legislatore nell’ambito della cd. “questione ordinamental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3170160"/>
            <a:ext cx="8229600" cy="28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il concetto di “Sistema Agenzial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il ruolo delle Agenzie nel rapporto con i livelli istituzionali (Stato, Regioni, EEL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i compiti e l’obbligatorietà degli interv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la questione del Finanziam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 Marchesi                                               Verso i LETA. Il caso ARPA Lombar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761-C1E4-43C7-88BA-B08966C0C49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/06/2008</a:t>
            </a: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2438280"/>
            <a:ext cx="81518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cune Regioni stanno provando ad “anticipare” alcuni aspetti del ragionamento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 base tecnic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per “negoziare” il finanziamento AR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l finanziamen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 Marchesi                                               Verso i LETA. Il caso ARPA Lombar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86A6-8F09-487E-BF22-45C585A45D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/06/2008</a:t>
            </a: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95360" y="22856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 stretta cooperazione tr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RPA e Region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Presidenza della Giun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ppatura dei process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individuazione di tipologie ed entità delle prestazioni da assicurare, con riferimento alle leggi e alle istanze territor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uadro dei determinanti/pression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he influiscono sulla domanda di attiv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l percorso ipotizzato in Lombardia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 Marchesi                                               Verso i LETA. Il caso ARPA Lombar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EBF5-1026-42E3-9902-892C3AE7C87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/06/2008</a:t>
            </a:r>
          </a:p>
        </p:txBody>
      </p:sp>
    </p:spTree>
  </p:cSld>
  <p:transition spd="slow"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l percorso ipotizzato in Lombardia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alisi dei costi unitari di process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ecessari per la produzi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solidamen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gli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rumenti di rilevazio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grado di interfacciare i dati di attività con i dati di contabilit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viduazione dei livelli attes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i prest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azione de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bbisogno finanziari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ttraverso applicazione costi standard ai processi e ai livelli definiti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 Marchesi                                               Verso i LETA. Il caso ARPA Lombar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F68C-809E-4D14-B42B-09FADDDEF12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/06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360" y="3341520"/>
            <a:ext cx="8945640" cy="204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7360" y="5378400"/>
            <a:ext cx="1519200" cy="94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01800" y="5378400"/>
            <a:ext cx="986040" cy="94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8200" y="5378400"/>
            <a:ext cx="2558880" cy="94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7360" y="6324480"/>
            <a:ext cx="15192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86040" y="6324480"/>
            <a:ext cx="537696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6240" y="3537000"/>
            <a:ext cx="727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GRAND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7000" y="3773520"/>
            <a:ext cx="62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RISCH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8960" y="4011480"/>
            <a:ext cx="109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INDUSTRI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7720" y="4249800"/>
            <a:ext cx="1183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Legge 334/9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4520" y="4486320"/>
            <a:ext cx="1407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entury"/>
              </a:rPr>
              <a:t>SMI Dlgs. 238/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6080" y="4724280"/>
            <a:ext cx="1154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ISTRUTTORI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8440" y="4960800"/>
            <a:ext cx="114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SGS EX NO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36840" y="3656160"/>
            <a:ext cx="61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Tipo d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52880" y="3892680"/>
            <a:ext cx="99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"/>
              </a:rPr>
              <a:t>interv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95080" y="4130640"/>
            <a:ext cx="64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defin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2000" y="436716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(modalità d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48040" y="4605480"/>
            <a:ext cx="142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esecuzione del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06600" y="4842000"/>
            <a:ext cx="628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attività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11520" y="4130640"/>
            <a:ext cx="1271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% di attività 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06640" y="4367160"/>
            <a:ext cx="808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realizz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22720" y="401148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N° controll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7600" y="4249800"/>
            <a:ext cx="210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0440" y="4486320"/>
            <a:ext cx="88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effett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65000" y="3417840"/>
            <a:ext cx="1114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Stima temp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19720" y="3656160"/>
            <a:ext cx="1000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standard d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22960" y="3892680"/>
            <a:ext cx="99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riferim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75040" y="4130640"/>
            <a:ext cx="255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(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72840" y="4367160"/>
            <a:ext cx="1302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ore/azienda 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16840" y="4605480"/>
            <a:ext cx="100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controllar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31240" y="4842000"/>
            <a:ext cx="97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art. 8 = 12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10240" y="5079960"/>
            <a:ext cx="33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o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6920" y="5388120"/>
            <a:ext cx="1398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Istruttorie impiant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800" y="5581800"/>
            <a:ext cx="46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(art. 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02800" y="5388120"/>
            <a:ext cx="910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N° imp.art.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93920" y="553716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19160" y="5388120"/>
            <a:ext cx="1227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1 ispezione/an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6840" y="5581800"/>
            <a:ext cx="135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(_ 1 istruttoria S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73640" y="5388120"/>
            <a:ext cx="132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N° imp.control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48440" y="5548320"/>
            <a:ext cx="1269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71840" y="5581800"/>
            <a:ext cx="1226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N° imp.assegn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19800" y="553716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32200" y="5537160"/>
            <a:ext cx="26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5480" y="5880240"/>
            <a:ext cx="141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Istruttorie imp.(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3320" y="6073920"/>
            <a:ext cx="1226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"/>
              </a:rPr>
              <a:t>8) extra provici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02800" y="5880240"/>
            <a:ext cx="910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N° imp.art.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93920" y="6010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19160" y="5880240"/>
            <a:ext cx="1227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1 ispezione/an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86840" y="6073920"/>
            <a:ext cx="135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(_ 1 istruttoria S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73640" y="5880240"/>
            <a:ext cx="132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N° imp.control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48440" y="6040440"/>
            <a:ext cx="1269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72560" y="6073920"/>
            <a:ext cx="1265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N° imp. assegn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16800" y="6010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57240" y="63691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TO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720" y="63691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53360" y="6326280"/>
            <a:ext cx="480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"/>
              </a:rPr>
              <a:t>6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96960" y="3830760"/>
            <a:ext cx="2149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entury"/>
              </a:rPr>
              <a:t>Indice di pressione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05760" y="4113360"/>
            <a:ext cx="188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Programma di rientro R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58160" y="430704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8000" y="3332160"/>
            <a:ext cx="1440" cy="333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000" y="3332160"/>
            <a:ext cx="17280" cy="3333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25760" y="3349800"/>
            <a:ext cx="1440" cy="331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25760" y="3349800"/>
            <a:ext cx="17280" cy="33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76680" y="3349800"/>
            <a:ext cx="1440" cy="331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76680" y="3349800"/>
            <a:ext cx="17280" cy="33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08480" y="3349800"/>
            <a:ext cx="1800" cy="331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08480" y="3349800"/>
            <a:ext cx="17640" cy="33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3160" y="3349800"/>
            <a:ext cx="1800" cy="331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53160" y="3349800"/>
            <a:ext cx="17640" cy="33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765920" y="3349800"/>
            <a:ext cx="1800" cy="331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765920" y="3349800"/>
            <a:ext cx="17640" cy="33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53640" y="3349800"/>
            <a:ext cx="1440" cy="331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53640" y="3349800"/>
            <a:ext cx="17280" cy="33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3880" y="5388120"/>
            <a:ext cx="1800" cy="127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93880" y="5388120"/>
            <a:ext cx="17640" cy="127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280" y="3332160"/>
            <a:ext cx="8945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5280" y="3332160"/>
            <a:ext cx="8945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280" y="5370480"/>
            <a:ext cx="8945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5280" y="5370480"/>
            <a:ext cx="8945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5280" y="5862600"/>
            <a:ext cx="8945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5280" y="5862600"/>
            <a:ext cx="8945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5280" y="6315120"/>
            <a:ext cx="8945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5280" y="6315120"/>
            <a:ext cx="8945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280" y="6648480"/>
            <a:ext cx="8945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280" y="6648480"/>
            <a:ext cx="8945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956720" y="6235560"/>
            <a:ext cx="936360" cy="50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425880"/>
            <a:ext cx="223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iterio spesa storica:  contrasta con principi di efficacia, efficienza ed economicità che devono caratterizzare l’attività della 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32360" y="327240"/>
            <a:ext cx="403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’ necessari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ostruire u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odello di finanziamento che metta in relazione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i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scenari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ambiental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l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zioni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di tutel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l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risors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 necessari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in un quadro di compatibilità elaborato e concordato con la Regione, che preveda una sistematica attività di monitoraggio della sp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0" r="0" b="8766"/>
          <a:stretch/>
        </p:blipFill>
        <p:spPr>
          <a:xfrm>
            <a:off x="2484360" y="469800"/>
            <a:ext cx="2374920" cy="2167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flipH="1">
            <a:off x="5076720" y="1484280"/>
            <a:ext cx="1656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101080" y="1413000"/>
            <a:ext cx="43164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059280" y="1125360"/>
            <a:ext cx="367344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finire bene i proce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Q ISO 9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 Marchesi                                               Verso i LETA. Il caso ARPA Lombar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E117-6200-4443-AB48-AE988F4BC13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/06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6320" y="457200"/>
            <a:ext cx="4511520" cy="627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616280" y="1066680"/>
            <a:ext cx="4419720" cy="5664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932360" y="1947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rso i LE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l caso ARPA LOMBAR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784872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36600" y="457200"/>
            <a:ext cx="385452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ziamen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lle ARPA  appare ogg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correlato alla domanda di serviz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a domanda è quantitativamente e qualitativamente in forte espans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erio della spesa stor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 mero adeguamento al tasso inflattiv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724280" y="3352680"/>
          <a:ext cx="4032360" cy="190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352680"/>
                    <a:ext cx="40323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572000" y="457200"/>
          <a:ext cx="4356000" cy="2665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57200"/>
                    <a:ext cx="4356000" cy="2665440"/>
                  </a:xfrm>
                  <a:prstGeom prst="rect">
                    <a:avLst/>
                  </a:prstGeom>
                  <a:ln cap="sq" w="12600">
                    <a:solidFill>
                      <a:srgbClr val="333333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8" name=""/>
          <p:cNvGrpSpPr/>
          <p:nvPr/>
        </p:nvGrpSpPr>
        <p:grpSpPr>
          <a:xfrm>
            <a:off x="4644360" y="4960080"/>
            <a:ext cx="3927960" cy="1230840"/>
            <a:chOff x="4644360" y="4960080"/>
            <a:chExt cx="3927960" cy="1230840"/>
          </a:xfrm>
        </p:grpSpPr>
        <p:sp>
          <p:nvSpPr>
            <p:cNvPr id="49" name=""/>
            <p:cNvSpPr/>
            <p:nvPr/>
          </p:nvSpPr>
          <p:spPr>
            <a:xfrm rot="18219000">
              <a:off x="4564440" y="5362560"/>
              <a:ext cx="93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. Ao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169200">
              <a:off x="4974120" y="5290560"/>
              <a:ext cx="79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li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8264600">
              <a:off x="5063400" y="5345640"/>
              <a:ext cx="105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riuli V.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8188400">
              <a:off x="5384520" y="5384160"/>
              <a:ext cx="98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silic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8122400">
              <a:off x="5642640" y="5414040"/>
              <a:ext cx="90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iemo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7978400">
              <a:off x="5902200" y="54054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osca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7961000">
              <a:off x="6557400" y="5291640"/>
              <a:ext cx="80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ene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7929800">
              <a:off x="6849000" y="5288040"/>
              <a:ext cx="7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mb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7823000">
              <a:off x="7066080" y="535896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olza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7805600">
              <a:off x="7352280" y="5360040"/>
              <a:ext cx="7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7693400">
              <a:off x="7634880" y="525528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z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7775000">
              <a:off x="7664760" y="542484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mbard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8004800">
              <a:off x="5991840" y="5421600"/>
              <a:ext cx="1244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. Romag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rcRect l="2469" t="4886" r="3566" b="4886"/>
          <a:stretch/>
        </p:blipFill>
        <p:spPr>
          <a:xfrm>
            <a:off x="3348000" y="4078440"/>
            <a:ext cx="5688000" cy="2663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rcRect l="0" t="5423" r="0" b="0"/>
          <a:stretch/>
        </p:blipFill>
        <p:spPr>
          <a:xfrm>
            <a:off x="179280" y="669960"/>
            <a:ext cx="8404200" cy="37670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79280" y="32472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rso i LETA. Il caso ARPA LOMBAR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chema LETA ARPA Lombar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3276720"/>
            <a:ext cx="1447920" cy="99036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76" h="21600">
                <a:moveTo>
                  <a:pt x="0" y="0"/>
                </a:moveTo>
                <a:lnTo>
                  <a:pt x="31576" y="0"/>
                </a:lnTo>
                <a:lnTo>
                  <a:pt x="31576" y="21600"/>
                </a:lnTo>
                <a:lnTo>
                  <a:pt x="0" y="21600"/>
                </a:lnTo>
                <a:close/>
              </a:path>
              <a:path fill="lightenLess" w="31576" h="21600">
                <a:moveTo>
                  <a:pt x="0" y="0"/>
                </a:moveTo>
                <a:lnTo>
                  <a:pt x="31576" y="0"/>
                </a:lnTo>
                <a:lnTo>
                  <a:pt x="30176" y="1400"/>
                </a:lnTo>
                <a:lnTo>
                  <a:pt x="1400" y="1400"/>
                </a:lnTo>
                <a:close/>
              </a:path>
              <a:path fill="darken" w="31576" h="21600">
                <a:moveTo>
                  <a:pt x="31576" y="0"/>
                </a:moveTo>
                <a:lnTo>
                  <a:pt x="31576" y="21600"/>
                </a:lnTo>
                <a:lnTo>
                  <a:pt x="30176" y="20200"/>
                </a:lnTo>
                <a:lnTo>
                  <a:pt x="30176" y="1400"/>
                </a:lnTo>
                <a:close/>
              </a:path>
              <a:path fill="darkenLess" w="31576" h="21600">
                <a:moveTo>
                  <a:pt x="31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76" y="20200"/>
                </a:lnTo>
                <a:close/>
              </a:path>
              <a:path fill="lighten" w="31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76" h="21600">
                <a:moveTo>
                  <a:pt x="8781" y="3794"/>
                </a:moveTo>
                <a:lnTo>
                  <a:pt x="22794" y="10800"/>
                </a:lnTo>
                <a:lnTo>
                  <a:pt x="8781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 Marchesi                                               Verso i LETA. Il caso ARPA Lombar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6E5F-43C0-40FC-924F-89800AAB003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/06/2008</a:t>
            </a: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11280" y="903240"/>
            <a:ext cx="4032000" cy="70380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rainstorm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rezioni Settori e Dipartimen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84720" y="1838160"/>
            <a:ext cx="4032360" cy="70380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nsimento delle prestazioni ero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419280" y="1484280"/>
            <a:ext cx="2422440" cy="432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OUTC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2655720"/>
            <a:ext cx="4032360" cy="70380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mo elenco prodotti attualmente erog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13080" y="3591000"/>
            <a:ext cx="4032360" cy="70380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ggruppamento prodotti in macro-categor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48000" y="3236760"/>
            <a:ext cx="2422440" cy="432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OUTC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4529160"/>
            <a:ext cx="4032000" cy="70380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efinizione livelli di “cogenza” per Ar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9640" y="5110200"/>
            <a:ext cx="2422440" cy="4316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OUTC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6155640" y="5373360"/>
            <a:ext cx="1224000" cy="136692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1366920"/>
              <a:gd name="textAreaBottom" fmla="*/ 1367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03640" y="1947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Verso i LE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l caso ARPA LOMBAR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013200" y="1413000"/>
            <a:ext cx="2927160" cy="57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79280" y="2384280"/>
            <a:ext cx="8785440" cy="406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179280" y="18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Verso i LETA. Esperienze in cors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l caso ARPA LOMBAR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11280" y="1263600"/>
            <a:ext cx="3097080" cy="70380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orizzazione delle attiv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84720" y="2198520"/>
            <a:ext cx="4032360" cy="100872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e di pressione/domanda regionale e numero di attività svolte ne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132000" y="1844640"/>
            <a:ext cx="2422800" cy="432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OUTC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58920" y="4005360"/>
            <a:ext cx="6192720" cy="1871640"/>
          </a:xfrm>
          <a:prstGeom prst="downArrowCallout">
            <a:avLst>
              <a:gd name="adj1" fmla="val 82695"/>
              <a:gd name="adj2" fmla="val 82733"/>
              <a:gd name="adj3" fmla="val 2714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03280" y="4148280"/>
            <a:ext cx="5905440" cy="936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ROSSI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S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50920" y="2135160"/>
            <a:ext cx="871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olidamento strumenti di rilevazione analitica in grado di interfacciare i dati di attività (secondo indicatori DPSIR) con dati di contabilità economico/finanziaria, per tipologie di intervento e per matrice ambient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35640" y="5856120"/>
            <a:ext cx="812880" cy="392400"/>
          </a:xfrm>
          <a:custGeom>
            <a:avLst/>
            <a:gdLst>
              <a:gd name="textAreaLeft" fmla="*/ 126720 w 812880"/>
              <a:gd name="textAreaRight" fmla="*/ 711360 w 812880"/>
              <a:gd name="textAreaTop" fmla="*/ 97920 h 392400"/>
              <a:gd name="textAreaBottom" fmla="*/ 294480 h 392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e755e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47640" y="1270080"/>
            <a:ext cx="6048720" cy="934920"/>
          </a:xfrm>
          <a:prstGeom prst="downArrowCallout">
            <a:avLst>
              <a:gd name="adj1" fmla="val 161699"/>
              <a:gd name="adj2" fmla="val 161774"/>
              <a:gd name="adj3" fmla="val 2714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1341360"/>
            <a:ext cx="5905440" cy="505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ROSSIMI PAS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05080" y="3111480"/>
            <a:ext cx="6480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 u="sng">
                <a:solidFill>
                  <a:srgbClr val="000000"/>
                </a:solidFill>
                <a:uFillTx/>
                <a:latin typeface="Tahoma"/>
              </a:rPr>
              <a:t>Es.: processo grandi rischi industri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Tahoma"/>
              </a:rPr>
              <a:t>Legge 334/99 SMI D.lgs. 238/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Tahoma"/>
              </a:rPr>
              <a:t>ISTRUTTORIE SGS EX NO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443640" y="4419720"/>
            <a:ext cx="2592360" cy="185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68360" y="4251240"/>
            <a:ext cx="5256000" cy="162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0" name=""/>
          <p:cNvSpPr/>
          <p:nvPr/>
        </p:nvSpPr>
        <p:spPr>
          <a:xfrm>
            <a:off x="179280" y="18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Verso i LETA: esperienze in cors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l caso ARPA LOMBAR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93840" y="2782800"/>
            <a:ext cx="806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azione sistematica del fabbisogno finanziario per centri di costo attraverso la rilevazione delle attività caratteristiche e la applicazione di costi standard ai processi precedentemente defini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47640" y="1622520"/>
            <a:ext cx="6048720" cy="934920"/>
          </a:xfrm>
          <a:prstGeom prst="downArrowCallout">
            <a:avLst>
              <a:gd name="adj1" fmla="val 161699"/>
              <a:gd name="adj2" fmla="val 161774"/>
              <a:gd name="adj3" fmla="val 27148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19280" y="1693800"/>
            <a:ext cx="5905440" cy="504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ROSSIMI PAS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280" y="18828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Verso i LETA: esperienze in cors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l caso ARPA LOMBAR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2971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razie per l’attenzion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 Marchesi                                               Verso i LETA. Il caso ARPA Lombar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5837-EBF3-4FE5-A78F-F0236174E06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/06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76920" y="3429000"/>
            <a:ext cx="4032000" cy="3105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ombardia: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a Regione / St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80880" y="2209320"/>
            <a:ext cx="6477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9 milioni di abita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% del P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2 Provi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00 Comu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00.000 impr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84360" y="44280"/>
            <a:ext cx="665964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ahoma"/>
              </a:rPr>
              <a:t>Popolazione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416720" cy="3733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99">
                <a:alpha val="50000"/>
              </a:srgbClr>
            </a:outerShdw>
          </a:effectLst>
        </p:spPr>
      </p:pic>
      <p:sp>
        <p:nvSpPr>
          <p:cNvPr id="67" name=""/>
          <p:cNvSpPr/>
          <p:nvPr/>
        </p:nvSpPr>
        <p:spPr>
          <a:xfrm rot="19224000">
            <a:off x="4790880" y="3685680"/>
            <a:ext cx="898200" cy="216000"/>
          </a:xfrm>
          <a:prstGeom prst="leftArrow">
            <a:avLst>
              <a:gd name="adj1" fmla="val 50000"/>
              <a:gd name="adj2" fmla="val 103958"/>
            </a:avLst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89640" y="5562720"/>
            <a:ext cx="569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polazione della Lombardia a confronto con i Paesi dell’Europa a 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 Marchesi                                               Verso i LETA. Il caso ARPA Lombard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5ADE-F240-49D2-A707-9239B98D2F8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/06/2008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06600" y="1585800"/>
          <a:ext cx="7775280" cy="400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1585800"/>
                    <a:ext cx="7775280" cy="4003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333399"/>
                    </a:outerShdw>
                  </a:effectLst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2484360" y="44280"/>
            <a:ext cx="665964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ahoma"/>
              </a:rPr>
              <a:t>Attività produttive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68640" y="5638680"/>
            <a:ext cx="649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otto Interno Lordo della Lombardia a confronto con i Paesi dell’Europa a 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9224000">
            <a:off x="3393720" y="3428640"/>
            <a:ext cx="898560" cy="216000"/>
          </a:xfrm>
          <a:prstGeom prst="leftArrow">
            <a:avLst>
              <a:gd name="adj1" fmla="val 50000"/>
              <a:gd name="adj2" fmla="val 104000"/>
            </a:avLst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3333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 Marchesi                                               Verso i LETA. Il caso ARPA Lombard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C656-8109-4754-B7CA-CB5E4BDEF71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/06/200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360" y="620280"/>
            <a:ext cx="59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n cosa fronteggiamo queste pression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00 dipend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0 milioni di finanziamento di parte corr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o numeri adegua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 Marchesi                                               Verso i LETA. Il caso ARPA Lombar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95F4-2520-4D0A-8828-D061CB22EF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/06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520" y="1895400"/>
            <a:ext cx="807696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gge 61/94: rinvia a DM la definizione del meccanismo di finanziamento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in relazione a fattori di press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ttima Conferenza delle Agenzie  (200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Tahoma"/>
              </a:rPr>
              <a:t>Il finanziamento delle Agenzie ambientali”,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Ed. APAT/ONOG Roma 2004: si usa per la prima volta il termine “LETA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trategia Triennale” del Consiglio Federale, 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dL n. 1561 (cd. “PdL Realacci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a storia della “questione finanziame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 Marchesi                                               Verso i LETA. Il caso ARPA Lombar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C540-287E-43DD-BAB0-5606C82175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/06/2008</a:t>
            </a: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a prospettiva LETA: definire un modello che metta in rel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765520"/>
            <a:ext cx="8229600" cy="31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enari ambientali 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ession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terminant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erritoria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zioni di tutela (l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ispos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isor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ecessa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 Marchesi                                               Verso i LETA. Il caso ARPA Lombard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ECAD-FBB2-49BA-A533-B37A54E679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/06/2008</a:t>
            </a:r>
          </a:p>
        </p:txBody>
      </p:sp>
    </p:spTree>
  </p:cSld>
  <p:transition spd="slow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are l’impostazione di dipendenza dalla spesa sanitaria e di quantificazione su base sto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corare il finanziamento alla domanda di prestazion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ichiesta alle agenzie, sulla base 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vello minimo di prestazioni predefini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sulla base dello schema DPS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stema di tariffazione intern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he vada a copertura dei costi (“DRG ambientale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ca Marchesi                                               Verso i LETA. Il caso ARPA Lombard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9449-A287-4D90-85AF-5E255CAA5F5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6/06/2008</a:t>
            </a: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14:01:56Z</dcterms:created>
  <dc:creator>CTESTAI</dc:creator>
  <dc:description/>
  <dc:language>en-US</dc:language>
  <cp:lastModifiedBy>pc-dirgen</cp:lastModifiedBy>
  <dcterms:modified xsi:type="dcterms:W3CDTF">2008-07-14T10:34:36Z</dcterms:modified>
  <cp:revision>21</cp:revision>
  <dc:subject/>
  <dc:title>Diapositiva 1</dc:title>
</cp:coreProperties>
</file>