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337b"/>
                </a:solidFill>
                <a:latin typeface="Trebuchet MS"/>
              </a:rPr>
              <a:t>Click to move the slide</a:t>
            </a:r>
            <a:endParaRPr b="0" lang="en-US" sz="16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4776-88BC-4900-B9AA-DFD94CAFE09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831E-9E5A-42DE-8D9E-070C6A1C2A0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7160" y="793800"/>
            <a:ext cx="4632120" cy="32083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9720" y="4351320"/>
            <a:ext cx="50385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rlett"/>
              <a:ea typeface="Marlet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A028-8B2F-4BF8-A302-2C1CDD50FA1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55800" y="685800"/>
            <a:ext cx="4948200" cy="34275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F064-C97C-4749-B7B0-F54DA171E7C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55800" y="685800"/>
            <a:ext cx="4948200" cy="3427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B656-6FEF-4A26-9093-A8C40CB151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55800" y="685800"/>
            <a:ext cx="4948200" cy="34275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FB3D-6DBA-4825-9F50-8619DFDD432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7160" y="793800"/>
            <a:ext cx="4632120" cy="32083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9720" y="4351320"/>
            <a:ext cx="50385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Marlett"/>
              <a:ea typeface="Marlet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3001-8086-4D4D-9C0D-7F16B07E1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80A5-BB79-4631-9101-49C6C74C6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5EA8-1803-46E3-9E24-F93E58C41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220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3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80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1220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43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BCF9-354D-41AF-BCBA-45AF69EAD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44880" y="260280"/>
            <a:ext cx="80769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909A-1416-4145-95C6-031D5A8B8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1220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43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80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01220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743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58C21-DDDB-449F-A6EB-F385B389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34701-9BC2-450F-B864-5FF2B63C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C594A-DA2B-4284-BDE5-AA923F79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1C487-508A-4156-BA22-724007D3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EAEEB-2DD7-42AD-BC26-C805F760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51A5-BCFA-4DA1-B314-51DB488B18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144880" y="260280"/>
            <a:ext cx="80769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8DED0-E9CE-4F96-8817-349401B4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05DCC-5EF7-4D37-BC5F-AB48F750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6D327-839A-4E8C-9359-08779322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2C8F7-F8CA-4615-99BA-8CB6A9D7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9C1BA-E055-4D6E-9EAE-9B5D5E79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145A7-B070-4323-B817-19A0E579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1220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43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280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1220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743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95B85-E0F3-4E3B-8F3D-9DC2ADCB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1B6F-C595-422B-859D-9D4B8516A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F1FE-D811-4C97-93AD-37A0D0E59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44880" y="260280"/>
            <a:ext cx="80769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B8A4-6278-4F4B-B374-D74FEAA7F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E9D9-D73E-400A-8716-D3AD30903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1A6B-8ACD-4A46-9FBA-E2034B913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C672-9566-4722-8E19-EA7BCBC93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b337b"/>
                </a:solidFill>
                <a:latin typeface="Trebuchet MS"/>
              </a:rPr>
              <a:t>Click to edit the title text format</a:t>
            </a: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82680" y="6324120"/>
            <a:ext cx="614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b33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1CCD-539A-444E-8E1F-9D036FBB9B72}" type="slidenum">
              <a:rPr b="0" lang="en-US" sz="1200" spc="-1" strike="noStrike">
                <a:solidFill>
                  <a:srgbClr val="0b337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AVORI%20IN%20CORSO:Consip:PPT:17_11_06:mef%203%20righe" descr=""/>
          <p:cNvPicPr/>
          <p:nvPr/>
        </p:nvPicPr>
        <p:blipFill>
          <a:blip r:embed="rId2"/>
          <a:stretch/>
        </p:blipFill>
        <p:spPr>
          <a:xfrm>
            <a:off x="7848720" y="193680"/>
            <a:ext cx="1676160" cy="568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44520" y="260280"/>
            <a:ext cx="1752480" cy="5508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AVORI%20IN%20CORSO:Consip:PPT:cover" descr=""/>
          <p:cNvPicPr/>
          <p:nvPr/>
        </p:nvPicPr>
        <p:blipFill>
          <a:blip r:embed="rId2"/>
          <a:srcRect l="0" t="2943" r="0" b="290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438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337b"/>
                </a:solidFill>
                <a:latin typeface="Trebuchet MS"/>
              </a:rPr>
              <a:t>Click to edit the title text format</a:t>
            </a:r>
            <a:endParaRPr b="0" lang="en-US" sz="1600" spc="-1" strike="noStrike">
              <a:solidFill>
                <a:srgbClr val="0b337b"/>
              </a:solidFill>
              <a:latin typeface="Trebuchet MS"/>
            </a:endParaRPr>
          </a:p>
        </p:txBody>
      </p:sp>
      <p:pic>
        <p:nvPicPr>
          <p:cNvPr id="44" name="LAVORI%20IN%20CORSO:Consip:PPT:17_11_06:mef%203%20righe" descr=""/>
          <p:cNvPicPr/>
          <p:nvPr/>
        </p:nvPicPr>
        <p:blipFill>
          <a:blip r:embed="rId3"/>
          <a:stretch/>
        </p:blipFill>
        <p:spPr>
          <a:xfrm>
            <a:off x="609480" y="3175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15800" y="6165720"/>
            <a:ext cx="1752840" cy="55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12840" y="563256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irenze, 26 giugn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3" marL="1600200" indent="-228600"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4" marL="2057400" indent="-228600">
              <a:spcBef>
                <a:spcPts val="34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E2F1-DADA-4960-B1B8-3712888C505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A19B-D788-4BAF-8A4F-48E304294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acquistinretepa.it/pls/portal/url/page/pg_consip/convenzioni/vetrina_convenzioni/1006_1?firsttab=convenzioni&amp;secondtab=vetrina_convenzioni" TargetMode="External"/><Relationship Id="rId4" Type="http://schemas.openxmlformats.org/officeDocument/2006/relationships/hyperlink" Target="http://www.acquistinretepa.it/pls/portal/url/page/pg_consip/convenzioni/vetrina_convenzioni/1150_1?firsttab=convenzioni&amp;secondtab=vetrina_convenzioni" TargetMode="External"/><Relationship Id="rId5" Type="http://schemas.openxmlformats.org/officeDocument/2006/relationships/hyperlink" Target="http://www.acquistinretepa.it/pls/portal/url/page/pg_consip/convenzioni/vetrina_convenzioni/1189_1?firsttab=convenzioni&amp;secondtab=vetrina_convenzioni" TargetMode="External"/><Relationship Id="rId6" Type="http://schemas.openxmlformats.org/officeDocument/2006/relationships/hyperlink" Target="http://www.acquistinretepa.it/pls/portal/url/page/pg_consip/convenzioni/vetrina_convenzioni/1142_1?firsttab=convenzioni&amp;secondtab=vetrina_convenzioni" TargetMode="External"/><Relationship Id="rId7" Type="http://schemas.openxmlformats.org/officeDocument/2006/relationships/hyperlink" Target="http://www.acquistinretepa.it/pls/portal/url/page/pg_consip/convenzioni/vetrina_convenzioni/1149_1?firsttab=convenzioni&amp;secondtab=vetrina_convenzioni" TargetMode="External"/><Relationship Id="rId8" Type="http://schemas.openxmlformats.org/officeDocument/2006/relationships/hyperlink" Target="http://www.acquistinretepa.it/pls/portal/url/page/pg_consip/convenzioni/vetrina_convenzioni/1082_1?firsttab=convenzioni&amp;secondtab=vetrina_convenzioni" TargetMode="External"/><Relationship Id="rId9" Type="http://schemas.openxmlformats.org/officeDocument/2006/relationships/hyperlink" Target="http://www.acquistinretepa.it/pls/portal/url/page/pg_consip/convenzioni/vetrina_convenzioni/1018_1?firsttab=convenzioni&amp;secondtab=vetrina_convenzioni" TargetMode="External"/><Relationship Id="rId10" Type="http://schemas.openxmlformats.org/officeDocument/2006/relationships/hyperlink" Target="http://www.acquistinretepa.it/pls/portal/url/page/pg_consip/convenzioni/vetrina_convenzioni/1156_1?firsttab=convenzioni&amp;secondtab=vetrina_convenzioni" TargetMode="External"/><Relationship Id="rId11" Type="http://schemas.openxmlformats.org/officeDocument/2006/relationships/hyperlink" Target="http://www.acquistinretepa.it/pls/portal/url/page/pg_consip/convenzioni/vetrina_convenzioni/1144_1?firsttab=convenzioni&amp;secondtab=vetrina_convenzioni" TargetMode="External"/><Relationship Id="rId12" Type="http://schemas.openxmlformats.org/officeDocument/2006/relationships/hyperlink" Target="http://www.acquistinretepa.it/pls/portal/url/page/pg_consip/convenzioni/vetrina_convenzioni/1187_1?firsttab=convenzioni&amp;secondtab=vetrina_convenzioni" TargetMode="External"/><Relationship Id="rId13" Type="http://schemas.openxmlformats.org/officeDocument/2006/relationships/hyperlink" Target="http://www.acquistinretepa.it/pls/portal/url/page/pg_consip/convenzioni/vetrina_convenzioni/1077_1?firsttab=convenzioni&amp;secondtab=vetrina_convenzioni" TargetMode="External"/><Relationship Id="rId14" Type="http://schemas.openxmlformats.org/officeDocument/2006/relationships/hyperlink" Target="http://www.acquistinretepa.it/pls/portal/url/page/pg_consip/convenzioni/vetrina_convenzioni/1161_1?firsttab=convenzioni&amp;secondtab=vetrina_convenzioni" TargetMode="External"/><Relationship Id="rId15" Type="http://schemas.openxmlformats.org/officeDocument/2006/relationships/hyperlink" Target="http://www.acquistinretepa.it/pls/portal/url/page/pg_consip/convenzioni/vetrina_convenzioni/1116_1?firsttab=convenzioni&amp;secondtab=vetrina_convenzioni" TargetMode="External"/><Relationship Id="rId16" Type="http://schemas.openxmlformats.org/officeDocument/2006/relationships/hyperlink" Target="http://www.acquistinretepa.it/pls/portal/url/page/pg_consip/convenzioni/vetrina_convenzioni/1120_1?firsttab=convenzioni&amp;secondtab=vetrina_convenzioni" TargetMode="External"/><Relationship Id="rId17" Type="http://schemas.openxmlformats.org/officeDocument/2006/relationships/hyperlink" Target="http://www.acquistinretepa.it/pls/portal/url/page/pg_consip/convenzioni/vetrina_convenzioni/1117_1?firsttab=convenzioni&amp;secondtab=vetrina_convenzioni" TargetMode="External"/><Relationship Id="rId18" Type="http://schemas.openxmlformats.org/officeDocument/2006/relationships/hyperlink" Target="http://www.acquistinretepa.it/pls/portal/url/page/pg_consip/convenzioni/vetrina_convenzioni/1114_1?firsttab=convenzioni&amp;secondtab=vetrina_convenzioni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acquistinretepa.it/pls/portal/url/page/pg_consip/convenzioni/vetrina_convenzioni/1157_4?firsttab=convenzioni&amp;secondtab=vetrina_convenzioni" TargetMode="External"/><Relationship Id="rId4" Type="http://schemas.openxmlformats.org/officeDocument/2006/relationships/hyperlink" Target="http://www.acquistinretepa.it/pls/portal/url/page/pg_consip/convenzioni/vetrina_convenzioni/1167_4?firsttab=convenzioni&amp;secondtab=vetrina_convenzioni" TargetMode="External"/><Relationship Id="rId5" Type="http://schemas.openxmlformats.org/officeDocument/2006/relationships/hyperlink" Target="http://www.acquistinretepa.it/pls/portal/url/page/pg_consip/convenzioni/vetrina_convenzioni/1182_3?firsttab=convenzioni&amp;secondtab=vetrina_convenzioni" TargetMode="External"/><Relationship Id="rId6" Type="http://schemas.openxmlformats.org/officeDocument/2006/relationships/hyperlink" Target="http://www.acquistinretepa.it/pls/portal/url/page/pg_consip/convenzioni/vetrina_convenzioni/1169_3?firsttab=convenzioni&amp;secondtab=vetrina_convenzioni" TargetMode="External"/><Relationship Id="rId7" Type="http://schemas.openxmlformats.org/officeDocument/2006/relationships/hyperlink" Target="http://www.acquistinretepa.it/pls/portal/url/page/pg_consip/convenzioni/vetrina_convenzioni/1177_3?firsttab=convenzioni&amp;secondtab=vetrina_convenzioni" TargetMode="External"/><Relationship Id="rId8" Type="http://schemas.openxmlformats.org/officeDocument/2006/relationships/hyperlink" Target="http://www.acquistinretepa.it/pls/portal/url/page/pg_consip/convenzioni/vetrina_convenzioni/1178_3?firsttab=convenzioni&amp;secondtab=vetrina_convenzioni" TargetMode="External"/><Relationship Id="rId9" Type="http://schemas.openxmlformats.org/officeDocument/2006/relationships/hyperlink" Target="http://www.acquistinretepa.it/pls/portal/url/page/pg_consip/convenzioni/vetrina_convenzioni/1197_3?firsttab=convenzioni&amp;secondtab=vetrina_convenzioni" TargetMode="External"/><Relationship Id="rId10" Type="http://schemas.openxmlformats.org/officeDocument/2006/relationships/hyperlink" Target="http://www.acquistinretepa.it/pls/portal/url/page/pg_consip/convenzioni/vetrina_convenzioni/1168_4?firsttab=convenzioni&amp;secondtab=vetrina_convenzioni" TargetMode="External"/><Relationship Id="rId11" Type="http://schemas.openxmlformats.org/officeDocument/2006/relationships/hyperlink" Target="http://www.acquistinretepa.it/pls/portal/url/page/pg_consip/convenzioni/vetrina_convenzioni/1200_3?firsttab=convenzioni&amp;secondtab=vetrina_convenzioni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71640" y="2060640"/>
            <a:ext cx="8013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rebuchet MS"/>
                <a:ea typeface="Arial"/>
              </a:rPr>
              <a:t>Programma per la Razionalizzazione degli Acquisti nella Pubblica Amministr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7080" y="3500280"/>
            <a:ext cx="73278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rebuchet MS"/>
                <a:ea typeface="Arial"/>
              </a:rPr>
              <a:t>Le Iniziative Verdi di Consip per la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rebuchet MS"/>
                <a:ea typeface="Arial"/>
              </a:rPr>
              <a:t>Lidia Cappar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08160" y="658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2800" spc="-1" strike="noStrike">
                <a:solidFill>
                  <a:srgbClr val="0b337b"/>
                </a:solidFill>
                <a:latin typeface="Trebuchet MS"/>
              </a:rPr>
              <a:t>Prospetto sintetico</a:t>
            </a:r>
            <a:endParaRPr b="0" lang="en-US" sz="2800" spc="-1" strike="noStrike">
              <a:solidFill>
                <a:srgbClr val="0b337b"/>
              </a:solidFill>
              <a:latin typeface="Trebuchet MS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749600" y="1557360"/>
          <a:ext cx="714024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1557360"/>
                    <a:ext cx="7140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0B9F-6B82-40E4-9004-8AB8AA6AF8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Trebuchet MS"/>
              </a:rPr>
              <a:t>Piano di progetto 2008 - 2010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Raccolta dat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Condivisione analisi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Individuazione Strategi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Definizione targe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Formazion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Execu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Monitoraggi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Ridefinizione target triennio</a:t>
            </a: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5EF0-EE02-49A4-B6A6-E4C8233F15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44880" y="5155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rebuchet MS"/>
              </a:rPr>
              <a:t>Possibili ambiti di approfondimento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80880" y="836280"/>
            <a:ext cx="80787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Approccio alla sostenibilità negli appalti pubblici (introduzione di clausole sociali negli appalti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Supporto all’implementazione di un Piano Nazionale di Azione sul GPP per gli Enti Locali attraverso la metodologia sperimentata per il Comune di Rom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Supporto consulenziale, formazione e promozione congiunta sugli strumenti di acquisto e sul Sistema di acquisti “verdi” messi a disposizione da Consi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6AE0-CAF9-490B-A91C-451652F0A7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337b"/>
                </a:solidFill>
                <a:latin typeface="Trebuchet MS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Trebuchet MS"/>
              </a:rPr>
              <a:t>Conclusioni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Il GPP è un sistema complesso ed integrato con la totalità dei processi di approvvigionamento  dell’en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La definizione di una strategia di approccio non può prescindere dalla conoscenza delle esigenze dell’en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L’implementazione del sistema deve essere accompagnato da strumenti di Change Management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Il GPP è uno strumento di razionalizzazione della spesa (predisposizione Carbon Footprint entro Luglio 2008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13C9-F68D-4523-9979-A4A87AF3C2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3412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76160" y="915840"/>
            <a:ext cx="8856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Sin dall’inizio della sua attività Consip ha attuato un approccio globale al Green Procurement individuando, come illustrato nello schema seguente, gli ambiti di intervento, gli eco - obiettivi da conseguire e le leve per perseguir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76160" y="1903320"/>
            <a:ext cx="8540640" cy="4838760"/>
            <a:chOff x="776160" y="1903320"/>
            <a:chExt cx="8540640" cy="4838760"/>
          </a:xfrm>
        </p:grpSpPr>
        <p:grpSp>
          <p:nvGrpSpPr>
            <p:cNvPr id="137" name=""/>
            <p:cNvGrpSpPr/>
            <p:nvPr/>
          </p:nvGrpSpPr>
          <p:grpSpPr>
            <a:xfrm>
              <a:off x="810360" y="2000520"/>
              <a:ext cx="8401320" cy="4726080"/>
              <a:chOff x="810360" y="2000520"/>
              <a:chExt cx="8401320" cy="4726080"/>
            </a:xfrm>
          </p:grpSpPr>
          <p:sp>
            <p:nvSpPr>
              <p:cNvPr id="138" name=""/>
              <p:cNvSpPr/>
              <p:nvPr/>
            </p:nvSpPr>
            <p:spPr>
              <a:xfrm>
                <a:off x="810360" y="2000520"/>
                <a:ext cx="2343960" cy="238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rebuchet MS"/>
                  </a:rPr>
                  <a:t>Ambit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34680" y="2000520"/>
                <a:ext cx="2904840" cy="238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it-IT" sz="1600" spc="-1" strike="noStrike">
                    <a:solidFill>
                      <a:srgbClr val="ffffff"/>
                    </a:solidFill>
                    <a:latin typeface="Trebuchet MS"/>
                  </a:rPr>
                  <a:t>Eco-obiettiv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58320" y="2000520"/>
                <a:ext cx="2853360" cy="238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rebuchet MS"/>
                  </a:rPr>
                  <a:t>Lev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23680" y="2289240"/>
                <a:ext cx="2160360" cy="7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99"/>
                    </a:solidFill>
                    <a:latin typeface="Trebuchet MS"/>
                  </a:rPr>
                  <a:t>Risparmio nell’uso delle risorse e dell’Energ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00480" y="2289240"/>
                <a:ext cx="2997720" cy="110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Contribuire a generare risparm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’uso di fonti rinnovabil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’uso di combustibili verd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43200" y="2287800"/>
                <a:ext cx="2868480" cy="110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333399"/>
                    </a:solidFill>
                    <a:latin typeface="Trebuchet MS"/>
                  </a:rPr>
                  <a:t>Contratti per monitorare i consumi/domand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333399"/>
                    </a:solidFill>
                    <a:latin typeface="Trebuchet MS"/>
                  </a:rPr>
                  <a:t>Auto-produzione/acquisto di energia da risorse rinnovabili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333399"/>
                    </a:solidFill>
                    <a:latin typeface="Trebuchet MS"/>
                  </a:rPr>
                  <a:t>Fornitura di combustibili verd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811800" y="2239200"/>
                <a:ext cx="8399520" cy="1203120"/>
                <a:chOff x="811800" y="2239200"/>
                <a:chExt cx="8399520" cy="12031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231720" y="2239200"/>
                  <a:ext cx="0" cy="11991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300000" y="2239200"/>
                  <a:ext cx="0" cy="11991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11800" y="3442320"/>
                  <a:ext cx="2364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91840" y="3442320"/>
                  <a:ext cx="2940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360120" y="3442320"/>
                  <a:ext cx="2851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810360" y="3492720"/>
                <a:ext cx="8399520" cy="1289520"/>
                <a:chOff x="810360" y="3492720"/>
                <a:chExt cx="8399520" cy="12895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230280" y="3492720"/>
                  <a:ext cx="0" cy="1285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298560" y="3492720"/>
                  <a:ext cx="0" cy="1285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10360" y="4782240"/>
                  <a:ext cx="2364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290400" y="4782240"/>
                  <a:ext cx="2940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358680" y="4782240"/>
                  <a:ext cx="2851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23680" y="3456000"/>
                <a:ext cx="2297520" cy="50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99"/>
                    </a:solidFill>
                    <a:latin typeface="Trebuchet MS"/>
                  </a:rPr>
                  <a:t>Prevenzione dei danni alla salu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00480" y="3456000"/>
                <a:ext cx="2997720" cy="133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’utilizzo di veicoli a basso impatto ambienta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a produzione di beni e servizi non contenenti sostanze pericolos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43200" y="3456000"/>
                <a:ext cx="2868480" cy="12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10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333399"/>
                    </a:solidFill>
                    <a:latin typeface="Trebuchet MS"/>
                  </a:rPr>
                  <a:t>Punteggio tecnico per premiare il possesso di certificazioni ecologiche (EMAS, Ecolabel,..) o per caratteristiche dei prodotti/servizi non pericolosi per la salut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810360" y="4904280"/>
                <a:ext cx="8399520" cy="909360"/>
                <a:chOff x="810360" y="4904280"/>
                <a:chExt cx="8399520" cy="9093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230280" y="4904280"/>
                  <a:ext cx="0" cy="90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298560" y="4904280"/>
                  <a:ext cx="0" cy="90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10360" y="5813640"/>
                  <a:ext cx="2364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290400" y="5813640"/>
                  <a:ext cx="2940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358680" y="5813640"/>
                  <a:ext cx="2851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823680" y="4822200"/>
                <a:ext cx="2297520" cy="7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99"/>
                    </a:solidFill>
                    <a:latin typeface="Trebuchet MS"/>
                  </a:rPr>
                  <a:t>Riduzione della produzione dei rifiut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00480" y="4822200"/>
                <a:ext cx="299772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prodotti/materiali riciclati (DM 203/2003)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43200" y="4820400"/>
                <a:ext cx="286848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Acquisto di beni che prevedono uso di materiale riciclato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3680" y="5857920"/>
                <a:ext cx="229752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99"/>
                    </a:solidFill>
                    <a:latin typeface="Trebuchet MS"/>
                  </a:rPr>
                  <a:t>Rifiut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300480" y="5857920"/>
                <a:ext cx="299772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a separazione rifiuto/materiale riciclabi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a “valorizzazione” del rifiut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343200" y="5856120"/>
                <a:ext cx="286848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333399"/>
                    </a:solidFill>
                    <a:latin typeface="Trebuchet MS"/>
                  </a:rPr>
                  <a:t>Ritiro e smaltimento dei beni utilizzati (es. toner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29920" y="5892840"/>
                <a:ext cx="0" cy="77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68544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298200" y="5892840"/>
                <a:ext cx="0" cy="77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68544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10360" y="6668640"/>
                <a:ext cx="236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90040" y="6668640"/>
                <a:ext cx="29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58320" y="6668640"/>
                <a:ext cx="285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76160" y="1903320"/>
              <a:ext cx="8540640" cy="4838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440" bIns="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352520" y="549360"/>
            <a:ext cx="82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Gli eco - obiettivi del Progra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38F3-6CAF-4884-BB4D-4FE1055690F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90760" y="549360"/>
            <a:ext cx="850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Le Convenzioni realizzate e in realizzazione 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9201240" y="1125360"/>
            <a:ext cx="504720" cy="43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488880" y="981000"/>
          <a:ext cx="8425080" cy="5357880"/>
        </p:xfrm>
        <a:graphic>
          <a:graphicData uri="http://schemas.openxmlformats.org/drawingml/2006/table">
            <a:tbl>
              <a:tblPr/>
              <a:tblGrid>
                <a:gridCol w="2730600"/>
                <a:gridCol w="3637080"/>
                <a:gridCol w="1063440"/>
                <a:gridCol w="99396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teg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Nome Conven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St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Data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rredi e complementi di arre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3"/>
                        </a:rPr>
                        <a:t>ARREDI DIDATTICI E PER UFFICIO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6/10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Veicoli, carburanti e lubrifican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4"/>
                        </a:rPr>
                        <a:t>AUTOVEICOLI IN NOLEGGIO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12/12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Veicoli, carburanti e lubrifican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hlinkClick r:id="rId5"/>
                        </a:rPr>
                        <a:t>AUTOVEICOLI IN NOLEGGIO 6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16/10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per gli immobi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6"/>
                        </a:rPr>
                        <a:t>BIODIESEL DA RISCALDAMENTO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06/11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ncelleria, macchine per ufficio e materiale di consu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7"/>
                        </a:rPr>
                        <a:t>CARTA IN RISM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01/12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Telecomunicazioni, elettronica e servizi access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8"/>
                        </a:rPr>
                        <a:t>CENTRALI TELEFONICH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0/07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limenti, ristorazione e buoni p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9"/>
                        </a:rPr>
                        <a:t>DERRATE ALIMENTARI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7/03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ncelleria, macchine per ufficio e materiale di consu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0"/>
                        </a:rPr>
                        <a:t>FOTOCOPIATRICI 12 (FASCIA ALTA-NOLEGG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18/12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limenti, ristorazione e buoni p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1"/>
                        </a:rPr>
                        <a:t>PRODOTTI ORTOFRUTTICOLI FRESC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1/12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Beni e servizi per gli immobi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hlinkClick r:id="rId12"/>
                        </a:rPr>
                        <a:t>SERVIZIO INTEGRATO ENERGIA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15/10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al territ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3"/>
                        </a:rPr>
                        <a:t>SERVIZIO LU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04/08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ncelleria, macchine per ufficio e materiale di consu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4"/>
                        </a:rPr>
                        <a:t>STAMPANTI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14/01/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per le pers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5"/>
                        </a:rPr>
                        <a:t>VESTIARIO - CALZATURE DA LAV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04/04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per le pers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6"/>
                        </a:rPr>
                        <a:t>VESTIARIO - DISPOSITIVI DI PROTEZIONE INDIVIDUALE E ACCESS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1/04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per le pers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7"/>
                        </a:rPr>
                        <a:t>VESTIARIO - INDUMENTI E ACCESSORI DA LAVORO GENERI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0/02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Telecomunicazioni, elettronica e servizi access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8"/>
                        </a:rPr>
                        <a:t>VIDEOCOMUNICAZIONE_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13/06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6271-D921-4B25-9CCA-928D6E2A54C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490760" y="549360"/>
            <a:ext cx="850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Le Convenzioni realizzate e in realizzazione 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201240" y="1125360"/>
            <a:ext cx="504720" cy="43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208160" y="1268280"/>
          <a:ext cx="7176960" cy="4792680"/>
        </p:xfrm>
        <a:graphic>
          <a:graphicData uri="http://schemas.openxmlformats.org/drawingml/2006/table">
            <a:tbl>
              <a:tblPr/>
              <a:tblGrid>
                <a:gridCol w="3044880"/>
                <a:gridCol w="2944800"/>
                <a:gridCol w="1187280"/>
              </a:tblGrid>
              <a:tr h="400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teg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Nome Conven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St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rredi e complementi di arre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333399"/>
                          </a:solidFill>
                          <a:uFillTx/>
                          <a:latin typeface="Trebuchet MS"/>
                          <a:ea typeface="Arial"/>
                        </a:rPr>
                        <a:t>ARREDI PER UFFICIO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ncelleria, macchine per ufficio e materiale di consu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333399"/>
                          </a:solidFill>
                          <a:uFillTx/>
                          <a:latin typeface="Trebuchet MS"/>
                          <a:ea typeface="Arial"/>
                        </a:rPr>
                        <a:t>FOTOCOPIATRICI 13 (MULTIFUNZIONI-ACQUIST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ncelleria, macchine per ufficio e materiale di consu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3"/>
                        </a:rPr>
                        <a:t>FOTOCOPIATRICI 14 (FASCIA MEDIA-NOLEGG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Hardware e softw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4"/>
                        </a:rPr>
                        <a:t>SERVER ENTRY/MIDRANGE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rredi e complementi di arre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5"/>
                        </a:rPr>
                        <a:t>ARREDI DIDATTICI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rredi e complementi di arre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6"/>
                        </a:rPr>
                        <a:t>ARREDI PER UFFICIO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rredi e complementi di arre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7"/>
                        </a:rPr>
                        <a:t>ARREDI SCOLASTICI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Telecomunicazioni, elettronica e servizi access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8"/>
                        </a:rPr>
                        <a:t>CENTRALI TELEFONICHE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limenti, ristorazione e buoni p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9"/>
                        </a:rPr>
                        <a:t>DERRATE ALIMENTARI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ardware e softw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hlinkClick r:id="rId10"/>
                        </a:rPr>
                        <a:t>PC PORTATILI 7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per gli immobi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1"/>
                        </a:rPr>
                        <a:t>FACILITY MANAGEMENT (II EDIZION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8A02-FFFB-4607-8808-751C5E2E55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0064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73160" y="1341360"/>
            <a:ext cx="8645400" cy="79236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701280" tIns="668520" bIns="29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86080" y="1503360"/>
            <a:ext cx="53816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asta gamma di “prodotti riciclati” sostanzialmente conformi al D.M. 8 maggio 2003 n. 2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ossibilità, per i Fornitori abilitati, di indicare le certificazioni “ambientali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9080" y="142092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Arredo e complementi di arr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5240" y="2205000"/>
            <a:ext cx="8640720" cy="158436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701280" tIns="68544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6200" y="2330280"/>
            <a:ext cx="74390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Vasta gamma di “prodotti riciclati” sostanzialmente conformi al D.M. 8 maggio 2003 n. 203. Es. carta in risme, quaderni, blocchi notes, cartucce e toner, penne monouso, pennarelli in fibr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Possibilità di ricerca/scelta tra articoli che rispondono a criteri di compatibilità ambientale e a basso impatto ambient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Possibilità, per i fornitori abilitati, di indicare le certificazioni “ambientali” (es. Ecolabel, EMAS, ISO 14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79640" y="3978360"/>
            <a:ext cx="8638920" cy="79056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701280" tIns="66672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81240" y="4032360"/>
            <a:ext cx="83516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Materiale elettrico </a:t>
            </a: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Vasta gamma di prodotti a basso consumo energe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Es. lampadine fluorescenti compatte per gli inter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Es.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ampade a miglior efficienza energetica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 per gli ester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92320" y="2573280"/>
            <a:ext cx="17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Cancelleria ad uso ufficio e didat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69880" y="692280"/>
            <a:ext cx="86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Il Mercato Elettronico e le iniziative nell’ambito del G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0280" y="6273720"/>
            <a:ext cx="30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Iniziativa 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omponenti verdi dell’inizia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12840" y="5997600"/>
            <a:ext cx="77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Legen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157880" y="6213600"/>
            <a:ext cx="365400" cy="311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205760" y="6588000"/>
            <a:ext cx="155520" cy="131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9109080" y="409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9201240" y="162864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9109080" y="265752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065240" y="4943520"/>
            <a:ext cx="8639280" cy="93348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701280" tIns="68544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66840" y="4997520"/>
            <a:ext cx="8352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Ainfo e Office   </a:t>
            </a: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Possibilità di richiedere prodotti come P.C. portatili e desktop in possesso di etichette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    ecologiche basate sull’analisi del ciclo di vi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Possibilità di richiedere stampanti e fotocopiatori in possesso di etichette ecologiche ISO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    Tipo I, basate sull’analisi del ciclo di v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E4E1-5D8A-422C-8F37-FAF0D698FF7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4520" y="119700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cordo di collaborazione tra Consip e una PA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6560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7520" y="2127240"/>
            <a:ext cx="867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cordo di collaborazione concentrato 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alisi dei fabbisog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alisi di merc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lutazione soddisfazione domanda tramite utilizzo di strumenti Cons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mazione specifica su strumenti di acquisto Cons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pporto all’utilizzo degli strumenti Cons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nitoragg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unicazione dei ris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560520" y="1454040"/>
            <a:ext cx="8927640" cy="5157360"/>
            <a:chOff x="560520" y="1454040"/>
            <a:chExt cx="8927640" cy="5157360"/>
          </a:xfrm>
        </p:grpSpPr>
        <p:grpSp>
          <p:nvGrpSpPr>
            <p:cNvPr id="209" name=""/>
            <p:cNvGrpSpPr/>
            <p:nvPr/>
          </p:nvGrpSpPr>
          <p:grpSpPr>
            <a:xfrm>
              <a:off x="596160" y="1557720"/>
              <a:ext cx="8781840" cy="4975560"/>
              <a:chOff x="596160" y="1557720"/>
              <a:chExt cx="8781840" cy="4975560"/>
            </a:xfrm>
          </p:grpSpPr>
          <p:sp>
            <p:nvSpPr>
              <p:cNvPr id="210" name=""/>
              <p:cNvSpPr/>
              <p:nvPr/>
            </p:nvSpPr>
            <p:spPr>
              <a:xfrm>
                <a:off x="596160" y="1557720"/>
                <a:ext cx="2450160" cy="254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rebuchet MS"/>
                  </a:rPr>
                  <a:t>Strutture dell’e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34960" y="1557720"/>
                <a:ext cx="3036240" cy="254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rebuchet MS"/>
                  </a:rPr>
                  <a:t>Soggetti privati e Associazion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395400" y="1557720"/>
                <a:ext cx="2982600" cy="254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rebuchet MS"/>
                  </a:rPr>
                  <a:t>Consi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0200" y="1865520"/>
                <a:ext cx="225792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98960" y="1865520"/>
                <a:ext cx="3133440" cy="86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lvl="1" marL="17928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-</a:t>
                </a: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  <a:ea typeface="ＭＳ Ｐゴシック"/>
                  </a:rPr>
                  <a:t>Imprese che investono sull’innovazione e sulla tutela dell’ambie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928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  <a:ea typeface="ＭＳ Ｐゴシック"/>
                  </a:rPr>
                  <a:t>-Associazioni di impre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928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  <a:ea typeface="ＭＳ Ｐゴシック"/>
                  </a:rPr>
                  <a:t>-Cittadin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79560" y="1862280"/>
                <a:ext cx="299844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597600" y="1811880"/>
                <a:ext cx="8780040" cy="1282320"/>
                <a:chOff x="597600" y="1811880"/>
                <a:chExt cx="8780040" cy="1282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26960" y="1811880"/>
                  <a:ext cx="0" cy="1278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334560" y="1811880"/>
                  <a:ext cx="0" cy="1278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97600" y="3094200"/>
                  <a:ext cx="247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189960" y="3094200"/>
                  <a:ext cx="307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397200" y="3094200"/>
                  <a:ext cx="2980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596160" y="3148200"/>
                <a:ext cx="8780040" cy="1374480"/>
                <a:chOff x="596160" y="3148200"/>
                <a:chExt cx="8780040" cy="13744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125520" y="3148200"/>
                  <a:ext cx="0" cy="1370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333120" y="3148200"/>
                  <a:ext cx="0" cy="1370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96160" y="4522680"/>
                  <a:ext cx="247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88520" y="4522680"/>
                  <a:ext cx="307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395760" y="4522680"/>
                  <a:ext cx="2980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610200" y="3107520"/>
                <a:ext cx="2401560" cy="19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rebuchet MS"/>
                  </a:rPr>
                  <a:t>DEFINIZIONE CATEGORIE OMOGENEE DI CO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rebuchet MS"/>
                  </a:rPr>
                  <a:t>INDIVIDUAZIONE CATEGORIE DI ACQUISTO VER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rebuchet MS"/>
                  </a:rPr>
                  <a:t>PIANIFICAZIONE ACQUISTI VER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98960" y="3109320"/>
                <a:ext cx="3133440" cy="16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COMUNICAZIONE OBIETTIVI STRATEGICI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DI PROGETT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DEFINIZIONE PIANO DI PROGETTO E TEMPISTICH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379560" y="3109320"/>
                <a:ext cx="2998440" cy="160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rebuchet MS"/>
                  </a:rPr>
                  <a:t>- </a:t>
                </a: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SUPPORTO DEFINIZIONE CATEGORIE OMOGENEE DI COST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-SUPPORTO INDIVIDUAZIONE CATEGORIE DI ACQUISTO VERD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- SUPPORTO PIANIFICAZIONE ACQUISTI VERD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814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596160" y="4652640"/>
                <a:ext cx="8780040" cy="969480"/>
                <a:chOff x="596160" y="4652640"/>
                <a:chExt cx="8780040" cy="9694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125520" y="4652640"/>
                  <a:ext cx="0" cy="9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333120" y="4652640"/>
                  <a:ext cx="0" cy="9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96160" y="5622120"/>
                  <a:ext cx="247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188520" y="5622120"/>
                  <a:ext cx="307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395760" y="5622120"/>
                  <a:ext cx="2980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610200" y="4565160"/>
                <a:ext cx="2401560" cy="121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rebuchet MS"/>
                  </a:rPr>
                  <a:t>PARTECIPAZIONE CORSI DI FORMAZIONE SU CONVENZIONI CONSIP E MERCATO ELETTRONIC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rebuchet MS"/>
                  </a:rPr>
                  <a:t>FORMAZIONE GP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98960" y="4565160"/>
                <a:ext cx="313344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9560" y="4561920"/>
                <a:ext cx="29984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rebuchet MS"/>
                  </a:rPr>
                  <a:t>EROGAZIONE CORSI DI FORMAZIONE PERSONALE E IMPRE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10200" y="5669280"/>
                <a:ext cx="2401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198960" y="5669280"/>
                <a:ext cx="31334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000000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379560" y="5667480"/>
                <a:ext cx="29984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25160" y="5706360"/>
                <a:ext cx="0" cy="82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68544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32760" y="5706360"/>
                <a:ext cx="0" cy="82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68544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6160" y="6533280"/>
                <a:ext cx="2471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88160" y="6533280"/>
                <a:ext cx="307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95400" y="6533280"/>
                <a:ext cx="2980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60520" y="1454040"/>
              <a:ext cx="8927640" cy="51573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440" bIns="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187280" y="826920"/>
            <a:ext cx="82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Trebuchet MS"/>
              </a:rPr>
              <a:t>Gli sviluppi del Piano G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6160" y="1773360"/>
            <a:ext cx="2448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NALISI DEL FABBISOG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involgimento Ragioneria cent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nalisi dei c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lassificazione della sp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finizione obi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0520" y="5742000"/>
            <a:ext cx="249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MONITORAGGIO E VER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RAGGIUNGIMENTO OBI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- COMUNICAZIONE RISULT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52880" y="4508640"/>
            <a:ext cx="3168720" cy="12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rebuchet MS"/>
              </a:rPr>
              <a:t>PARTECIPAZIONE FORMAZIONE SU GP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rebuchet MS"/>
              </a:rPr>
              <a:t>PARTECIPAZIONE FORMAZIONE SU MKP CONS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14"/>
              </a:spcBef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98760" y="5805360"/>
            <a:ext cx="2490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MONITORAGGIO E VER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RAGGIUNGIMENTO OBI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- COMUNICAZIONE RISULT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21600" y="1844640"/>
            <a:ext cx="309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NALISI DEL FABBISOG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upporto finale analisi dei c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upporto finale classificazione della sp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finizione obi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38760" y="5734080"/>
            <a:ext cx="249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SUPPORTO MONITORAGGIO E VERIFICA  RAGGIUNGIMENTO OBI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- COMUNICAZIONE RISULT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4FBF-EFF2-49E8-A001-FECB09CF949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08160" y="8031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Analisi dei fabbisogni</a:t>
            </a:r>
            <a:endParaRPr b="0" lang="en-US" sz="28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4880" y="162864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Analisi mandati di pagamento  e dati di spesa dell’en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Ricostruzione alberatura di classificazione dat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efinizione possibilità di inserimento criteri ambiental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efinizione percentuale acquisti effettuabili tramite Consi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efinizione target annuale e previsione trienna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B739-CC53-4C81-B67C-82E4A2D648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920880" y="765000"/>
          <a:ext cx="7980120" cy="583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765000"/>
                    <a:ext cx="7980120" cy="58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254320" y="23508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empio classificazione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944E-1C23-4DFE-9453-3F9094F610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20:28Z</dcterms:created>
  <dc:creator>mnd</dc:creator>
  <dc:description/>
  <dc:language>en-US</dc:language>
  <cp:lastModifiedBy> </cp:lastModifiedBy>
  <cp:lastPrinted>2006-09-12T16:34:06Z</cp:lastPrinted>
  <dcterms:modified xsi:type="dcterms:W3CDTF">2008-06-24T12:33:33Z</dcterms:modified>
  <cp:revision>609</cp:revision>
  <dc:subject/>
  <dc:title>Il mercato elettronico della P.A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17874</vt:r8>
  </property>
  <property fmtid="{D5CDD505-2E9C-101B-9397-08002B2CF9AE}" pid="3" name="_AuthorEmail">
    <vt:lpwstr>katia.petrocelli@tesoro.it</vt:lpwstr>
  </property>
  <property fmtid="{D5CDD505-2E9C-101B-9397-08002B2CF9AE}" pid="4" name="_AuthorEmailDisplayName">
    <vt:lpwstr>Petrocelli Katia</vt:lpwstr>
  </property>
  <property fmtid="{D5CDD505-2E9C-101B-9397-08002B2CF9AE}" pid="5" name="_EmailSubject">
    <vt:lpwstr>bozza presentazione per il 4 aprile</vt:lpwstr>
  </property>
  <property fmtid="{D5CDD505-2E9C-101B-9397-08002B2CF9AE}" pid="6" name="_ReviewingToolsShownOnce">
    <vt:lpwstr/>
  </property>
</Properties>
</file>