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b337b"/>
                </a:solidFill>
                <a:latin typeface="Trebuchet MS"/>
              </a:rPr>
              <a:t>Click to move the slide</a:t>
            </a:r>
            <a:endParaRPr b="0" lang="en-US" sz="16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C47F3-28F9-45EF-B6C2-B7B6422D37D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D16A5-3F0D-41D8-B50B-263F73CF299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27160" y="793800"/>
            <a:ext cx="4632120" cy="32083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09720" y="4351320"/>
            <a:ext cx="503856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arlett"/>
              <a:ea typeface="Marlet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D3DBD-A1FE-436A-BABB-38F888D9286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55800" y="685800"/>
            <a:ext cx="4948200" cy="34275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57585-ECFB-4235-A747-78B1F3F1BB0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55800" y="685800"/>
            <a:ext cx="4948200" cy="34275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1DBBD-AE10-432C-B96D-2DB9DB0B783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55800" y="685800"/>
            <a:ext cx="4948200" cy="34275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7F4D1-DF19-4A60-9140-E1B22CE3C6C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27160" y="793800"/>
            <a:ext cx="4632120" cy="320832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09720" y="4351320"/>
            <a:ext cx="503856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Marlett"/>
              <a:ea typeface="Marlet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62DB8-E52F-43B6-B992-890183DD25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44880" y="260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80880" y="1557000"/>
            <a:ext cx="80787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80880" y="3785760"/>
            <a:ext cx="80787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B9F4D-1749-4E9B-862C-4F0606D0C1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44880" y="260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80880" y="1557000"/>
            <a:ext cx="3942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0880" y="1557000"/>
            <a:ext cx="3942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80880" y="3785760"/>
            <a:ext cx="3942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0880" y="3785760"/>
            <a:ext cx="3942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1DD6B-A1A3-462A-A187-2FF5FCC6FC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44880" y="260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80880" y="1557000"/>
            <a:ext cx="26010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12200" y="1557000"/>
            <a:ext cx="26010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43880" y="1557000"/>
            <a:ext cx="26010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80880" y="3785760"/>
            <a:ext cx="26010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012200" y="3785760"/>
            <a:ext cx="26010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743880" y="3785760"/>
            <a:ext cx="26010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4D5DB-8E12-4F87-886E-24E79E75B7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44880" y="260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80880" y="1557000"/>
            <a:ext cx="8078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b337b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44880" y="260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80880" y="1557000"/>
            <a:ext cx="8078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44880" y="260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80880" y="1557000"/>
            <a:ext cx="3942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420880" y="1557000"/>
            <a:ext cx="3942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44880" y="260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b337b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144880" y="260280"/>
            <a:ext cx="80769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b337b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44880" y="260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80880" y="1557000"/>
            <a:ext cx="3942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20880" y="1557000"/>
            <a:ext cx="3942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80880" y="3785760"/>
            <a:ext cx="3942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44880" y="260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80880" y="1557000"/>
            <a:ext cx="8078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B7816-DE57-4BE9-BCC7-47DE46A741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44880" y="260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80880" y="1557000"/>
            <a:ext cx="3942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20880" y="1557000"/>
            <a:ext cx="3942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420880" y="3785760"/>
            <a:ext cx="3942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44880" y="260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80880" y="1557000"/>
            <a:ext cx="3942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420880" y="1557000"/>
            <a:ext cx="3942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80880" y="3785760"/>
            <a:ext cx="80787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44880" y="260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80880" y="1557000"/>
            <a:ext cx="80787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80880" y="3785760"/>
            <a:ext cx="80787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44880" y="260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80880" y="1557000"/>
            <a:ext cx="3942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420880" y="1557000"/>
            <a:ext cx="3942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80880" y="3785760"/>
            <a:ext cx="3942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420880" y="3785760"/>
            <a:ext cx="3942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44880" y="260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80880" y="1557000"/>
            <a:ext cx="26010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12200" y="1557000"/>
            <a:ext cx="26010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43880" y="1557000"/>
            <a:ext cx="26010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80880" y="3785760"/>
            <a:ext cx="26010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012200" y="3785760"/>
            <a:ext cx="26010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743880" y="3785760"/>
            <a:ext cx="26010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76F3B3-AC1D-4C27-B1F7-4E4BC1E2F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44880" y="260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280880" y="1557000"/>
            <a:ext cx="8078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0A27E8-517A-46C6-946C-DAC0ACED9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44880" y="260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80880" y="1557000"/>
            <a:ext cx="8078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9358CF-3F52-45FF-BB1D-4D837DD72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44880" y="260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80880" y="1557000"/>
            <a:ext cx="3942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420880" y="1557000"/>
            <a:ext cx="3942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3489C9-2584-4215-B503-23727624E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44880" y="260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3649B1-3398-45AB-8326-35D2700A7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44880" y="260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80880" y="1557000"/>
            <a:ext cx="8078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B51A9-97E5-4FFD-A5E5-A47025161B8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2144880" y="260280"/>
            <a:ext cx="80769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66D451-DD38-4AA1-87A4-8990260B3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44880" y="260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80880" y="1557000"/>
            <a:ext cx="3942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420880" y="1557000"/>
            <a:ext cx="3942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280880" y="3785760"/>
            <a:ext cx="3942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A5743F-B765-4E21-B7A0-293A4638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44880" y="260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80880" y="1557000"/>
            <a:ext cx="3942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420880" y="1557000"/>
            <a:ext cx="3942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420880" y="3785760"/>
            <a:ext cx="3942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DB7D8C-C46C-4DF0-80DC-05EB993C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44880" y="260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80880" y="1557000"/>
            <a:ext cx="3942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420880" y="1557000"/>
            <a:ext cx="3942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280880" y="3785760"/>
            <a:ext cx="80787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D90E54-3D44-4A50-9F3C-16A702C7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44880" y="260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80880" y="1557000"/>
            <a:ext cx="80787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280880" y="3785760"/>
            <a:ext cx="80787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DCFFD0-03E0-4C93-B499-701B5C0CE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44880" y="260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80880" y="1557000"/>
            <a:ext cx="3942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420880" y="1557000"/>
            <a:ext cx="3942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280880" y="3785760"/>
            <a:ext cx="3942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420880" y="3785760"/>
            <a:ext cx="3942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B34019-0A33-4ECC-8096-77304CAF7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44880" y="260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80880" y="1557000"/>
            <a:ext cx="26010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012200" y="1557000"/>
            <a:ext cx="26010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743880" y="1557000"/>
            <a:ext cx="26010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280880" y="3785760"/>
            <a:ext cx="26010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012200" y="3785760"/>
            <a:ext cx="26010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743880" y="3785760"/>
            <a:ext cx="26010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41B1DE-8985-4D2A-94AB-99E6456DE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44880" y="260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80880" y="1557000"/>
            <a:ext cx="3942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0880" y="1557000"/>
            <a:ext cx="3942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B9365-94C8-436A-9268-47676CEF82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44880" y="260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040D8-8EE2-4CDA-A99A-D34405EBE0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44880" y="260280"/>
            <a:ext cx="80769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E8679-511A-48FE-99BE-04308C0616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44880" y="260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80880" y="1557000"/>
            <a:ext cx="3942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0880" y="1557000"/>
            <a:ext cx="3942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80880" y="3785760"/>
            <a:ext cx="3942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41FE4-41CD-471E-ABBD-CC06B0039D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44880" y="260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80880" y="1557000"/>
            <a:ext cx="3942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0880" y="1557000"/>
            <a:ext cx="3942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0880" y="3785760"/>
            <a:ext cx="3942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108FB-BE49-4BA9-A368-7C7FFCE882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44880" y="260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80880" y="1557000"/>
            <a:ext cx="3942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0880" y="1557000"/>
            <a:ext cx="3942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80880" y="3785760"/>
            <a:ext cx="80787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453BC-7956-4633-855C-DA5C746175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44880" y="260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b337b"/>
                </a:solidFill>
                <a:latin typeface="Trebuchet MS"/>
              </a:rPr>
              <a:t>Click to edit the title text format</a:t>
            </a:r>
            <a:endParaRPr b="0" lang="en-US" sz="1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80880" y="1557000"/>
            <a:ext cx="8078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82680" y="6324120"/>
            <a:ext cx="614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b337b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A9E76-153C-48C1-91D2-45D0FF964BC6}" type="slidenum">
              <a:rPr b="0" lang="en-US" sz="1200" spc="-1" strike="noStrike">
                <a:solidFill>
                  <a:srgbClr val="0b337b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AVORI%20IN%20CORSO:Consip:PPT:17_11_06:mef%203%20righe" descr=""/>
          <p:cNvPicPr/>
          <p:nvPr/>
        </p:nvPicPr>
        <p:blipFill>
          <a:blip r:embed="rId2"/>
          <a:stretch/>
        </p:blipFill>
        <p:spPr>
          <a:xfrm>
            <a:off x="7848720" y="193680"/>
            <a:ext cx="1676160" cy="56844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344520" y="260280"/>
            <a:ext cx="1752480" cy="550800"/>
          </a:xfrm>
          <a:prstGeom prst="rect">
            <a:avLst/>
          </a:prstGeom>
          <a:ln w="0">
            <a:noFill/>
          </a:ln>
        </p:spPr>
      </p:pic>
      <p:sp>
        <p:nvSpPr>
          <p:cNvPr id="5" name="Base" hidden="1"/>
          <p:cNvSpPr/>
          <p:nvPr/>
        </p:nvSpPr>
        <p:spPr>
          <a:xfrm>
            <a:off x="1650960" y="1227240"/>
            <a:ext cx="66042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LAVORI%20IN%20CORSO:Consip:PPT:cover" descr=""/>
          <p:cNvPicPr/>
          <p:nvPr/>
        </p:nvPicPr>
        <p:blipFill>
          <a:blip r:embed="rId2"/>
          <a:srcRect l="0" t="2943" r="0" b="2900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438280"/>
            <a:ext cx="78483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b337b"/>
                </a:solidFill>
                <a:latin typeface="Trebuchet MS"/>
              </a:rPr>
              <a:t>Click to edit the title text format</a:t>
            </a:r>
            <a:endParaRPr b="0" lang="en-US" sz="1600" spc="-1" strike="noStrike">
              <a:solidFill>
                <a:srgbClr val="0b337b"/>
              </a:solidFill>
              <a:latin typeface="Trebuchet MS"/>
            </a:endParaRPr>
          </a:p>
        </p:txBody>
      </p:sp>
      <p:pic>
        <p:nvPicPr>
          <p:cNvPr id="44" name="LAVORI%20IN%20CORSO:Consip:PPT:17_11_06:mef%203%20righe" descr=""/>
          <p:cNvPicPr/>
          <p:nvPr/>
        </p:nvPicPr>
        <p:blipFill>
          <a:blip r:embed="rId3"/>
          <a:stretch/>
        </p:blipFill>
        <p:spPr>
          <a:xfrm>
            <a:off x="609480" y="317520"/>
            <a:ext cx="2286000" cy="774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415800" y="6165720"/>
            <a:ext cx="1752840" cy="551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212840" y="5632560"/>
            <a:ext cx="246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irenze, 26 giugno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337b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b337b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Click to edit the title text format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rebuchet MS"/>
              </a:rPr>
              <a:t>Click to edit the outline text format</a:t>
            </a:r>
            <a:endParaRPr b="0" lang="en-US" sz="1400" spc="-1" strike="noStrike">
              <a:solidFill>
                <a:srgbClr val="333399"/>
              </a:solidFill>
              <a:latin typeface="Trebuchet MS"/>
            </a:endParaRPr>
          </a:p>
          <a:p>
            <a:pPr lvl="1" marL="743040" indent="-285840">
              <a:spcBef>
                <a:spcPts val="34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rebuchet MS"/>
              </a:rPr>
              <a:t>Second Outline Level</a:t>
            </a:r>
            <a:endParaRPr b="0" lang="en-US" sz="1400" spc="-1" strike="noStrike">
              <a:solidFill>
                <a:srgbClr val="333399"/>
              </a:solidFill>
              <a:latin typeface="Trebuchet MS"/>
            </a:endParaRPr>
          </a:p>
          <a:p>
            <a:pPr lvl="2" marL="1143000" indent="-22860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rebuchet MS"/>
              </a:rPr>
              <a:t>Third Outline Level</a:t>
            </a:r>
            <a:endParaRPr b="0" lang="en-US" sz="1400" spc="-1" strike="noStrike">
              <a:solidFill>
                <a:srgbClr val="333399"/>
              </a:solidFill>
              <a:latin typeface="Trebuchet MS"/>
            </a:endParaRPr>
          </a:p>
          <a:p>
            <a:pPr lvl="3" marL="1600200" indent="-228600">
              <a:spcBef>
                <a:spcPts val="34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rebuchet MS"/>
              </a:rPr>
              <a:t>Fourth Outline Level</a:t>
            </a:r>
            <a:endParaRPr b="0" lang="en-US" sz="1400" spc="-1" strike="noStrike">
              <a:solidFill>
                <a:srgbClr val="333399"/>
              </a:solidFill>
              <a:latin typeface="Trebuchet MS"/>
            </a:endParaRPr>
          </a:p>
          <a:p>
            <a:pPr lvl="4" marL="2057400" indent="-228600">
              <a:spcBef>
                <a:spcPts val="34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rebuchet MS"/>
              </a:rPr>
              <a:t>Fifth Outline Level</a:t>
            </a:r>
            <a:endParaRPr b="0" lang="en-US" sz="1400" spc="-1" strike="noStrike">
              <a:solidFill>
                <a:srgbClr val="333399"/>
              </a:solidFill>
              <a:latin typeface="Trebuchet MS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rebuchet MS"/>
              </a:rPr>
              <a:t>Sixth Outline Level</a:t>
            </a:r>
            <a:endParaRPr b="0" lang="en-US" sz="1400" spc="-1" strike="noStrike">
              <a:solidFill>
                <a:srgbClr val="333399"/>
              </a:solidFill>
              <a:latin typeface="Trebuchet MS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rebuchet MS"/>
              </a:rPr>
              <a:t>Seventh Outline Level</a:t>
            </a:r>
            <a:endParaRPr b="0" lang="en-US" sz="1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2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7EE13-E2C3-4EA4-91BA-A0B4A9C526B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3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4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EA6FE-11A9-466D-AE13-0D90B7394C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hyperlink" Target="http://www.acquistinretepa.it/pls/portal/url/page/pg_consip/convenzioni/vetrina_convenzioni/1006_1?firsttab=convenzioni&amp;secondtab=vetrina_convenzioni" TargetMode="External"/><Relationship Id="rId4" Type="http://schemas.openxmlformats.org/officeDocument/2006/relationships/hyperlink" Target="http://www.acquistinretepa.it/pls/portal/url/page/pg_consip/convenzioni/vetrina_convenzioni/1150_1?firsttab=convenzioni&amp;secondtab=vetrina_convenzioni" TargetMode="External"/><Relationship Id="rId5" Type="http://schemas.openxmlformats.org/officeDocument/2006/relationships/hyperlink" Target="http://www.acquistinretepa.it/pls/portal/url/page/pg_consip/convenzioni/vetrina_convenzioni/1189_1?firsttab=convenzioni&amp;secondtab=vetrina_convenzioni" TargetMode="External"/><Relationship Id="rId6" Type="http://schemas.openxmlformats.org/officeDocument/2006/relationships/hyperlink" Target="http://www.acquistinretepa.it/pls/portal/url/page/pg_consip/convenzioni/vetrina_convenzioni/1142_1?firsttab=convenzioni&amp;secondtab=vetrina_convenzioni" TargetMode="External"/><Relationship Id="rId7" Type="http://schemas.openxmlformats.org/officeDocument/2006/relationships/hyperlink" Target="http://www.acquistinretepa.it/pls/portal/url/page/pg_consip/convenzioni/vetrina_convenzioni/1149_1?firsttab=convenzioni&amp;secondtab=vetrina_convenzioni" TargetMode="External"/><Relationship Id="rId8" Type="http://schemas.openxmlformats.org/officeDocument/2006/relationships/hyperlink" Target="http://www.acquistinretepa.it/pls/portal/url/page/pg_consip/convenzioni/vetrina_convenzioni/1082_1?firsttab=convenzioni&amp;secondtab=vetrina_convenzioni" TargetMode="External"/><Relationship Id="rId9" Type="http://schemas.openxmlformats.org/officeDocument/2006/relationships/hyperlink" Target="http://www.acquistinretepa.it/pls/portal/url/page/pg_consip/convenzioni/vetrina_convenzioni/1018_1?firsttab=convenzioni&amp;secondtab=vetrina_convenzioni" TargetMode="External"/><Relationship Id="rId10" Type="http://schemas.openxmlformats.org/officeDocument/2006/relationships/hyperlink" Target="http://www.acquistinretepa.it/pls/portal/url/page/pg_consip/convenzioni/vetrina_convenzioni/1156_1?firsttab=convenzioni&amp;secondtab=vetrina_convenzioni" TargetMode="External"/><Relationship Id="rId11" Type="http://schemas.openxmlformats.org/officeDocument/2006/relationships/hyperlink" Target="http://www.acquistinretepa.it/pls/portal/url/page/pg_consip/convenzioni/vetrina_convenzioni/1144_1?firsttab=convenzioni&amp;secondtab=vetrina_convenzioni" TargetMode="External"/><Relationship Id="rId12" Type="http://schemas.openxmlformats.org/officeDocument/2006/relationships/hyperlink" Target="http://www.acquistinretepa.it/pls/portal/url/page/pg_consip/convenzioni/vetrina_convenzioni/1187_1?firsttab=convenzioni&amp;secondtab=vetrina_convenzioni" TargetMode="External"/><Relationship Id="rId13" Type="http://schemas.openxmlformats.org/officeDocument/2006/relationships/hyperlink" Target="http://www.acquistinretepa.it/pls/portal/url/page/pg_consip/convenzioni/vetrina_convenzioni/1077_1?firsttab=convenzioni&amp;secondtab=vetrina_convenzioni" TargetMode="External"/><Relationship Id="rId14" Type="http://schemas.openxmlformats.org/officeDocument/2006/relationships/hyperlink" Target="http://www.acquistinretepa.it/pls/portal/url/page/pg_consip/convenzioni/vetrina_convenzioni/1161_1?firsttab=convenzioni&amp;secondtab=vetrina_convenzioni" TargetMode="External"/><Relationship Id="rId15" Type="http://schemas.openxmlformats.org/officeDocument/2006/relationships/hyperlink" Target="http://www.acquistinretepa.it/pls/portal/url/page/pg_consip/convenzioni/vetrina_convenzioni/1116_1?firsttab=convenzioni&amp;secondtab=vetrina_convenzioni" TargetMode="External"/><Relationship Id="rId16" Type="http://schemas.openxmlformats.org/officeDocument/2006/relationships/hyperlink" Target="http://www.acquistinretepa.it/pls/portal/url/page/pg_consip/convenzioni/vetrina_convenzioni/1120_1?firsttab=convenzioni&amp;secondtab=vetrina_convenzioni" TargetMode="External"/><Relationship Id="rId17" Type="http://schemas.openxmlformats.org/officeDocument/2006/relationships/hyperlink" Target="http://www.acquistinretepa.it/pls/portal/url/page/pg_consip/convenzioni/vetrina_convenzioni/1117_1?firsttab=convenzioni&amp;secondtab=vetrina_convenzioni" TargetMode="External"/><Relationship Id="rId18" Type="http://schemas.openxmlformats.org/officeDocument/2006/relationships/hyperlink" Target="http://www.acquistinretepa.it/pls/portal/url/page/pg_consip/convenzioni/vetrina_convenzioni/1114_1?firsttab=convenzioni&amp;secondtab=vetrina_convenzioni" TargetMode="External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hyperlink" Target="http://www.acquistinretepa.it/pls/portal/url/page/pg_consip/convenzioni/vetrina_convenzioni/1157_4?firsttab=convenzioni&amp;secondtab=vetrina_convenzioni" TargetMode="External"/><Relationship Id="rId4" Type="http://schemas.openxmlformats.org/officeDocument/2006/relationships/hyperlink" Target="http://www.acquistinretepa.it/pls/portal/url/page/pg_consip/convenzioni/vetrina_convenzioni/1167_4?firsttab=convenzioni&amp;secondtab=vetrina_convenzioni" TargetMode="External"/><Relationship Id="rId5" Type="http://schemas.openxmlformats.org/officeDocument/2006/relationships/hyperlink" Target="http://www.acquistinretepa.it/pls/portal/url/page/pg_consip/convenzioni/vetrina_convenzioni/1182_3?firsttab=convenzioni&amp;secondtab=vetrina_convenzioni" TargetMode="External"/><Relationship Id="rId6" Type="http://schemas.openxmlformats.org/officeDocument/2006/relationships/hyperlink" Target="http://www.acquistinretepa.it/pls/portal/url/page/pg_consip/convenzioni/vetrina_convenzioni/1169_3?firsttab=convenzioni&amp;secondtab=vetrina_convenzioni" TargetMode="External"/><Relationship Id="rId7" Type="http://schemas.openxmlformats.org/officeDocument/2006/relationships/hyperlink" Target="http://www.acquistinretepa.it/pls/portal/url/page/pg_consip/convenzioni/vetrina_convenzioni/1177_3?firsttab=convenzioni&amp;secondtab=vetrina_convenzioni" TargetMode="External"/><Relationship Id="rId8" Type="http://schemas.openxmlformats.org/officeDocument/2006/relationships/hyperlink" Target="http://www.acquistinretepa.it/pls/portal/url/page/pg_consip/convenzioni/vetrina_convenzioni/1178_3?firsttab=convenzioni&amp;secondtab=vetrina_convenzioni" TargetMode="External"/><Relationship Id="rId9" Type="http://schemas.openxmlformats.org/officeDocument/2006/relationships/hyperlink" Target="http://www.acquistinretepa.it/pls/portal/url/page/pg_consip/convenzioni/vetrina_convenzioni/1197_3?firsttab=convenzioni&amp;secondtab=vetrina_convenzioni" TargetMode="External"/><Relationship Id="rId10" Type="http://schemas.openxmlformats.org/officeDocument/2006/relationships/hyperlink" Target="http://www.acquistinretepa.it/pls/portal/url/page/pg_consip/convenzioni/vetrina_convenzioni/1168_4?firsttab=convenzioni&amp;secondtab=vetrina_convenzioni" TargetMode="External"/><Relationship Id="rId11" Type="http://schemas.openxmlformats.org/officeDocument/2006/relationships/hyperlink" Target="http://www.acquistinretepa.it/pls/portal/url/page/pg_consip/convenzioni/vetrina_convenzioni/1200_3?firsttab=convenzioni&amp;secondtab=vetrina_convenzioni" TargetMode="Externa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971640" y="2060640"/>
            <a:ext cx="80136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Trebuchet MS"/>
                <a:ea typeface="Arial"/>
              </a:rPr>
              <a:t>Programma per la Razionalizzazione degli Acquisti nella Pubblica Amministrazi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97080" y="3500280"/>
            <a:ext cx="7327800" cy="12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rebuchet MS"/>
                <a:ea typeface="Arial"/>
              </a:rPr>
              <a:t>Le Iniziative Verdi di Consip per la 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rebuchet MS"/>
                <a:ea typeface="Arial"/>
              </a:rPr>
              <a:t>Lidia Capparel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08160" y="65844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2800" spc="-1" strike="noStrike">
                <a:solidFill>
                  <a:srgbClr val="0b337b"/>
                </a:solidFill>
                <a:latin typeface="Trebuchet MS"/>
              </a:rPr>
              <a:t>Prospetto sintetico</a:t>
            </a:r>
            <a:endParaRPr b="0" lang="en-US" sz="2800" spc="-1" strike="noStrike">
              <a:solidFill>
                <a:srgbClr val="0b337b"/>
              </a:solidFill>
              <a:latin typeface="Trebuchet MS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1749600" y="1557360"/>
          <a:ext cx="7140240" cy="426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9600" y="1557360"/>
                    <a:ext cx="714024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AAA03-931D-493B-89FF-CB25CD645F8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44880" y="260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337b"/>
                </a:solidFill>
                <a:latin typeface="Trebuchet MS"/>
              </a:rPr>
              <a:t>Piano di progetto 2008 - 2010</a:t>
            </a:r>
            <a:endParaRPr b="0" lang="en-US" sz="2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80880" y="1557000"/>
            <a:ext cx="8078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99"/>
                </a:solidFill>
                <a:latin typeface="Trebuchet MS"/>
              </a:rPr>
              <a:t>Raccolta dati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99"/>
                </a:solidFill>
                <a:latin typeface="Trebuchet MS"/>
              </a:rPr>
              <a:t>Condivisione analisi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99"/>
                </a:solidFill>
                <a:latin typeface="Trebuchet MS"/>
              </a:rPr>
              <a:t>Individuazione Strategia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99"/>
                </a:solidFill>
                <a:latin typeface="Trebuchet MS"/>
              </a:rPr>
              <a:t>Definizione targe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99"/>
                </a:solidFill>
                <a:latin typeface="Trebuchet MS"/>
              </a:rPr>
              <a:t>Formazione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99"/>
                </a:solidFill>
                <a:latin typeface="Trebuchet MS"/>
              </a:rPr>
              <a:t>Executi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99"/>
                </a:solidFill>
                <a:latin typeface="Trebuchet MS"/>
              </a:rPr>
              <a:t>Monitoraggio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99"/>
                </a:solidFill>
                <a:latin typeface="Trebuchet MS"/>
              </a:rPr>
              <a:t>Ridefinizione target triennio</a:t>
            </a:r>
            <a:r>
              <a:rPr b="0" lang="it-IT" sz="28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2F555-27A4-49AA-A661-87FE69E3A71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144880" y="51552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rebuchet MS"/>
              </a:rPr>
              <a:t>Possibili ambiti di approfondimento</a:t>
            </a:r>
            <a:endParaRPr b="0" lang="en-US" sz="32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80880" y="836280"/>
            <a:ext cx="80787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Trebuchet MS"/>
              </a:rPr>
              <a:t>Approccio alla sostenibilità negli appalti pubblici (introduzione di clausole sociali negli appalti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Trebuchet MS"/>
              </a:rPr>
              <a:t>Supporto all’implementazione di un Piano Nazionale di Azione sul GPP per gli Enti Locali attraverso la metodologia sperimentata per il Comune di Rom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Trebuchet MS"/>
              </a:rPr>
              <a:t>Supporto consulenziale, formazione e promozione congiunta sugli strumenti di acquisto e sul Sistema di acquisti “verdi” messi a disposizione da Consip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40C48-5B5F-48C8-94CA-49545640B49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44880" y="260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337b"/>
                </a:solidFill>
                <a:latin typeface="Trebuchet MS"/>
              </a:rPr>
              <a:t>    </a:t>
            </a:r>
            <a:r>
              <a:rPr b="0" lang="en-US" sz="3200" spc="-1" strike="noStrike">
                <a:solidFill>
                  <a:srgbClr val="333399"/>
                </a:solidFill>
                <a:latin typeface="Trebuchet MS"/>
              </a:rPr>
              <a:t>Conclusioni</a:t>
            </a:r>
            <a:endParaRPr b="0" lang="en-US" sz="32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80880" y="1557000"/>
            <a:ext cx="8078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Trebuchet MS"/>
              </a:rPr>
              <a:t>Il GPP è un sistema complesso ed integrato con la totalità dei processi di approvvigionamento  dell’ent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Trebuchet MS"/>
              </a:rPr>
              <a:t>La definizione di una strategia di approccio non può prescindere dalla conoscenza delle esigenze dell’ent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Trebuchet MS"/>
              </a:rPr>
              <a:t>L’implementazione del sistema deve essere accompagnato da strumenti di Change Management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Trebuchet MS"/>
              </a:rPr>
              <a:t>Il GPP è uno strumento di razionalizzazione della spesa (predisposizione Carbon Footprint entro Luglio 2008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C974E-BBF3-4DA8-B598-B703CB7B917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LAVORI%20IN%20CORSO:Consip:flash02" descr=""/>
          <p:cNvPicPr/>
          <p:nvPr/>
        </p:nvPicPr>
        <p:blipFill>
          <a:blip r:embed="rId1"/>
          <a:srcRect l="754" t="0" r="1118" b="10984"/>
          <a:stretch/>
        </p:blipFill>
        <p:spPr>
          <a:xfrm>
            <a:off x="0" y="5334120"/>
            <a:ext cx="9906120" cy="15238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76160" y="915840"/>
            <a:ext cx="885672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rebuchet MS"/>
              </a:rPr>
              <a:t>Sin dall’inizio della sua attività Consip ha attuato un approccio globale al Green Procurement individuando, come illustrato nello schema seguente, gli ambiti di intervento, gli eco - obiettivi da conseguire e le leve per perseguir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776160" y="1903320"/>
            <a:ext cx="8540640" cy="4838760"/>
            <a:chOff x="776160" y="1903320"/>
            <a:chExt cx="8540640" cy="4838760"/>
          </a:xfrm>
        </p:grpSpPr>
        <p:grpSp>
          <p:nvGrpSpPr>
            <p:cNvPr id="137" name=""/>
            <p:cNvGrpSpPr/>
            <p:nvPr/>
          </p:nvGrpSpPr>
          <p:grpSpPr>
            <a:xfrm>
              <a:off x="810360" y="2000520"/>
              <a:ext cx="8401320" cy="4726080"/>
              <a:chOff x="810360" y="2000520"/>
              <a:chExt cx="8401320" cy="4726080"/>
            </a:xfrm>
          </p:grpSpPr>
          <p:sp>
            <p:nvSpPr>
              <p:cNvPr id="138" name=""/>
              <p:cNvSpPr/>
              <p:nvPr/>
            </p:nvSpPr>
            <p:spPr>
              <a:xfrm>
                <a:off x="810360" y="2000520"/>
                <a:ext cx="2343960" cy="23868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920" rIns="97920" tIns="48960" bIns="48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77760"/>
                    <a:tab algn="l" pos="1955880"/>
                    <a:tab algn="l" pos="2933640"/>
                    <a:tab algn="l" pos="3911760"/>
                    <a:tab algn="l" pos="4889520"/>
                    <a:tab algn="l" pos="5867280"/>
                    <a:tab algn="l" pos="6845400"/>
                    <a:tab algn="l" pos="7823160"/>
                    <a:tab algn="l" pos="8801280"/>
                    <a:tab algn="l" pos="9779040"/>
                    <a:tab algn="l" pos="107568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Trebuchet MS"/>
                  </a:rPr>
                  <a:t>Ambiti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334680" y="2000520"/>
                <a:ext cx="2904840" cy="23868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920" rIns="97920" tIns="48960" bIns="48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77760"/>
                    <a:tab algn="l" pos="1955880"/>
                    <a:tab algn="l" pos="2933640"/>
                    <a:tab algn="l" pos="3911760"/>
                    <a:tab algn="l" pos="4889520"/>
                    <a:tab algn="l" pos="5867280"/>
                    <a:tab algn="l" pos="6845400"/>
                    <a:tab algn="l" pos="7823160"/>
                    <a:tab algn="l" pos="8801280"/>
                    <a:tab algn="l" pos="9779040"/>
                    <a:tab algn="l" pos="10756800"/>
                  </a:tabLst>
                </a:pPr>
                <a:r>
                  <a:rPr b="1" lang="it-IT" sz="1600" spc="-1" strike="noStrike">
                    <a:solidFill>
                      <a:srgbClr val="ffffff"/>
                    </a:solidFill>
                    <a:latin typeface="Trebuchet MS"/>
                  </a:rPr>
                  <a:t>Eco-obiettivi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358320" y="2000520"/>
                <a:ext cx="2853360" cy="23868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920" rIns="97920" tIns="48960" bIns="48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77760"/>
                    <a:tab algn="l" pos="1955880"/>
                    <a:tab algn="l" pos="2933640"/>
                    <a:tab algn="l" pos="3911760"/>
                    <a:tab algn="l" pos="4889520"/>
                    <a:tab algn="l" pos="5867280"/>
                    <a:tab algn="l" pos="6845400"/>
                    <a:tab algn="l" pos="7823160"/>
                    <a:tab algn="l" pos="8801280"/>
                    <a:tab algn="l" pos="9779040"/>
                    <a:tab algn="l" pos="107568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Trebuchet MS"/>
                  </a:rPr>
                  <a:t>Lev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23680" y="2289240"/>
                <a:ext cx="2160360" cy="71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marL="185760" indent="-185760">
                  <a:lnSpc>
                    <a:spcPct val="85000"/>
                  </a:lnSpc>
                  <a:spcBef>
                    <a:spcPts val="1001"/>
                  </a:spcBef>
                  <a:buClr>
                    <a:srgbClr val="333399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333399"/>
                    </a:solidFill>
                    <a:latin typeface="Trebuchet MS"/>
                  </a:rPr>
                  <a:t>Risparmio nell’uso delle risorse e dell’Energi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300480" y="2289240"/>
                <a:ext cx="2997720" cy="110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marL="185760" indent="-185760">
                  <a:lnSpc>
                    <a:spcPct val="90000"/>
                  </a:lnSpc>
                  <a:spcBef>
                    <a:spcPts val="488"/>
                  </a:spcBef>
                  <a:buClr>
                    <a:srgbClr val="333399"/>
                  </a:buClr>
                  <a:buFont typeface="Trebuchet M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333399"/>
                    </a:solidFill>
                    <a:latin typeface="Trebuchet MS"/>
                  </a:rPr>
                  <a:t>Contribuire a generare risparmi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85760" indent="-185760">
                  <a:lnSpc>
                    <a:spcPct val="90000"/>
                  </a:lnSpc>
                  <a:spcBef>
                    <a:spcPts val="488"/>
                  </a:spcBef>
                  <a:buClr>
                    <a:srgbClr val="333399"/>
                  </a:buClr>
                  <a:buFont typeface="Trebuchet M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333399"/>
                    </a:solidFill>
                    <a:latin typeface="Trebuchet MS"/>
                  </a:rPr>
                  <a:t>Promuovere l’uso di fonti rinnovabili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85760" indent="-185760">
                  <a:lnSpc>
                    <a:spcPct val="90000"/>
                  </a:lnSpc>
                  <a:spcBef>
                    <a:spcPts val="488"/>
                  </a:spcBef>
                  <a:buClr>
                    <a:srgbClr val="333399"/>
                  </a:buClr>
                  <a:buFont typeface="Trebuchet M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333399"/>
                    </a:solidFill>
                    <a:latin typeface="Trebuchet MS"/>
                  </a:rPr>
                  <a:t>Promuovere l’uso di combustibili verdi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343200" y="2287800"/>
                <a:ext cx="2868480" cy="110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marL="185760" indent="-185760">
                  <a:lnSpc>
                    <a:spcPct val="90000"/>
                  </a:lnSpc>
                  <a:spcBef>
                    <a:spcPts val="488"/>
                  </a:spcBef>
                  <a:buClr>
                    <a:srgbClr val="333399"/>
                  </a:buClr>
                  <a:buFont typeface="Trebuchet M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333399"/>
                    </a:solidFill>
                    <a:latin typeface="Trebuchet MS"/>
                  </a:rPr>
                  <a:t>Contratti per monitorare i consumi/domanda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85760" indent="-185760">
                  <a:lnSpc>
                    <a:spcPct val="90000"/>
                  </a:lnSpc>
                  <a:spcBef>
                    <a:spcPts val="488"/>
                  </a:spcBef>
                  <a:buClr>
                    <a:srgbClr val="333399"/>
                  </a:buClr>
                  <a:buFont typeface="Trebuchet M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333399"/>
                    </a:solidFill>
                    <a:latin typeface="Trebuchet MS"/>
                  </a:rPr>
                  <a:t>Auto-produzione/acquisto di energia da risorse rinnovabili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85760" indent="-185760">
                  <a:lnSpc>
                    <a:spcPct val="90000"/>
                  </a:lnSpc>
                  <a:spcBef>
                    <a:spcPts val="488"/>
                  </a:spcBef>
                  <a:buClr>
                    <a:srgbClr val="333399"/>
                  </a:buClr>
                  <a:buFont typeface="Trebuchet M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333399"/>
                    </a:solidFill>
                    <a:latin typeface="Trebuchet MS"/>
                  </a:rPr>
                  <a:t>Fornitura di combustibili verdi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" name=""/>
              <p:cNvGrpSpPr/>
              <p:nvPr/>
            </p:nvGrpSpPr>
            <p:grpSpPr>
              <a:xfrm>
                <a:off x="811800" y="2239200"/>
                <a:ext cx="8399520" cy="1203120"/>
                <a:chOff x="811800" y="2239200"/>
                <a:chExt cx="8399520" cy="12031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3231720" y="2239200"/>
                  <a:ext cx="0" cy="1199160"/>
                </a:xfrm>
                <a:prstGeom prst="line">
                  <a:avLst/>
                </a:prstGeom>
                <a:ln w="1260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71320" rIns="701280" tIns="68544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300000" y="2239200"/>
                  <a:ext cx="0" cy="1199160"/>
                </a:xfrm>
                <a:prstGeom prst="line">
                  <a:avLst/>
                </a:prstGeom>
                <a:ln w="1260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71320" rIns="701280" tIns="68544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811800" y="3442320"/>
                  <a:ext cx="2364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71320" rIns="701280" tIns="-46800" bIns="-685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3291840" y="3442320"/>
                  <a:ext cx="2940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71320" rIns="701280" tIns="-46800" bIns="-685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360120" y="3442320"/>
                  <a:ext cx="2851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71320" rIns="701280" tIns="-46800" bIns="-685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810360" y="3492720"/>
                <a:ext cx="8399520" cy="1289520"/>
                <a:chOff x="810360" y="3492720"/>
                <a:chExt cx="8399520" cy="12895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3230280" y="3492720"/>
                  <a:ext cx="0" cy="1285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71320" rIns="701280" tIns="68544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6298560" y="3492720"/>
                  <a:ext cx="0" cy="1285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71320" rIns="701280" tIns="68544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10360" y="4782240"/>
                  <a:ext cx="2364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71320" rIns="701280" tIns="-46800" bIns="-685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3290400" y="4782240"/>
                  <a:ext cx="2940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71320" rIns="701280" tIns="-46800" bIns="-685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6358680" y="4782240"/>
                  <a:ext cx="2851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71320" rIns="701280" tIns="-46800" bIns="-685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" name=""/>
              <p:cNvSpPr/>
              <p:nvPr/>
            </p:nvSpPr>
            <p:spPr>
              <a:xfrm>
                <a:off x="823680" y="3456000"/>
                <a:ext cx="2297520" cy="50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marL="185760" indent="-185760">
                  <a:lnSpc>
                    <a:spcPct val="85000"/>
                  </a:lnSpc>
                  <a:spcBef>
                    <a:spcPts val="1001"/>
                  </a:spcBef>
                  <a:buClr>
                    <a:srgbClr val="333399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333399"/>
                    </a:solidFill>
                    <a:latin typeface="Trebuchet MS"/>
                  </a:rPr>
                  <a:t>Prevenzione dei danni alla salu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300480" y="3456000"/>
                <a:ext cx="2997720" cy="133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marL="185760" indent="-185760">
                  <a:lnSpc>
                    <a:spcPct val="90000"/>
                  </a:lnSpc>
                  <a:spcBef>
                    <a:spcPts val="488"/>
                  </a:spcBef>
                  <a:buClr>
                    <a:srgbClr val="333399"/>
                  </a:buClr>
                  <a:buFont typeface="Trebuchet M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333399"/>
                    </a:solidFill>
                    <a:latin typeface="Trebuchet MS"/>
                  </a:rPr>
                  <a:t>Promuovere l’utilizzo di veicoli a basso impatto ambiental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85760" indent="-185760">
                  <a:lnSpc>
                    <a:spcPct val="90000"/>
                  </a:lnSpc>
                  <a:spcBef>
                    <a:spcPts val="488"/>
                  </a:spcBef>
                  <a:buClr>
                    <a:srgbClr val="333399"/>
                  </a:buClr>
                  <a:buFont typeface="Trebuchet M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85760" indent="-185760">
                  <a:lnSpc>
                    <a:spcPct val="90000"/>
                  </a:lnSpc>
                  <a:spcBef>
                    <a:spcPts val="488"/>
                  </a:spcBef>
                  <a:buClr>
                    <a:srgbClr val="333399"/>
                  </a:buClr>
                  <a:buFont typeface="Trebuchet M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333399"/>
                    </a:solidFill>
                    <a:latin typeface="Trebuchet MS"/>
                  </a:rPr>
                  <a:t>Promuovere la produzione di beni e servizi non contenenti sostanze pericolos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343200" y="3456000"/>
                <a:ext cx="2868480" cy="12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marL="185760" indent="-185760">
                  <a:lnSpc>
                    <a:spcPct val="100000"/>
                  </a:lnSpc>
                  <a:spcBef>
                    <a:spcPts val="488"/>
                  </a:spcBef>
                  <a:buClr>
                    <a:srgbClr val="333399"/>
                  </a:buClr>
                  <a:buFont typeface="Trebuchet M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333399"/>
                    </a:solidFill>
                    <a:latin typeface="Trebuchet MS"/>
                  </a:rPr>
                  <a:t>Punteggio tecnico per premiare il possesso di certificazioni ecologiche (EMAS, Ecolabel,..) o per caratteristiche dei prodotti/servizi non pericolosi per la salut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" name=""/>
              <p:cNvGrpSpPr/>
              <p:nvPr/>
            </p:nvGrpSpPr>
            <p:grpSpPr>
              <a:xfrm>
                <a:off x="810360" y="4904280"/>
                <a:ext cx="8399520" cy="909360"/>
                <a:chOff x="810360" y="4904280"/>
                <a:chExt cx="8399520" cy="9093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230280" y="4904280"/>
                  <a:ext cx="0" cy="906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71320" rIns="701280" tIns="68544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298560" y="4904280"/>
                  <a:ext cx="0" cy="906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71320" rIns="701280" tIns="68544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810360" y="5813640"/>
                  <a:ext cx="2364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71320" rIns="701280" tIns="-46800" bIns="-685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290400" y="5813640"/>
                  <a:ext cx="2940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71320" rIns="701280" tIns="-46800" bIns="-685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6358680" y="5813640"/>
                  <a:ext cx="2851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71320" rIns="701280" tIns="-46800" bIns="-685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"/>
              <p:cNvSpPr/>
              <p:nvPr/>
            </p:nvSpPr>
            <p:spPr>
              <a:xfrm>
                <a:off x="823680" y="4822200"/>
                <a:ext cx="2297520" cy="71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marL="185760" indent="-185760">
                  <a:lnSpc>
                    <a:spcPct val="85000"/>
                  </a:lnSpc>
                  <a:spcBef>
                    <a:spcPts val="1001"/>
                  </a:spcBef>
                  <a:buClr>
                    <a:srgbClr val="333399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333399"/>
                    </a:solidFill>
                    <a:latin typeface="Trebuchet MS"/>
                  </a:rPr>
                  <a:t>Riduzione della produzione dei rifiuti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300480" y="4822200"/>
                <a:ext cx="2997720" cy="45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marL="185760" indent="-185760">
                  <a:lnSpc>
                    <a:spcPct val="90000"/>
                  </a:lnSpc>
                  <a:spcBef>
                    <a:spcPts val="488"/>
                  </a:spcBef>
                  <a:buClr>
                    <a:srgbClr val="333399"/>
                  </a:buClr>
                  <a:buFont typeface="Trebuchet M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333399"/>
                    </a:solidFill>
                    <a:latin typeface="Trebuchet MS"/>
                  </a:rPr>
                  <a:t>Promuovere prodotti/materiali riciclati (DM 203/2003).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343200" y="4820400"/>
                <a:ext cx="2868480" cy="45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marL="185760" indent="-185760">
                  <a:lnSpc>
                    <a:spcPct val="90000"/>
                  </a:lnSpc>
                  <a:spcBef>
                    <a:spcPts val="488"/>
                  </a:spcBef>
                  <a:buClr>
                    <a:srgbClr val="333399"/>
                  </a:buClr>
                  <a:buFont typeface="Trebuchet M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333399"/>
                    </a:solidFill>
                    <a:latin typeface="Trebuchet MS"/>
                  </a:rPr>
                  <a:t>Acquisto di beni che prevedono uso di materiale riciclato.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23680" y="5857920"/>
                <a:ext cx="2297520" cy="30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marL="185760" indent="-185760">
                  <a:lnSpc>
                    <a:spcPct val="85000"/>
                  </a:lnSpc>
                  <a:spcBef>
                    <a:spcPts val="1001"/>
                  </a:spcBef>
                  <a:buClr>
                    <a:srgbClr val="333399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333399"/>
                    </a:solidFill>
                    <a:latin typeface="Trebuchet MS"/>
                  </a:rPr>
                  <a:t>Rifiuti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300480" y="5857920"/>
                <a:ext cx="2997720" cy="86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marL="185760" indent="-185760">
                  <a:lnSpc>
                    <a:spcPct val="90000"/>
                  </a:lnSpc>
                  <a:spcBef>
                    <a:spcPts val="488"/>
                  </a:spcBef>
                  <a:buClr>
                    <a:srgbClr val="333399"/>
                  </a:buClr>
                  <a:buFont typeface="Trebuchet M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333399"/>
                    </a:solidFill>
                    <a:latin typeface="Trebuchet MS"/>
                  </a:rPr>
                  <a:t>Promuovere la separazione rifiuto/materiale riciclabil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85760" indent="-185760">
                  <a:lnSpc>
                    <a:spcPct val="90000"/>
                  </a:lnSpc>
                  <a:spcBef>
                    <a:spcPts val="488"/>
                  </a:spcBef>
                  <a:buClr>
                    <a:srgbClr val="333399"/>
                  </a:buClr>
                  <a:buFont typeface="Trebuchet M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333399"/>
                    </a:solidFill>
                    <a:latin typeface="Trebuchet MS"/>
                  </a:rPr>
                  <a:t>Promuovere la “valorizzazione” del rifiuto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343200" y="5856120"/>
                <a:ext cx="2868480" cy="45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marL="185760" indent="-185760">
                  <a:lnSpc>
                    <a:spcPct val="90000"/>
                  </a:lnSpc>
                  <a:spcBef>
                    <a:spcPts val="488"/>
                  </a:spcBef>
                  <a:buClr>
                    <a:srgbClr val="333399"/>
                  </a:buClr>
                  <a:buFont typeface="Trebuchet M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333399"/>
                    </a:solidFill>
                    <a:latin typeface="Trebuchet MS"/>
                  </a:rPr>
                  <a:t>Ritiro e smaltimento dei beni utilizzati (es. toner)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229920" y="5892840"/>
                <a:ext cx="0" cy="77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71320" rIns="701280" tIns="68544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298200" y="5892840"/>
                <a:ext cx="0" cy="77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71320" rIns="701280" tIns="68544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10360" y="6668640"/>
                <a:ext cx="236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71320" rIns="701280" tIns="-46800" bIns="-685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290040" y="6668640"/>
                <a:ext cx="2941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71320" rIns="701280" tIns="-46800" bIns="-685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358320" y="6668640"/>
                <a:ext cx="2851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71320" rIns="701280" tIns="-46800" bIns="-685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776160" y="1903320"/>
              <a:ext cx="8540640" cy="483876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440" bIns="46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1352520" y="549360"/>
            <a:ext cx="825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Gli eco - obiettivi del Program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23377-D71B-4639-979E-DFEB4A37AE7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LAVORI%20IN%20CORSO:Consip:flash01" descr=""/>
          <p:cNvPicPr/>
          <p:nvPr/>
        </p:nvPicPr>
        <p:blipFill>
          <a:blip r:embed="rId1"/>
          <a:srcRect l="1493" t="0" r="1493" b="0"/>
          <a:stretch/>
        </p:blipFill>
        <p:spPr>
          <a:xfrm>
            <a:off x="0" y="5462640"/>
            <a:ext cx="9906120" cy="13953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490760" y="549360"/>
            <a:ext cx="850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Le Convenzioni realizzate e in realizzazione 1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9201240" y="1125360"/>
            <a:ext cx="504720" cy="43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" name=""/>
          <p:cNvGraphicFramePr/>
          <p:nvPr/>
        </p:nvGraphicFramePr>
        <p:xfrm>
          <a:off x="488880" y="981000"/>
          <a:ext cx="8425080" cy="5357880"/>
        </p:xfrm>
        <a:graphic>
          <a:graphicData uri="http://schemas.openxmlformats.org/drawingml/2006/table">
            <a:tbl>
              <a:tblPr/>
              <a:tblGrid>
                <a:gridCol w="2730600"/>
                <a:gridCol w="3637080"/>
                <a:gridCol w="1063440"/>
                <a:gridCol w="993960"/>
              </a:tblGrid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Catego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Nome Convenzi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Sta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Dataattivazi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66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Arredi e complementi di arre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Trebuchet MS"/>
                          <a:ea typeface="Arial"/>
                          <a:hlinkClick r:id="rId3"/>
                        </a:rPr>
                        <a:t>ARREDI DIDATTICI E PER UFFICIO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ATT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26/10/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Veicoli, carburanti e lubrifican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Trebuchet MS"/>
                          <a:ea typeface="Arial"/>
                          <a:hlinkClick r:id="rId4"/>
                        </a:rPr>
                        <a:t>AUTOVEICOLI IN NOLEGGIO 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ATT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12/12/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Veicoli, carburanti e lubrifican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Trebuchet MS"/>
                          <a:hlinkClick r:id="rId5"/>
                        </a:rPr>
                        <a:t>AUTOVEICOLI IN NOLEGGIO 6</a:t>
                      </a: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ATT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16/10/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Beni e servizi per gli immobi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Trebuchet MS"/>
                          <a:ea typeface="Arial"/>
                          <a:hlinkClick r:id="rId6"/>
                        </a:rPr>
                        <a:t>BIODIESEL DA RISCALDAMENTO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ATT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06/11/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Cancelleria, macchine per ufficio e materiale di consum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Trebuchet MS"/>
                          <a:ea typeface="Arial"/>
                          <a:hlinkClick r:id="rId7"/>
                        </a:rPr>
                        <a:t>CARTA IN RISME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ATT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01/12/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Telecomunicazioni, elettronica e servizi accessor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Trebuchet MS"/>
                          <a:ea typeface="Arial"/>
                          <a:hlinkClick r:id="rId8"/>
                        </a:rPr>
                        <a:t>CENTRALI TELEFONICHE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ATT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20/07/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Alimenti, ristorazione e buoni pas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Trebuchet MS"/>
                          <a:ea typeface="Arial"/>
                          <a:hlinkClick r:id="rId9"/>
                        </a:rPr>
                        <a:t>DERRATE ALIMENTARI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ATT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27/03/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Cancelleria, macchine per ufficio e materiale di consum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Trebuchet MS"/>
                          <a:ea typeface="Arial"/>
                          <a:hlinkClick r:id="rId10"/>
                        </a:rPr>
                        <a:t>FOTOCOPIATRICI 12 (FASCIA ALTA-NOLEGGI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ATT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18/12/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Alimenti, ristorazione e buoni pas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Trebuchet MS"/>
                          <a:ea typeface="Arial"/>
                          <a:hlinkClick r:id="rId11"/>
                        </a:rPr>
                        <a:t>PRODOTTI ORTOFRUTTICOLI FRESCH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ATT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21/12/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Beni e servizi per gli immobi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Trebuchet MS"/>
                          <a:hlinkClick r:id="rId12"/>
                        </a:rPr>
                        <a:t>SERVIZIO INTEGRATO ENERGIA</a:t>
                      </a: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ATT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15/10/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Beni e servizi al territor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Trebuchet MS"/>
                          <a:ea typeface="Arial"/>
                          <a:hlinkClick r:id="rId13"/>
                        </a:rPr>
                        <a:t>SERVIZIO LU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ATT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04/08/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Cancelleria, macchine per ufficio e materiale di consum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Trebuchet MS"/>
                          <a:ea typeface="Arial"/>
                          <a:hlinkClick r:id="rId14"/>
                        </a:rPr>
                        <a:t>STAMPANTI 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ATT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14/01/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Beni e servizi per le pers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Trebuchet MS"/>
                          <a:ea typeface="Arial"/>
                          <a:hlinkClick r:id="rId15"/>
                        </a:rPr>
                        <a:t>VESTIARIO - CALZATURE DA LAVO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ATT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04/04/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Beni e servizi per le pers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Trebuchet MS"/>
                          <a:ea typeface="Arial"/>
                          <a:hlinkClick r:id="rId16"/>
                        </a:rPr>
                        <a:t>VESTIARIO - DISPOSITIVI DI PROTEZIONE INDIVIDUALE E ACCESSOR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ATT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21/04/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Beni e servizi per le pers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Trebuchet MS"/>
                          <a:ea typeface="Arial"/>
                          <a:hlinkClick r:id="rId17"/>
                        </a:rPr>
                        <a:t>VESTIARIO - INDUMENTI E ACCESSORI DA LAVORO GENERIC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ATT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20/02/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Telecomunicazioni, elettronica e servizi accessor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Trebuchet MS"/>
                          <a:ea typeface="Arial"/>
                          <a:hlinkClick r:id="rId18"/>
                        </a:rPr>
                        <a:t>VIDEOCOMUNICAZIONE_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ATT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13/06/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F61EE-474B-4355-A2BE-A833E9F14BB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LAVORI%20IN%20CORSO:Consip:flash01" descr=""/>
          <p:cNvPicPr/>
          <p:nvPr/>
        </p:nvPicPr>
        <p:blipFill>
          <a:blip r:embed="rId1"/>
          <a:srcRect l="1493" t="0" r="1493" b="0"/>
          <a:stretch/>
        </p:blipFill>
        <p:spPr>
          <a:xfrm>
            <a:off x="0" y="5462640"/>
            <a:ext cx="9906120" cy="13953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490760" y="549360"/>
            <a:ext cx="850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Le Convenzioni realizzate e in realizzazione 2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9201240" y="1125360"/>
            <a:ext cx="504720" cy="43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5" name=""/>
          <p:cNvGraphicFramePr/>
          <p:nvPr/>
        </p:nvGraphicFramePr>
        <p:xfrm>
          <a:off x="1208160" y="1268280"/>
          <a:ext cx="7176960" cy="4792680"/>
        </p:xfrm>
        <a:graphic>
          <a:graphicData uri="http://schemas.openxmlformats.org/drawingml/2006/table">
            <a:tbl>
              <a:tblPr/>
              <a:tblGrid>
                <a:gridCol w="3044880"/>
                <a:gridCol w="2944800"/>
                <a:gridCol w="1187280"/>
              </a:tblGrid>
              <a:tr h="400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Catego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Nome Convenzi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Sta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Arredi e complementi di arre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333399"/>
                          </a:solidFill>
                          <a:uFillTx/>
                          <a:latin typeface="Trebuchet MS"/>
                          <a:ea typeface="Arial"/>
                        </a:rPr>
                        <a:t>ARREDI PER UFFICIO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IN ATTIVAZI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Cancelleria, macchine per ufficio e materiale di consum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333399"/>
                          </a:solidFill>
                          <a:uFillTx/>
                          <a:latin typeface="Trebuchet MS"/>
                          <a:ea typeface="Arial"/>
                        </a:rPr>
                        <a:t>FOTOCOPIATRICI 13 (MULTIFUNZIONI-ACQUIST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IN ATTIVAZI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Cancelleria, macchine per ufficio e materiale di consum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Trebuchet MS"/>
                          <a:ea typeface="Arial"/>
                          <a:hlinkClick r:id="rId3"/>
                        </a:rPr>
                        <a:t>FOTOCOPIATRICI 14 (FASCIA MEDIA-NOLEGGI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IN ATTIVAZI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Hardware e softwa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Trebuchet MS"/>
                          <a:ea typeface="Arial"/>
                          <a:hlinkClick r:id="rId4"/>
                        </a:rPr>
                        <a:t>SERVER ENTRY/MIDRANGE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IN ATTIVAZI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Arredi e complementi di arre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Trebuchet MS"/>
                          <a:ea typeface="Arial"/>
                          <a:hlinkClick r:id="rId5"/>
                        </a:rPr>
                        <a:t>ARREDI DIDATTICI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IN ATTIVAZI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Arredi e complementi di arre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Trebuchet MS"/>
                          <a:ea typeface="Arial"/>
                          <a:hlinkClick r:id="rId6"/>
                        </a:rPr>
                        <a:t>ARREDI PER UFFICIO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IN ATTIVAZI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Arredi e complementi di arre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Trebuchet MS"/>
                          <a:ea typeface="Arial"/>
                          <a:hlinkClick r:id="rId7"/>
                        </a:rPr>
                        <a:t>ARREDI SCOLASTICI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IN ATTIVAZI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Telecomunicazioni, elettronica e servizi accessor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Trebuchet MS"/>
                          <a:ea typeface="Arial"/>
                          <a:hlinkClick r:id="rId8"/>
                        </a:rPr>
                        <a:t>CENTRALI TELEFONICHE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IN ATTIVAZI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Alimenti, ristorazione e buoni pas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Trebuchet MS"/>
                          <a:ea typeface="Arial"/>
                          <a:hlinkClick r:id="rId9"/>
                        </a:rPr>
                        <a:t>DERRATE ALIMENTARI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IN ATTIVAZI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Hardware e softwa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Trebuchet MS"/>
                          <a:hlinkClick r:id="rId10"/>
                        </a:rPr>
                        <a:t>PC PORTATILI 7</a:t>
                      </a: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N ATTIVAZI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Beni e servizi per gli immobi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Trebuchet MS"/>
                          <a:ea typeface="Arial"/>
                          <a:hlinkClick r:id="rId11"/>
                        </a:rPr>
                        <a:t>FACILITY MANAGEMENT (II EDIZION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IN ATTIVAZI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6B149-D3DD-4742-9E8E-53644E46817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LAVORI%20IN%20CORSO:Consip:flash02" descr=""/>
          <p:cNvPicPr/>
          <p:nvPr/>
        </p:nvPicPr>
        <p:blipFill>
          <a:blip r:embed="rId1"/>
          <a:srcRect l="754" t="0" r="1118" b="10984"/>
          <a:stretch/>
        </p:blipFill>
        <p:spPr>
          <a:xfrm>
            <a:off x="0" y="5300640"/>
            <a:ext cx="9906120" cy="15238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073160" y="1341360"/>
            <a:ext cx="8645400" cy="792360"/>
          </a:xfrm>
          <a:prstGeom prst="roundRect">
            <a:avLst>
              <a:gd name="adj" fmla="val 16667"/>
            </a:avLst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1320" rIns="701280" tIns="668520" bIns="29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86080" y="1503360"/>
            <a:ext cx="5381640" cy="5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87400" indent="-17874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Vasta gamma di “prodotti riciclati” sostanzialmente conformi al D.M. 8 maggio 2003 n. 2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7400" indent="-17874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ossibilità, per i Fornitori abilitati, di indicare le certificazioni “ambientali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89080" y="1420920"/>
            <a:ext cx="187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Arredo e complementi di arre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65240" y="2205000"/>
            <a:ext cx="8640720" cy="1584360"/>
          </a:xfrm>
          <a:prstGeom prst="roundRect">
            <a:avLst>
              <a:gd name="adj" fmla="val 16667"/>
            </a:avLst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1320" rIns="701280" tIns="68544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46200" y="2330280"/>
            <a:ext cx="7439040" cy="15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87400" indent="-17874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Vasta gamma di “prodotti riciclati” sostanzialmente conformi al D.M. 8 maggio 2003 n. 203. Es. carta in risme, quaderni, blocchi notes, cartucce e toner, penne monouso, pennarelli in fibra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7400" indent="-17874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Possibilità di ricerca/scelta tra articoli che rispondono a criteri di compatibilità ambientale e a basso impatto ambient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7400" indent="-17874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Possibilità, per i fornitori abilitati, di indicare le certificazioni “ambientali” (es. Ecolabel, EMAS, ISO 140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7400" indent="-17874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79640" y="3978360"/>
            <a:ext cx="8638920" cy="790560"/>
          </a:xfrm>
          <a:prstGeom prst="roundRect">
            <a:avLst>
              <a:gd name="adj" fmla="val 16667"/>
            </a:avLst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1320" rIns="701280" tIns="666720" bIns="280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281240" y="4032360"/>
            <a:ext cx="83516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87400" indent="-17874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rebuchet MS"/>
              </a:rPr>
              <a:t>Materiale elettrico </a:t>
            </a:r>
            <a:r>
              <a:rPr b="1" lang="it-IT" sz="1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rebuchet MS"/>
              </a:rPr>
              <a:t>      </a:t>
            </a: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Vasta gamma di prodotti a basso consumo energe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7400" indent="-17874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      </a:t>
            </a: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Es. lampadine fluorescenti compatte per gli inter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7400" indent="-17874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      </a:t>
            </a: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Es. </a:t>
            </a:r>
            <a:r>
              <a:rPr b="0" lang="it-IT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lampade a miglior efficienza energetica</a:t>
            </a: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 per gli ester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92320" y="2573280"/>
            <a:ext cx="171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Cancelleria ad uso ufficio e didat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469880" y="692280"/>
            <a:ext cx="866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Il Mercato Elettronico e le iniziative nell’ambito del G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550280" y="6273720"/>
            <a:ext cx="301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Iniziativa ver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Componenti verdi dell’iniziativ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512840" y="5997600"/>
            <a:ext cx="777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rebuchet MS"/>
              </a:rPr>
              <a:t>Legend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7157880" y="6213600"/>
            <a:ext cx="365400" cy="3110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7205760" y="6588000"/>
            <a:ext cx="155520" cy="1317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9109080" y="409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9201240" y="162864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6"/>
          <a:stretch/>
        </p:blipFill>
        <p:spPr>
          <a:xfrm>
            <a:off x="9109080" y="2657520"/>
            <a:ext cx="190440" cy="1904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065240" y="4943520"/>
            <a:ext cx="8639280" cy="933480"/>
          </a:xfrm>
          <a:prstGeom prst="roundRect">
            <a:avLst>
              <a:gd name="adj" fmla="val 16667"/>
            </a:avLst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1320" rIns="701280" tIns="68544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266840" y="4997520"/>
            <a:ext cx="83520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87400" indent="-17874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rebuchet MS"/>
              </a:rPr>
              <a:t>Ainfo e Office   </a:t>
            </a:r>
            <a:r>
              <a:rPr b="1" lang="it-IT" sz="1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rebuchet MS"/>
              </a:rPr>
              <a:t>      </a:t>
            </a: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Possibilità di richiedere prodotti come P.C. portatili e desktop in possesso di etichette  </a:t>
            </a: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     ecologiche basate sull’analisi del ciclo di vi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7400" indent="-17874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                                             </a:t>
            </a: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Possibilità di richiedere stampanti e fotocopiatori in possesso di etichette ecologiche ISO    </a:t>
            </a: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     Tipo I, basate sull’analisi del ciclo di vi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B07F5-B999-4D55-BB2C-C343CB09873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44520" y="1197000"/>
            <a:ext cx="93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ccordo di collaborazione tra Consip e una PA lo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665600" y="2276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67520" y="2127240"/>
            <a:ext cx="8675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ccordo di collaborazione concentrato s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nalisi dei fabbisog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nalisi di merc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Valutazione soddisfazione domanda tramite utilizzo di strumenti Cons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ormazione specifica su strumenti di acquisto Cons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upporto all’utilizzo degli strumenti Cons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onitoragg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municazione dei risult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560520" y="1454040"/>
            <a:ext cx="8927640" cy="5157360"/>
            <a:chOff x="560520" y="1454040"/>
            <a:chExt cx="8927640" cy="5157360"/>
          </a:xfrm>
        </p:grpSpPr>
        <p:grpSp>
          <p:nvGrpSpPr>
            <p:cNvPr id="209" name=""/>
            <p:cNvGrpSpPr/>
            <p:nvPr/>
          </p:nvGrpSpPr>
          <p:grpSpPr>
            <a:xfrm>
              <a:off x="596160" y="1557720"/>
              <a:ext cx="8781840" cy="4975560"/>
              <a:chOff x="596160" y="1557720"/>
              <a:chExt cx="8781840" cy="4975560"/>
            </a:xfrm>
          </p:grpSpPr>
          <p:sp>
            <p:nvSpPr>
              <p:cNvPr id="210" name=""/>
              <p:cNvSpPr/>
              <p:nvPr/>
            </p:nvSpPr>
            <p:spPr>
              <a:xfrm>
                <a:off x="596160" y="1557720"/>
                <a:ext cx="2450160" cy="25416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920" rIns="97920" tIns="48960" bIns="48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77760"/>
                    <a:tab algn="l" pos="1955880"/>
                    <a:tab algn="l" pos="2933640"/>
                    <a:tab algn="l" pos="3911760"/>
                    <a:tab algn="l" pos="4889520"/>
                    <a:tab algn="l" pos="5867280"/>
                    <a:tab algn="l" pos="6845400"/>
                    <a:tab algn="l" pos="7823160"/>
                    <a:tab algn="l" pos="8801280"/>
                    <a:tab algn="l" pos="9779040"/>
                    <a:tab algn="l" pos="107568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rebuchet MS"/>
                  </a:rPr>
                  <a:t>Strutture dell’ent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234960" y="1557720"/>
                <a:ext cx="3036240" cy="25416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920" rIns="97920" tIns="48960" bIns="48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77760"/>
                    <a:tab algn="l" pos="1955880"/>
                    <a:tab algn="l" pos="2933640"/>
                    <a:tab algn="l" pos="3911760"/>
                    <a:tab algn="l" pos="4889520"/>
                    <a:tab algn="l" pos="5867280"/>
                    <a:tab algn="l" pos="6845400"/>
                    <a:tab algn="l" pos="7823160"/>
                    <a:tab algn="l" pos="8801280"/>
                    <a:tab algn="l" pos="9779040"/>
                    <a:tab algn="l" pos="107568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77760"/>
                    <a:tab algn="l" pos="1955880"/>
                    <a:tab algn="l" pos="2933640"/>
                    <a:tab algn="l" pos="3911760"/>
                    <a:tab algn="l" pos="4889520"/>
                    <a:tab algn="l" pos="5867280"/>
                    <a:tab algn="l" pos="6845400"/>
                    <a:tab algn="l" pos="7823160"/>
                    <a:tab algn="l" pos="8801280"/>
                    <a:tab algn="l" pos="9779040"/>
                    <a:tab algn="l" pos="107568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rebuchet MS"/>
                  </a:rPr>
                  <a:t>Soggetti privati e Associazion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77760"/>
                    <a:tab algn="l" pos="1955880"/>
                    <a:tab algn="l" pos="2933640"/>
                    <a:tab algn="l" pos="3911760"/>
                    <a:tab algn="l" pos="4889520"/>
                    <a:tab algn="l" pos="5867280"/>
                    <a:tab algn="l" pos="6845400"/>
                    <a:tab algn="l" pos="7823160"/>
                    <a:tab algn="l" pos="8801280"/>
                    <a:tab algn="l" pos="9779040"/>
                    <a:tab algn="l" pos="107568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395400" y="1557720"/>
                <a:ext cx="2982600" cy="25416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920" rIns="97920" tIns="48960" bIns="48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77760"/>
                    <a:tab algn="l" pos="1955880"/>
                    <a:tab algn="l" pos="2933640"/>
                    <a:tab algn="l" pos="3911760"/>
                    <a:tab algn="l" pos="4889520"/>
                    <a:tab algn="l" pos="5867280"/>
                    <a:tab algn="l" pos="6845400"/>
                    <a:tab algn="l" pos="7823160"/>
                    <a:tab algn="l" pos="8801280"/>
                    <a:tab algn="l" pos="9779040"/>
                    <a:tab algn="l" pos="107568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rebuchet MS"/>
                  </a:rPr>
                  <a:t>Consi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10200" y="1865520"/>
                <a:ext cx="2257920" cy="29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marL="185760" indent="-185760">
                  <a:lnSpc>
                    <a:spcPct val="85000"/>
                  </a:lnSpc>
                  <a:spcBef>
                    <a:spcPts val="1001"/>
                  </a:spcBef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198960" y="1865520"/>
                <a:ext cx="3133440" cy="86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lvl="1" marL="179280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-</a:t>
                </a:r>
                <a:r>
                  <a:rPr b="0" lang="en-US" sz="1200" spc="-1" strike="noStrike">
                    <a:solidFill>
                      <a:srgbClr val="333399"/>
                    </a:solidFill>
                    <a:latin typeface="Arial"/>
                    <a:ea typeface="ＭＳ Ｐゴシック"/>
                  </a:rPr>
                  <a:t>Imprese che investono sull’innovazione e sulla tutela dell’ambient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179280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Arial"/>
                    <a:ea typeface="ＭＳ Ｐゴシック"/>
                  </a:rPr>
                  <a:t>-Associazioni di impres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179280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Arial"/>
                    <a:ea typeface="ＭＳ Ｐゴシック"/>
                  </a:rPr>
                  <a:t>-Cittadin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379560" y="1862280"/>
                <a:ext cx="2998440" cy="25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marL="185760" indent="-185760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6" name=""/>
              <p:cNvGrpSpPr/>
              <p:nvPr/>
            </p:nvGrpSpPr>
            <p:grpSpPr>
              <a:xfrm>
                <a:off x="597600" y="1811880"/>
                <a:ext cx="8780040" cy="1282320"/>
                <a:chOff x="597600" y="1811880"/>
                <a:chExt cx="8780040" cy="128232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3126960" y="1811880"/>
                  <a:ext cx="0" cy="1278360"/>
                </a:xfrm>
                <a:prstGeom prst="line">
                  <a:avLst/>
                </a:prstGeom>
                <a:ln w="1260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71320" rIns="701280" tIns="68544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6334560" y="1811880"/>
                  <a:ext cx="0" cy="1278360"/>
                </a:xfrm>
                <a:prstGeom prst="line">
                  <a:avLst/>
                </a:prstGeom>
                <a:ln w="1260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71320" rIns="701280" tIns="68544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97600" y="3094200"/>
                  <a:ext cx="2471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71320" rIns="701280" tIns="-46800" bIns="-685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189960" y="3094200"/>
                  <a:ext cx="3074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71320" rIns="701280" tIns="-46800" bIns="-685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6397200" y="3094200"/>
                  <a:ext cx="2980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71320" rIns="701280" tIns="-46800" bIns="-685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596160" y="3148200"/>
                <a:ext cx="8780040" cy="1374480"/>
                <a:chOff x="596160" y="3148200"/>
                <a:chExt cx="8780040" cy="137448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3125520" y="3148200"/>
                  <a:ext cx="0" cy="1370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71320" rIns="701280" tIns="68544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333120" y="3148200"/>
                  <a:ext cx="0" cy="1370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71320" rIns="701280" tIns="68544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96160" y="4522680"/>
                  <a:ext cx="2471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71320" rIns="701280" tIns="-46800" bIns="-685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3188520" y="4522680"/>
                  <a:ext cx="3074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71320" rIns="701280" tIns="-46800" bIns="-685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395760" y="4522680"/>
                  <a:ext cx="2980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71320" rIns="701280" tIns="-46800" bIns="-685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8" name=""/>
              <p:cNvSpPr/>
              <p:nvPr/>
            </p:nvSpPr>
            <p:spPr>
              <a:xfrm>
                <a:off x="610200" y="3107520"/>
                <a:ext cx="2401560" cy="197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marL="185760" indent="-185760">
                  <a:lnSpc>
                    <a:spcPct val="85000"/>
                  </a:lnSpc>
                  <a:spcBef>
                    <a:spcPts val="751"/>
                  </a:spcBef>
                  <a:buClr>
                    <a:srgbClr val="333399"/>
                  </a:buClr>
                  <a:buFont typeface="Trebuchet M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99"/>
                    </a:solidFill>
                    <a:latin typeface="Trebuchet MS"/>
                  </a:rPr>
                  <a:t>DEFINIZIONE CATEGORIE OMOGENEE DI COS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85760" indent="-185760">
                  <a:lnSpc>
                    <a:spcPct val="85000"/>
                  </a:lnSpc>
                  <a:spcBef>
                    <a:spcPts val="751"/>
                  </a:spcBef>
                  <a:buClr>
                    <a:srgbClr val="333399"/>
                  </a:buClr>
                  <a:buFont typeface="Trebuchet M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99"/>
                    </a:solidFill>
                    <a:latin typeface="Trebuchet MS"/>
                  </a:rPr>
                  <a:t>INDIVIDUAZIONE CATEGORIE DI ACQUISTO VERD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85760" indent="-185760">
                  <a:lnSpc>
                    <a:spcPct val="85000"/>
                  </a:lnSpc>
                  <a:spcBef>
                    <a:spcPts val="751"/>
                  </a:spcBef>
                  <a:buClr>
                    <a:srgbClr val="333399"/>
                  </a:buClr>
                  <a:buFont typeface="Trebuchet M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99"/>
                    </a:solidFill>
                    <a:latin typeface="Trebuchet MS"/>
                  </a:rPr>
                  <a:t>PIANIFICAZIONE ACQUISTI VERD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85760" indent="-185760">
                  <a:lnSpc>
                    <a:spcPct val="85000"/>
                  </a:lnSpc>
                  <a:spcBef>
                    <a:spcPts val="751"/>
                  </a:spcBef>
                  <a:buClr>
                    <a:srgbClr val="333399"/>
                  </a:buClr>
                  <a:buFont typeface="Trebuchet M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85760" indent="-185760">
                  <a:lnSpc>
                    <a:spcPct val="85000"/>
                  </a:lnSpc>
                  <a:spcBef>
                    <a:spcPts val="751"/>
                  </a:spcBef>
                  <a:buClr>
                    <a:srgbClr val="333399"/>
                  </a:buClr>
                  <a:buFont typeface="Trebuchet M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198960" y="3109320"/>
                <a:ext cx="3133440" cy="163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marL="185760" indent="-185760">
                  <a:lnSpc>
                    <a:spcPct val="90000"/>
                  </a:lnSpc>
                  <a:spcBef>
                    <a:spcPts val="4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333399"/>
                    </a:solidFill>
                    <a:latin typeface="Trebuchet MS"/>
                  </a:rPr>
                  <a:t>COMUNICAZIONE OBIETTIVI STRATEGICI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85760" indent="-185760">
                  <a:lnSpc>
                    <a:spcPct val="90000"/>
                  </a:lnSpc>
                  <a:spcBef>
                    <a:spcPts val="4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333399"/>
                    </a:solidFill>
                    <a:latin typeface="Trebuchet MS"/>
                  </a:rPr>
                  <a:t>DI PROGETTO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85760" indent="-185760">
                  <a:lnSpc>
                    <a:spcPct val="90000"/>
                  </a:lnSpc>
                  <a:spcBef>
                    <a:spcPts val="4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333399"/>
                    </a:solidFill>
                    <a:latin typeface="Trebuchet MS"/>
                  </a:rPr>
                  <a:t>DEFINIZIONE PIANO DI PROGETTO E TEMPISTICH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85760" indent="-185760">
                  <a:lnSpc>
                    <a:spcPct val="90000"/>
                  </a:lnSpc>
                  <a:spcBef>
                    <a:spcPts val="4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85760" indent="-185760">
                  <a:lnSpc>
                    <a:spcPct val="90000"/>
                  </a:lnSpc>
                  <a:spcBef>
                    <a:spcPts val="488"/>
                  </a:spcBef>
                  <a:buClr>
                    <a:srgbClr val="333399"/>
                  </a:buClr>
                  <a:buFont typeface="Trebuchet M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379560" y="3109320"/>
                <a:ext cx="2998440" cy="160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marL="185760" indent="-18576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rebuchet MS"/>
                  </a:rPr>
                  <a:t>- </a:t>
                </a:r>
                <a:r>
                  <a:rPr b="0" lang="en-US" sz="1300" spc="-1" strike="noStrike">
                    <a:solidFill>
                      <a:srgbClr val="333399"/>
                    </a:solidFill>
                    <a:latin typeface="Trebuchet MS"/>
                  </a:rPr>
                  <a:t>SUPPORTO DEFINIZIONE CATEGORIE OMOGENEE DI COSTO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85760" indent="-18576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333399"/>
                    </a:solidFill>
                    <a:latin typeface="Trebuchet MS"/>
                  </a:rPr>
                  <a:t>-SUPPORTO INDIVIDUAZIONE CATEGORIE DI ACQUISTO VERDI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85760" indent="-18576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333399"/>
                    </a:solidFill>
                    <a:latin typeface="Trebuchet MS"/>
                  </a:rPr>
                  <a:t>- SUPPORTO PIANIFICAZIONE ACQUISTI VERDI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85760" indent="-185760">
                  <a:lnSpc>
                    <a:spcPct val="85000"/>
                  </a:lnSpc>
                  <a:spcBef>
                    <a:spcPts val="814"/>
                  </a:spcBef>
                  <a:buClr>
                    <a:srgbClr val="333399"/>
                  </a:buClr>
                  <a:buFont typeface="Trebuchet M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596160" y="4652640"/>
                <a:ext cx="8780040" cy="969480"/>
                <a:chOff x="596160" y="4652640"/>
                <a:chExt cx="8780040" cy="96948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3125520" y="4652640"/>
                  <a:ext cx="0" cy="966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71320" rIns="701280" tIns="68544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6333120" y="4652640"/>
                  <a:ext cx="0" cy="966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71320" rIns="701280" tIns="68544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596160" y="5622120"/>
                  <a:ext cx="2471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71320" rIns="701280" tIns="-46800" bIns="-685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3188520" y="5622120"/>
                  <a:ext cx="3074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71320" rIns="701280" tIns="-46800" bIns="-685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6395760" y="5622120"/>
                  <a:ext cx="2980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71320" rIns="701280" tIns="-46800" bIns="-685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7" name=""/>
              <p:cNvSpPr/>
              <p:nvPr/>
            </p:nvSpPr>
            <p:spPr>
              <a:xfrm>
                <a:off x="610200" y="4565160"/>
                <a:ext cx="2401560" cy="121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marL="185760" indent="-185760">
                  <a:lnSpc>
                    <a:spcPct val="85000"/>
                  </a:lnSpc>
                  <a:spcBef>
                    <a:spcPts val="751"/>
                  </a:spcBef>
                  <a:buClr>
                    <a:srgbClr val="333399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Trebuchet MS"/>
                  </a:rPr>
                  <a:t>PARTECIPAZIONE CORSI DI FORMAZIONE SU CONVENZIONI CONSIP E MERCATO ELETTRONIC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85760" indent="-185760">
                  <a:lnSpc>
                    <a:spcPct val="85000"/>
                  </a:lnSpc>
                  <a:spcBef>
                    <a:spcPts val="751"/>
                  </a:spcBef>
                  <a:buClr>
                    <a:srgbClr val="333399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Trebuchet MS"/>
                  </a:rPr>
                  <a:t>FORMAZIONE GP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85760" indent="-185760">
                  <a:lnSpc>
                    <a:spcPct val="85000"/>
                  </a:lnSpc>
                  <a:spcBef>
                    <a:spcPts val="751"/>
                  </a:spcBef>
                  <a:buClr>
                    <a:srgbClr val="333399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198960" y="4565160"/>
                <a:ext cx="3133440" cy="25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marL="185760" indent="-185760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79560" y="4561920"/>
                <a:ext cx="299844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marL="185760" indent="-185760">
                  <a:lnSpc>
                    <a:spcPct val="90000"/>
                  </a:lnSpc>
                  <a:spcBef>
                    <a:spcPts val="451"/>
                  </a:spcBef>
                  <a:buClr>
                    <a:srgbClr val="333399"/>
                  </a:buClr>
                  <a:buFont typeface="Trebuchet M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Trebuchet MS"/>
                  </a:rPr>
                  <a:t>EROGAZIONE CORSI DI FORMAZIONE PERSONALE E IMPRES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10200" y="5669280"/>
                <a:ext cx="240156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marL="185760" indent="-185760">
                  <a:lnSpc>
                    <a:spcPct val="85000"/>
                  </a:lnSpc>
                  <a:spcBef>
                    <a:spcPts val="1001"/>
                  </a:spcBef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198960" y="5669280"/>
                <a:ext cx="313344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marL="185760" indent="-185760">
                  <a:lnSpc>
                    <a:spcPct val="90000"/>
                  </a:lnSpc>
                  <a:spcBef>
                    <a:spcPts val="488"/>
                  </a:spcBef>
                  <a:buClr>
                    <a:srgbClr val="000000"/>
                  </a:buClr>
                  <a:buFont typeface="Trebuchet M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379560" y="5667480"/>
                <a:ext cx="299844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marL="185760" indent="-185760">
                  <a:lnSpc>
                    <a:spcPct val="90000"/>
                  </a:lnSpc>
                  <a:spcBef>
                    <a:spcPts val="4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125160" y="5706360"/>
                <a:ext cx="0" cy="825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71320" rIns="701280" tIns="68544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332760" y="5706360"/>
                <a:ext cx="0" cy="825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71320" rIns="701280" tIns="68544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96160" y="6533280"/>
                <a:ext cx="2471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71320" rIns="701280" tIns="-46800" bIns="-685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188160" y="6533280"/>
                <a:ext cx="307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71320" rIns="701280" tIns="-46800" bIns="-685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395400" y="6533280"/>
                <a:ext cx="2980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71320" rIns="701280" tIns="-46800" bIns="-685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560520" y="1454040"/>
              <a:ext cx="8927640" cy="515736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440" bIns="46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1187280" y="826920"/>
            <a:ext cx="825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337b"/>
                </a:solidFill>
                <a:latin typeface="Trebuchet MS"/>
              </a:rPr>
              <a:t>Gli sviluppi del Piano G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6160" y="1773360"/>
            <a:ext cx="2448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ANALISI DEL FABBISOG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Coinvolgimento Ragioneria centr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Analisi dei co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Classificazione della spe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Definizione obietti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60520" y="5742000"/>
            <a:ext cx="2490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- </a:t>
            </a:r>
            <a:r>
              <a:rPr b="0" lang="en-US" sz="1200" spc="-1" strike="noStrike">
                <a:solidFill>
                  <a:srgbClr val="333399"/>
                </a:solidFill>
                <a:latin typeface="Trebuchet MS"/>
              </a:rPr>
              <a:t>MONITORAGGIO E VERIF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rebuchet MS"/>
              </a:rPr>
              <a:t>  </a:t>
            </a:r>
            <a:r>
              <a:rPr b="0" lang="en-US" sz="1200" spc="-1" strike="noStrike">
                <a:solidFill>
                  <a:srgbClr val="333399"/>
                </a:solidFill>
                <a:latin typeface="Trebuchet MS"/>
              </a:rPr>
              <a:t>RAGGIUNGIMENTO OBIETTI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rebuchet MS"/>
              </a:rPr>
              <a:t>- COMUNICAZIONE RISULTA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152880" y="4508640"/>
            <a:ext cx="3168720" cy="12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Trebuchet MS"/>
              </a:rPr>
              <a:t>PARTECIPAZIONE FORMAZIONE SU GP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Trebuchet MS"/>
              </a:rPr>
              <a:t>PARTECIPAZIONE FORMAZIONE SU MKP CONSI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14"/>
              </a:spcBef>
              <a:buClr>
                <a:srgbClr val="333399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398760" y="5805360"/>
            <a:ext cx="2490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- </a:t>
            </a:r>
            <a:r>
              <a:rPr b="0" lang="en-US" sz="1200" spc="-1" strike="noStrike">
                <a:solidFill>
                  <a:srgbClr val="333399"/>
                </a:solidFill>
                <a:latin typeface="Trebuchet MS"/>
              </a:rPr>
              <a:t>MONITORAGGIO E VERIF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rebuchet MS"/>
              </a:rPr>
              <a:t>  </a:t>
            </a:r>
            <a:r>
              <a:rPr b="0" lang="en-US" sz="1200" spc="-1" strike="noStrike">
                <a:solidFill>
                  <a:srgbClr val="333399"/>
                </a:solidFill>
                <a:latin typeface="Trebuchet MS"/>
              </a:rPr>
              <a:t>RAGGIUNGIMENTO OBIETTI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rebuchet MS"/>
              </a:rPr>
              <a:t>- COMUNICAZIONE RISULTA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321600" y="1844640"/>
            <a:ext cx="3095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ANALISI DEL FABBISOG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Supporto finale analisi dei co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Supporto finale classificazione della spe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Definizione obietti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638760" y="5734080"/>
            <a:ext cx="2490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- </a:t>
            </a:r>
            <a:r>
              <a:rPr b="0" lang="en-US" sz="1200" spc="-1" strike="noStrike">
                <a:solidFill>
                  <a:srgbClr val="333399"/>
                </a:solidFill>
                <a:latin typeface="Trebuchet MS"/>
              </a:rPr>
              <a:t>SUPPORTO MONITORAGGIO E VERIFICA  RAGGIUNGIMENTO OBIETTI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rebuchet MS"/>
              </a:rPr>
              <a:t>- COMUNICAZIONE RISULTA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3626A-12E8-4D25-B4A3-543B99761F3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08160" y="80316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Analisi dei fabbisogni</a:t>
            </a:r>
            <a:endParaRPr b="0" lang="en-US" sz="28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064880" y="1628640"/>
            <a:ext cx="80773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Analisi mandati di pagamento  e dati di spesa dell’ent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Ricostruzione alberatura di classificazione dati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Definizione possibilità di inserimento criteri ambientali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Definizione percentuale acquisti effettuabili tramite Consip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Definizione target annuale e previsione triennal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5B36A-82FC-4247-A4C2-6C42114BA81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920880" y="765000"/>
          <a:ext cx="7980120" cy="583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0880" y="765000"/>
                    <a:ext cx="7980120" cy="583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2254320" y="235080"/>
            <a:ext cx="398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empio classificazione d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96C5D-770A-41B0-9830-7CA75823DDF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11:20:28Z</dcterms:created>
  <dc:creator>mnd</dc:creator>
  <dc:description/>
  <dc:language>en-US</dc:language>
  <cp:lastModifiedBy> </cp:lastModifiedBy>
  <cp:lastPrinted>2006-09-12T16:34:06Z</cp:lastPrinted>
  <dcterms:modified xsi:type="dcterms:W3CDTF">2008-06-24T12:33:33Z</dcterms:modified>
  <cp:revision>609</cp:revision>
  <dc:subject/>
  <dc:title>Il mercato elettronico della P.A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017874</vt:r8>
  </property>
  <property fmtid="{D5CDD505-2E9C-101B-9397-08002B2CF9AE}" pid="3" name="_AuthorEmail">
    <vt:lpwstr>katia.petrocelli@tesoro.it</vt:lpwstr>
  </property>
  <property fmtid="{D5CDD505-2E9C-101B-9397-08002B2CF9AE}" pid="4" name="_AuthorEmailDisplayName">
    <vt:lpwstr>Petrocelli Katia</vt:lpwstr>
  </property>
  <property fmtid="{D5CDD505-2E9C-101B-9397-08002B2CF9AE}" pid="5" name="_EmailSubject">
    <vt:lpwstr>bozza presentazione per il 4 aprile</vt:lpwstr>
  </property>
  <property fmtid="{D5CDD505-2E9C-101B-9397-08002B2CF9AE}" pid="6" name="_ReviewingToolsShownOnce">
    <vt:lpwstr/>
  </property>
</Properties>
</file>