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3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30.wmf" ContentType="image/x-wmf"/>
  <Override PartName="/ppt/media/image13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907588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2"/>
          </p:nvPr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704880" y="739440"/>
            <a:ext cx="53467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3"/>
          </p:nvPr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4"/>
          </p:nvPr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FA8C-F266-429E-95E3-3DA9DFB2CBB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72B4-516D-4AE4-AEE6-5761A935BC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26F9-AE3C-44C3-8263-17DE5B215B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892080" y="860400"/>
            <a:ext cx="4996080" cy="346068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01800" y="4700520"/>
            <a:ext cx="49528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AF7F-C461-43DC-86F0-65D7DCABC2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70812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A8EA-6C5B-4F1B-B5FA-6476A71514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-1527120" y="2336760"/>
            <a:ext cx="10497960" cy="72691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1309320" y="1149480"/>
            <a:ext cx="48085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467E-F29D-4CF9-B61C-FD3154E398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EE01-9449-42DC-B1D2-33E57CCB74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BE9-DB01-465F-99F2-C8757DB248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1BAA-03E5-4FF4-9F53-32874457C3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DDF6-89DD-4911-A166-994CD34D3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4849-78C6-4BAD-B2E0-697C2D6F8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547A-A208-4633-9CB0-585E9A1DA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BACD-37AD-45F8-9BC9-09680341B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A96C-FCE2-4088-82B8-EFAF10689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7898-EF9D-4C7D-BF3F-5E5F070A9D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5C01-79AB-46C9-B611-BAB1984DC7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3DAF-C311-4C39-B720-41093D05D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004B-02FE-4C4A-873F-C6120C758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0D93-36B3-4C15-8BEC-A878ECD07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D89E-EDCB-4000-913E-C2FED5B4A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6154-241C-491C-8BEE-1E5133DB2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447560" y="6324120"/>
            <a:ext cx="61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DA6B-3CC8-48F6-8DEF-71EDAC89ECCB}" type="slidenum">
              <a:rPr b="0" lang="en-US" sz="1200" spc="-1" strike="noStrike">
                <a:solidFill>
                  <a:srgbClr val="0b337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AVORI%20IN%20CORSO:Consip:PPT:17_11_06:mef%203%20righe" descr=""/>
          <p:cNvPicPr/>
          <p:nvPr/>
        </p:nvPicPr>
        <p:blipFill>
          <a:blip r:embed="rId2"/>
          <a:stretch/>
        </p:blipFill>
        <p:spPr>
          <a:xfrm>
            <a:off x="7848720" y="193680"/>
            <a:ext cx="1676160" cy="568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09480" y="228600"/>
            <a:ext cx="1752840" cy="5508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438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1065240" y="4343400"/>
            <a:ext cx="48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Verdana"/>
              </a:rPr>
              <a:t>Isabella Rapis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LAVORI%20IN%20CORSO:Consip:PPT:17_11_06:mef%203%20righe" descr=""/>
          <p:cNvPicPr/>
          <p:nvPr/>
        </p:nvPicPr>
        <p:blipFill>
          <a:blip r:embed="rId3"/>
          <a:stretch/>
        </p:blipFill>
        <p:spPr>
          <a:xfrm>
            <a:off x="609480" y="317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8120" y="5994360"/>
            <a:ext cx="202248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LAVORI%20IN%20CORSO:Consip:mef%202%20righe" descr=""/>
          <p:cNvPicPr/>
          <p:nvPr/>
        </p:nvPicPr>
        <p:blipFill>
          <a:blip r:embed="rId2"/>
          <a:srcRect l="0" t="0" r="-3555" b="0"/>
          <a:stretch/>
        </p:blipFill>
        <p:spPr>
          <a:xfrm>
            <a:off x="7696080" y="193680"/>
            <a:ext cx="1905120" cy="520560"/>
          </a:xfrm>
          <a:prstGeom prst="rect">
            <a:avLst/>
          </a:prstGeom>
          <a:ln w="0">
            <a:noFill/>
          </a:ln>
        </p:spPr>
      </p:pic>
      <p:pic>
        <p:nvPicPr>
          <p:cNvPr id="86" name="LAVORI%20IN%20CORSO:Consip:PPT:marchio" descr=""/>
          <p:cNvPicPr/>
          <p:nvPr/>
        </p:nvPicPr>
        <p:blipFill>
          <a:blip r:embed="rId3"/>
          <a:stretch/>
        </p:blipFill>
        <p:spPr>
          <a:xfrm>
            <a:off x="304920" y="174600"/>
            <a:ext cx="876240" cy="739800"/>
          </a:xfrm>
          <a:prstGeom prst="rect">
            <a:avLst/>
          </a:prstGeom>
          <a:ln w="0">
            <a:noFill/>
          </a:ln>
        </p:spPr>
      </p:pic>
      <p:pic>
        <p:nvPicPr>
          <p:cNvPr id="87" name="LAVORI%20IN%20CORSO:Consip:flash01" descr=""/>
          <p:cNvPicPr/>
          <p:nvPr/>
        </p:nvPicPr>
        <p:blipFill>
          <a:blip r:embed="rId4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2440" indent="-82440">
              <a:spcBef>
                <a:spcPts val="150"/>
              </a:spcBef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lvl="1" marL="358920" indent="-96840">
              <a:spcBef>
                <a:spcPts val="15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lvl="2" marL="1233360" indent="-228600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41600" indent="-22860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5349960"/>
            <a:ext cx="668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Università di Tor Vergata – Roma, 31 marzo 2006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Le opinioni espresse in questa presentazione sono personali. In particolare non riflettono necessariamente quelle della Consip, né del Ministero dell’Economia e delle Finan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LAVORI%20IN%20CORSO:Consip:PPT:marchio" descr=""/>
          <p:cNvPicPr/>
          <p:nvPr/>
        </p:nvPicPr>
        <p:blipFill>
          <a:blip r:embed="rId3"/>
          <a:stretch/>
        </p:blipFill>
        <p:spPr>
          <a:xfrm>
            <a:off x="533520" y="5791320"/>
            <a:ext cx="1066680" cy="900000"/>
          </a:xfrm>
          <a:prstGeom prst="rect">
            <a:avLst/>
          </a:prstGeom>
          <a:ln w="0">
            <a:noFill/>
          </a:ln>
        </p:spPr>
      </p:pic>
      <p:pic>
        <p:nvPicPr>
          <p:cNvPr id="130" name="LAVORI%20IN%20CORSO:Consip:PPT:mef%202%20righe" descr=""/>
          <p:cNvPicPr/>
          <p:nvPr/>
        </p:nvPicPr>
        <p:blipFill>
          <a:blip r:embed="rId4"/>
          <a:srcRect l="36615" t="0" r="0" b="24468"/>
          <a:stretch/>
        </p:blipFill>
        <p:spPr>
          <a:xfrm>
            <a:off x="609480" y="331920"/>
            <a:ext cx="2590920" cy="81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6668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Le iniziative Consip 2008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776160" y="1795320"/>
            <a:ext cx="7640640" cy="3794040"/>
            <a:chOff x="776160" y="1795320"/>
            <a:chExt cx="7640640" cy="3794040"/>
          </a:xfrm>
        </p:grpSpPr>
        <p:sp>
          <p:nvSpPr>
            <p:cNvPr id="473" name=""/>
            <p:cNvSpPr/>
            <p:nvPr/>
          </p:nvSpPr>
          <p:spPr>
            <a:xfrm>
              <a:off x="6345000" y="3702240"/>
              <a:ext cx="2071800" cy="48204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32320" y="3702240"/>
              <a:ext cx="1912680" cy="48204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veic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6160" y="3702240"/>
              <a:ext cx="3656160" cy="48204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utovetture in acquist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45000" y="4184640"/>
              <a:ext cx="2071800" cy="468000"/>
            </a:xfrm>
            <a:prstGeom prst="rect">
              <a:avLst/>
            </a:prstGeom>
            <a:solidFill>
              <a:srgbClr val="e7e8e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32320" y="4184640"/>
              <a:ext cx="1912680" cy="468000"/>
            </a:xfrm>
            <a:prstGeom prst="rect">
              <a:avLst/>
            </a:prstGeom>
            <a:solidFill>
              <a:srgbClr val="e7e8e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Cancelleria ad uso ufficio e didat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6160" y="4184640"/>
              <a:ext cx="3656160" cy="468000"/>
            </a:xfrm>
            <a:prstGeom prst="rect">
              <a:avLst/>
            </a:prstGeom>
            <a:solidFill>
              <a:srgbClr val="e7e8e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ta in rism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45000" y="3234240"/>
              <a:ext cx="207180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2320" y="3234240"/>
              <a:ext cx="191268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veic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76160" y="3234240"/>
              <a:ext cx="365616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utoveicoli in noleggio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345000" y="2711880"/>
              <a:ext cx="2071800" cy="5223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32320" y="2711880"/>
              <a:ext cx="1912680" cy="5223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rredi e complementi di arre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6160" y="2711880"/>
              <a:ext cx="3656160" cy="5223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rredi didattici e per uffici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45000" y="4652640"/>
              <a:ext cx="207180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32320" y="4652640"/>
              <a:ext cx="191268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dumenti ed access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6160" y="4652640"/>
              <a:ext cx="365616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dumenti e accessori da lavoro gener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45000" y="2248920"/>
              <a:ext cx="2071800" cy="462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32320" y="2248920"/>
              <a:ext cx="1912680" cy="462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rebuchet MS"/>
                </a:rPr>
                <a:t>Elettronica, fotografia, ottica e audiovid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6160" y="2248920"/>
              <a:ext cx="3656160" cy="462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Videocomunicazion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45000" y="5120640"/>
              <a:ext cx="2071800" cy="46836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2320" y="5120640"/>
              <a:ext cx="1912680" cy="46836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limenti e ristor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6160" y="5120640"/>
              <a:ext cx="3656160" cy="46836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Buoni pasto 4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45000" y="1795320"/>
              <a:ext cx="2071800" cy="453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32320" y="1795320"/>
              <a:ext cx="1912680" cy="453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veic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6160" y="1795320"/>
              <a:ext cx="3656160" cy="453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cuolab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6160" y="22489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6160" y="271188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6160" y="51206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6160" y="55893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6160" y="17953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3232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4500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6160" y="32342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616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616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3232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3232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4500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4500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1680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1680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616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1680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6160" y="37022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6160" y="46526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6160" y="41846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345360" y="1477800"/>
            <a:ext cx="2071440" cy="312840"/>
          </a:xfrm>
          <a:prstGeom prst="rect">
            <a:avLst/>
          </a:prstGeom>
          <a:solidFill>
            <a:srgbClr val="0b337b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S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32320" y="1477800"/>
            <a:ext cx="1913040" cy="312840"/>
          </a:xfrm>
          <a:prstGeom prst="rect">
            <a:avLst/>
          </a:prstGeom>
          <a:solidFill>
            <a:srgbClr val="0b337b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CATEGORIA MERCEOLOG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6160" y="1477800"/>
            <a:ext cx="3656160" cy="312840"/>
          </a:xfrm>
          <a:prstGeom prst="rect">
            <a:avLst/>
          </a:prstGeom>
          <a:solidFill>
            <a:srgbClr val="0b337b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INIZI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624880" y="2001960"/>
            <a:ext cx="100800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rea Be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e Servizi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5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D79E-6687-49EB-B2A6-06B08E5231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8696160" y="1920960"/>
            <a:ext cx="12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rea San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920880" y="1268280"/>
            <a:ext cx="7643520" cy="4462560"/>
            <a:chOff x="920880" y="1268280"/>
            <a:chExt cx="7643520" cy="4462560"/>
          </a:xfrm>
        </p:grpSpPr>
        <p:sp>
          <p:nvSpPr>
            <p:cNvPr id="526" name=""/>
            <p:cNvSpPr/>
            <p:nvPr/>
          </p:nvSpPr>
          <p:spPr>
            <a:xfrm>
              <a:off x="6251400" y="4871880"/>
              <a:ext cx="2312640" cy="428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38640" y="4871880"/>
              <a:ext cx="2012400" cy="428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</a:t>
              </a: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immobi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0880" y="4871880"/>
              <a:ext cx="3317760" cy="428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Sistema integrato di servizi per la gestione e conduzione impianti tecnologici in San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51400" y="5300640"/>
              <a:ext cx="2312640" cy="430200"/>
            </a:xfrm>
            <a:prstGeom prst="rect">
              <a:avLst/>
            </a:prstGeom>
            <a:solidFill>
              <a:srgbClr val="e7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38640" y="5300640"/>
              <a:ext cx="2012400" cy="430200"/>
            </a:xfrm>
            <a:prstGeom prst="rect">
              <a:avLst/>
            </a:prstGeom>
            <a:solidFill>
              <a:srgbClr val="e7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</a:t>
              </a: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immobi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20880" y="5300640"/>
              <a:ext cx="3317760" cy="430200"/>
            </a:xfrm>
            <a:prstGeom prst="rect">
              <a:avLst/>
            </a:prstGeom>
            <a:solidFill>
              <a:srgbClr val="e7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o di gestione integrata della sicurezza sui luoghi di lavoro 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51400" y="4441680"/>
              <a:ext cx="2312640" cy="430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8640" y="4441680"/>
              <a:ext cx="2012400" cy="430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20880" y="4441680"/>
              <a:ext cx="3317760" cy="430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bura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51400" y="1268280"/>
              <a:ext cx="2312640" cy="3859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38640" y="1268280"/>
              <a:ext cx="2012400" cy="3859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TI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20880" y="1268280"/>
              <a:ext cx="3317760" cy="3859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51400" y="2519280"/>
              <a:ext cx="2312640" cy="528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38640" y="2519280"/>
              <a:ext cx="2012400" cy="528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7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tecnico sanita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20880" y="2519280"/>
              <a:ext cx="3317760" cy="528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usili ad assorbenza per incontinenti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51400" y="4003560"/>
              <a:ext cx="231264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38640" y="4003560"/>
              <a:ext cx="201240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20880" y="4003560"/>
              <a:ext cx="331776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rre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51400" y="3578040"/>
              <a:ext cx="2312640" cy="425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38640" y="3578040"/>
              <a:ext cx="2012400" cy="425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2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e impianti sa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20880" y="3578040"/>
              <a:ext cx="3317760" cy="425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Ecotomografi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51400" y="3047760"/>
              <a:ext cx="231264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38640" y="3047760"/>
              <a:ext cx="201240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9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tecnico sanita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20880" y="3047760"/>
              <a:ext cx="331776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himica clinic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1400" y="2081160"/>
              <a:ext cx="231264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38640" y="2081160"/>
              <a:ext cx="201240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9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e impianti sa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20880" y="2081160"/>
              <a:ext cx="331776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0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pparecchiature elettromedicali per il monitoraggi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51400" y="1654200"/>
              <a:ext cx="2312640" cy="426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38640" y="1654200"/>
              <a:ext cx="2012400" cy="426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9000"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Macchine, apparecchiature tecniche  sanitari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20880" y="1654200"/>
              <a:ext cx="3317760" cy="426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Service diali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20880" y="1268280"/>
              <a:ext cx="764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20880" y="208116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0880" y="2519280"/>
              <a:ext cx="7643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20880" y="357804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20880" y="5730840"/>
              <a:ext cx="764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38640" y="1268280"/>
              <a:ext cx="0" cy="125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51400" y="1268280"/>
              <a:ext cx="0" cy="125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20880" y="4003560"/>
              <a:ext cx="7643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20880" y="444168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20880" y="3047760"/>
              <a:ext cx="7643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0880" y="2519280"/>
              <a:ext cx="0" cy="528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38640" y="2519280"/>
              <a:ext cx="0" cy="528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38640" y="3047760"/>
              <a:ext cx="0" cy="26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51400" y="2519280"/>
              <a:ext cx="0" cy="528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51400" y="3047760"/>
              <a:ext cx="0" cy="26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20880" y="165420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20880" y="487188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20880" y="444168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564400" y="444168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20880" y="3047760"/>
              <a:ext cx="0" cy="1393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20880" y="4871880"/>
              <a:ext cx="0" cy="858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564400" y="4871880"/>
              <a:ext cx="0" cy="858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20880" y="1268280"/>
              <a:ext cx="0" cy="125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64400" y="1268280"/>
              <a:ext cx="0" cy="3173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20880" y="530064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6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7C8C-1057-4F7A-89DD-2B67DDD296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34120"/>
            <a:ext cx="99061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4016520" y="2876760"/>
            <a:ext cx="1954080" cy="1768680"/>
            <a:chOff x="4016520" y="2876760"/>
            <a:chExt cx="1954080" cy="1768680"/>
          </a:xfrm>
        </p:grpSpPr>
        <p:sp>
          <p:nvSpPr>
            <p:cNvPr id="584" name=""/>
            <p:cNvSpPr/>
            <p:nvPr/>
          </p:nvSpPr>
          <p:spPr>
            <a:xfrm rot="16200000">
              <a:off x="4363200" y="2967480"/>
              <a:ext cx="1614600" cy="1600200"/>
            </a:xfrm>
            <a:prstGeom prst="blockArc">
              <a:avLst>
                <a:gd name="adj1" fmla="val 11170645"/>
                <a:gd name="adj2" fmla="val 21229355"/>
                <a:gd name="adj3" fmla="val 20486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25000">
              <a:off x="4250880" y="2992320"/>
              <a:ext cx="503280" cy="287640"/>
            </a:xfrm>
            <a:prstGeom prst="leftArrow">
              <a:avLst>
                <a:gd name="adj1" fmla="val 50278"/>
                <a:gd name="adj2" fmla="val 62373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6520" y="3638520"/>
              <a:ext cx="503280" cy="287280"/>
            </a:xfrm>
            <a:prstGeom prst="leftArrow">
              <a:avLst>
                <a:gd name="adj1" fmla="val 50278"/>
                <a:gd name="adj2" fmla="val 62451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9048200">
              <a:off x="4221000" y="4225680"/>
              <a:ext cx="503280" cy="287280"/>
            </a:xfrm>
            <a:prstGeom prst="leftArrow">
              <a:avLst>
                <a:gd name="adj1" fmla="val 50278"/>
                <a:gd name="adj2" fmla="val 62451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352520" y="1844640"/>
            <a:ext cx="3238560" cy="311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lin ang="10800000"/>
          </a:gradFill>
          <a:ln w="3240">
            <a:solidFill>
              <a:srgbClr val="00b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NIZIATIVE AT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32520" y="1844640"/>
            <a:ext cx="3238560" cy="311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0800000"/>
          </a:gra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NIZIATIVE IN FASE DI 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359000" y="2349360"/>
            <a:ext cx="215892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11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 IN CONVEN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06520" y="2689200"/>
            <a:ext cx="27367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Biodiesel da riscald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rburante Extra r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rburante rete (buoni carburan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Energia elett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Gasolio da riscald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o Integrato Energ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o Lu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Facility Management Uff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Integrati di Sicurezza 6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tasto Strad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upporto alla gestione dei contratti di Facility Management Uff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15040" y="2349360"/>
            <a:ext cx="21592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8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IN CONVEN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753240" y="2701800"/>
            <a:ext cx="244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Impianti di Cogenerazio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Impianti Fotovoltaici/ Solare Term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Facility Management viabilità e ver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Asset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Igiene Ambientale San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Integrati Logistica san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Raccolta, trasporto e smaltimento rifiuti san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Integrati Logistica Uff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115040" y="4581360"/>
            <a:ext cx="21592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3</a:t>
            </a:r>
            <a:r>
              <a:rPr b="1" lang="it-IT" sz="14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SUL MERCATO ELETTRO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53240" y="4937040"/>
            <a:ext cx="2449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Manutenzione ver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Manutenzione Impianti di Sicurez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e Impianti Antincend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411800" y="5413320"/>
            <a:ext cx="1800000" cy="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86240" y="5797440"/>
            <a:ext cx="3598920" cy="287280"/>
          </a:xfrm>
          <a:prstGeom prst="rect">
            <a:avLst/>
          </a:prstGeom>
          <a:solidFill>
            <a:srgbClr val="99cc00">
              <a:alpha val="4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INIZIATIVE IN FASE DI ATTIV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4376520" y="5433480"/>
            <a:ext cx="215640" cy="263520"/>
          </a:xfrm>
          <a:prstGeom prst="leftArrow">
            <a:avLst>
              <a:gd name="adj1" fmla="val 50287"/>
              <a:gd name="adj2" fmla="val 29329"/>
            </a:avLst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6032520" y="5402160"/>
            <a:ext cx="216000" cy="263520"/>
          </a:xfrm>
          <a:prstGeom prst="leftArrow">
            <a:avLst>
              <a:gd name="adj1" fmla="val 50287"/>
              <a:gd name="adj2" fmla="val 29329"/>
            </a:avLst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5184720" y="5416560"/>
            <a:ext cx="216000" cy="263520"/>
          </a:xfrm>
          <a:prstGeom prst="leftArrow">
            <a:avLst>
              <a:gd name="adj1" fmla="val 50287"/>
              <a:gd name="adj2" fmla="val 29329"/>
            </a:avLst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291280" y="4175280"/>
            <a:ext cx="0" cy="971280"/>
          </a:xfrm>
          <a:prstGeom prst="line">
            <a:avLst/>
          </a:prstGeom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06920" y="2011320"/>
            <a:ext cx="539640" cy="79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160960" y="2008080"/>
            <a:ext cx="0" cy="151128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405400" y="2008080"/>
            <a:ext cx="0" cy="151128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07200" y="2011320"/>
            <a:ext cx="539640" cy="792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06520" y="4954680"/>
            <a:ext cx="273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Apparecchiature di raffreddamento e ventil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teriale elett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teriale Igienico Sanita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gnaletica da interni e da ester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Igiene Ambient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e impianti Elettr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e impianti elevato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Gas Natur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352520" y="4589640"/>
            <a:ext cx="215892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8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SUL MERCATO ELETTRO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02040" y="3379680"/>
            <a:ext cx="952560" cy="792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Iniziative</a:t>
            </a:r>
            <a:br>
              <a:rPr sz="1000"/>
            </a:b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RE/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792520" y="6540480"/>
            <a:ext cx="2990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ultiservizio Sanitario Tecnolog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rburante rete (fuel car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45240" y="6546960"/>
            <a:ext cx="252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i Impianti Termo idraul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792520" y="6180120"/>
            <a:ext cx="215892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2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IN CONVEN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73600" y="6180120"/>
            <a:ext cx="21592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1</a:t>
            </a:r>
            <a:r>
              <a:rPr b="1" lang="it-IT" sz="14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SUL MERCATO ELETTRO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592520" y="2892600"/>
            <a:ext cx="1954080" cy="1768320"/>
            <a:chOff x="4592520" y="2892600"/>
            <a:chExt cx="1954080" cy="1768320"/>
          </a:xfrm>
        </p:grpSpPr>
        <p:sp>
          <p:nvSpPr>
            <p:cNvPr id="614" name=""/>
            <p:cNvSpPr/>
            <p:nvPr/>
          </p:nvSpPr>
          <p:spPr>
            <a:xfrm rot="5400000">
              <a:off x="4585320" y="2969280"/>
              <a:ext cx="1614240" cy="1600200"/>
            </a:xfrm>
            <a:prstGeom prst="blockArc">
              <a:avLst>
                <a:gd name="adj1" fmla="val 11170645"/>
                <a:gd name="adj2" fmla="val 21229355"/>
                <a:gd name="adj3" fmla="val 20486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2825000">
              <a:off x="5808600" y="4257720"/>
              <a:ext cx="503280" cy="287280"/>
            </a:xfrm>
            <a:prstGeom prst="leftArrow">
              <a:avLst>
                <a:gd name="adj1" fmla="val 50278"/>
                <a:gd name="adj2" fmla="val 62451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0800000">
              <a:off x="6043320" y="3612240"/>
              <a:ext cx="503280" cy="286920"/>
            </a:xfrm>
            <a:prstGeom prst="leftArrow">
              <a:avLst>
                <a:gd name="adj1" fmla="val 50278"/>
                <a:gd name="adj2" fmla="val 62529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8248200">
              <a:off x="5838120" y="3024720"/>
              <a:ext cx="503280" cy="286920"/>
            </a:xfrm>
            <a:prstGeom prst="leftArrow">
              <a:avLst>
                <a:gd name="adj1" fmla="val 50278"/>
                <a:gd name="adj2" fmla="val 62529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330200" y="720720"/>
            <a:ext cx="787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b337b"/>
                </a:solidFill>
                <a:latin typeface="Trebuchet MS"/>
              </a:rPr>
              <a:t>Portafoglio iniziative Real Estate / Energy (1/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52520" y="1268280"/>
            <a:ext cx="7921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Complessivamente ad oggi l’Area Real Estate/Energy gestisce 19 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</a:rPr>
              <a:t>iniziative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 attive: 11 Convenzioni e 8 Bandi attivi sul Mercato elettronico della 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52E4-92C0-488E-8B35-F7B88B4F67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352520" y="2205000"/>
            <a:ext cx="79218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18185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t">
            <a:noAutofit/>
          </a:bodyPr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FOTOVOLTAICO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Il principio di funzionamento dei dispositivi fotovoltaici si basa sulla capacità di alcuni materiali di 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convertire l'energia della radiazione solare in energia elettrica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. I principali impieghi sono l’alimentazione di edifici/utenze isolate ed i sistemi di illuminazione pubblica. Consip è impegnata supportando alcune PA nell’adozione dei nuovi dispositiv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337b"/>
                </a:solidFill>
                <a:latin typeface="Trebuchet MS"/>
              </a:rPr>
              <a:t>COGENE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Le soluzioni di Cogenerazione prevedono la 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produzione combinata di energia elettrica e termica 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in un unico impianto, mediante il recupero dell'energia termica dei gas di scarico del gruppo di generazione elettrica, la riduzione delle emissioni di gas serra e l’aumento della sicurezza e della qualità della fornitura elett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03840" y="2060640"/>
            <a:ext cx="2519280" cy="216000"/>
          </a:xfrm>
          <a:prstGeom prst="rect">
            <a:avLst/>
          </a:prstGeom>
          <a:solidFill>
            <a:srgbClr val="40458c"/>
          </a:solidFill>
          <a:ln w="9360">
            <a:solidFill>
              <a:srgbClr val="181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rebuchet MS"/>
              </a:rPr>
              <a:t>INIZI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508040" y="2421000"/>
            <a:ext cx="1349640" cy="8478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rcRect l="0" t="20788" r="0" b="0"/>
          <a:stretch/>
        </p:blipFill>
        <p:spPr>
          <a:xfrm>
            <a:off x="7639200" y="3540240"/>
            <a:ext cx="1417320" cy="846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330200" y="720720"/>
            <a:ext cx="787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b337b"/>
                </a:solidFill>
                <a:latin typeface="Trebuchet MS"/>
              </a:rPr>
              <a:t>Evoluzioni in fase di studio - Fonti rinnovabi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24160" y="3522600"/>
            <a:ext cx="6265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b337b"/>
                </a:solidFill>
                <a:latin typeface="Trebuchet MS"/>
              </a:rPr>
              <a:t>SOLARE TERM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b337b"/>
                </a:solidFill>
                <a:latin typeface="Trebuchet MS"/>
              </a:rPr>
              <a:t>La tecnologia </a:t>
            </a:r>
            <a:r>
              <a:rPr b="1" lang="it-IT" sz="1200" spc="-1" strike="noStrike">
                <a:solidFill>
                  <a:srgbClr val="0b337b"/>
                </a:solidFill>
                <a:latin typeface="Trebuchet MS"/>
              </a:rPr>
              <a:t>utilizza l'energia solare per scaldare l'acqua o l'aria </a:t>
            </a:r>
            <a:r>
              <a:rPr b="0" lang="it-IT" sz="1200" spc="-1" strike="noStrike">
                <a:solidFill>
                  <a:srgbClr val="0b337b"/>
                </a:solidFill>
                <a:latin typeface="Trebuchet MS"/>
              </a:rPr>
              <a:t>nell'utilizzo domestico e produttivo. I principali impieghi sono la produzione di acqua calda sanitaria e l’integrazione degli impianti di climatizzazione invern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1595520" y="4527720"/>
            <a:ext cx="1270080" cy="8445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352520" y="1268280"/>
            <a:ext cx="7921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Nell’ambito Energy sono allo studio alcune iniziative che, oltre a favorire l’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</a:rPr>
              <a:t>uso razionale dell’energia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, intendono anche qualificare l’utilizzo della stessa, incentivando il consumo dell’energia prodotta da fonte rinnovabile. Si sta inoltre sperimentando la possibilità d’implementare la generazione diffusa presso alcune 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352520" y="5878440"/>
            <a:ext cx="7921800" cy="646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L’ottica alla base delle iniziative citate vuole incentivare quelle </a:t>
            </a:r>
            <a:r>
              <a:rPr b="1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best practice energetiche </a:t>
            </a:r>
            <a:r>
              <a:rPr b="0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che sono anche in grado di </a:t>
            </a:r>
            <a:r>
              <a:rPr b="1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generare potenziali risparmi economici</a:t>
            </a:r>
            <a:r>
              <a:rPr b="0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555E-0CB3-449D-A1B1-86B1641F9C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60520" y="1916280"/>
            <a:ext cx="9145440" cy="20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337b"/>
                </a:solidFill>
                <a:latin typeface="Trebuchet MS"/>
              </a:rPr>
              <a:t>Strumenti di e-Procurement Consip</a:t>
            </a:r>
            <a:br>
              <a:rPr sz="3200"/>
            </a:br>
            <a:br>
              <a:rPr sz="3200"/>
            </a:br>
            <a:r>
              <a:rPr b="1" lang="it-IT" sz="2800" spc="-1" strike="noStrike">
                <a:solidFill>
                  <a:srgbClr val="0b337b"/>
                </a:solidFill>
                <a:latin typeface="Trebuchet MS"/>
              </a:rPr>
              <a:t>Incontro Consip - Assoarpa</a:t>
            </a:r>
            <a:endParaRPr b="0" lang="en-US" sz="28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 rot="5400000">
            <a:off x="2398320" y="3483000"/>
            <a:ext cx="484200" cy="56052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262698"/>
          </a:solidFill>
          <a:ln w="0">
            <a:noFill/>
          </a:ln>
          <a:effectLst>
            <a:outerShdw dist="17819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5280480" y="3490200"/>
            <a:ext cx="453960" cy="57636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262698"/>
          </a:solidFill>
          <a:ln w="0">
            <a:noFill/>
          </a:ln>
          <a:effectLst>
            <a:outerShdw dist="17819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400000">
            <a:off x="8113320" y="3498840"/>
            <a:ext cx="452520" cy="56052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262698"/>
          </a:solidFill>
          <a:ln w="0">
            <a:noFill/>
          </a:ln>
          <a:effectLst>
            <a:outerShdw dist="17819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22120" y="762120"/>
            <a:ext cx="948060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06360" y="1943280"/>
            <a:ext cx="2640240" cy="142704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  <a:effectLst>
            <a:outerShdw dist="107932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egozi Elettro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61320" y="1989000"/>
            <a:ext cx="2638440" cy="142740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  <a:effectLst>
            <a:outerShdw dist="107932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rcato Elettro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20840" y="4091040"/>
            <a:ext cx="2658960" cy="229068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93920" y="4191120"/>
            <a:ext cx="2466720" cy="197028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cquisti in convenzione (ex art. 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Standardizz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lti volumi di sp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ggregazione do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52960" y="1944720"/>
            <a:ext cx="2638440" cy="142560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  <a:effectLst>
            <a:outerShdw dist="107932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are Telema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83120" y="4078440"/>
            <a:ext cx="2717640" cy="230328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22720" y="4221000"/>
            <a:ext cx="2639880" cy="197028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Stipula di convenzioni (ex art. 26) e/o risposta a esigenze specific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1969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Beni valutabili su parametri ogg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1969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1969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Possibilità di servizio ASP verso altre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900840" y="4130640"/>
            <a:ext cx="2747880" cy="232272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50160" y="4076640"/>
            <a:ext cx="2684520" cy="221796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cquisti sotto sog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Gamma diversific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Domanda e offerta frammen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Multi prodotto 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multi forni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63520" y="692280"/>
            <a:ext cx="81108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La piattaforma di e-procurement Consi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065240" y="239760"/>
            <a:ext cx="8515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2160" y="982800"/>
            <a:ext cx="8515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Portafoglio” Strumenti di Acqui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548160" y="2817720"/>
            <a:ext cx="1836720" cy="682560"/>
            <a:chOff x="3548160" y="2817720"/>
            <a:chExt cx="1836720" cy="682560"/>
          </a:xfrm>
        </p:grpSpPr>
        <p:sp>
          <p:nvSpPr>
            <p:cNvPr id="648" name=""/>
            <p:cNvSpPr/>
            <p:nvPr/>
          </p:nvSpPr>
          <p:spPr>
            <a:xfrm>
              <a:off x="3548160" y="2817720"/>
              <a:ext cx="1836720" cy="682560"/>
            </a:xfrm>
            <a:prstGeom prst="flowChartAlternateProcess">
              <a:avLst/>
            </a:prstGeom>
            <a:solidFill>
              <a:srgbClr val="cc6666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b7c1e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06600" y="3022560"/>
              <a:ext cx="61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ME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14680" y="1530360"/>
            <a:ext cx="0" cy="3637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714680" y="5167440"/>
            <a:ext cx="7667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15800" y="5954760"/>
            <a:ext cx="914580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 algn="just">
              <a:lnSpc>
                <a:spcPct val="100000"/>
              </a:lnSpc>
              <a:spcBef>
                <a:spcPts val="1225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rebuchet MS"/>
              </a:rPr>
              <a:t>Molte adempimenti e oneri a carico della stazione appaltante sono delegati a Consip, come centrale di committenza nazion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1225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rebuchet MS"/>
              </a:rPr>
              <a:t>Un ruolo più attivo è svolto dalle amministrazioni, attraverso il Mercato Elettronico della 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65600" y="5267160"/>
            <a:ext cx="446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rebuchet MS"/>
              </a:rPr>
              <a:t>Livello di autonomia delle PP.AA. nelle scelte di acqu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197240" y="5576760"/>
            <a:ext cx="1752840" cy="306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b2b2b2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6200000">
            <a:off x="304560" y="2244600"/>
            <a:ext cx="2036880" cy="5158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6200000">
            <a:off x="643680" y="4205880"/>
            <a:ext cx="1333440" cy="5158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1243080" y="5092200"/>
            <a:ext cx="2332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rebuchet MS"/>
              </a:rPr>
              <a:t>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6160" y="1062000"/>
            <a:ext cx="111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rebuchet MS"/>
              </a:rPr>
              <a:t>Ruolo centrale committ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36880" y="3940200"/>
            <a:ext cx="1836720" cy="1006560"/>
          </a:xfrm>
          <a:prstGeom prst="flowChartAlternateProcess">
            <a:avLst/>
          </a:prstGeom>
          <a:solidFill>
            <a:srgbClr val="cc666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07600" y="45338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ven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433600" y="3978360"/>
            <a:ext cx="1081080" cy="539640"/>
            <a:chOff x="2433600" y="3978360"/>
            <a:chExt cx="1081080" cy="539640"/>
          </a:xfrm>
        </p:grpSpPr>
        <p:sp>
          <p:nvSpPr>
            <p:cNvPr id="662" name=""/>
            <p:cNvSpPr/>
            <p:nvPr/>
          </p:nvSpPr>
          <p:spPr>
            <a:xfrm>
              <a:off x="2433600" y="3978360"/>
              <a:ext cx="1081080" cy="539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98760" y="3989520"/>
              <a:ext cx="9972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AQ con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Trebuchet MS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1 forni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Trebuchet MS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cond. fis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1015920" y="3517920"/>
            <a:ext cx="588960" cy="279360"/>
            <a:chOff x="1015920" y="3517920"/>
            <a:chExt cx="588960" cy="279360"/>
          </a:xfrm>
        </p:grpSpPr>
        <p:sp>
          <p:nvSpPr>
            <p:cNvPr id="665" name=""/>
            <p:cNvSpPr/>
            <p:nvPr/>
          </p:nvSpPr>
          <p:spPr>
            <a:xfrm rot="16200000">
              <a:off x="1262880" y="3455280"/>
              <a:ext cx="95040" cy="58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26"/>
                  </a:moveTo>
                  <a:lnTo>
                    <a:pt x="0" y="2426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174"/>
                  </a:lnTo>
                  <a:lnTo>
                    <a:pt x="0" y="19174"/>
                  </a:lnTo>
                  <a:lnTo>
                    <a:pt x="16748" y="10800"/>
                  </a:lnTo>
                  <a:lnTo>
                    <a:pt x="0" y="2426"/>
                  </a:lnTo>
                  <a:close/>
                </a:path>
              </a:pathLst>
            </a:custGeom>
            <a:solidFill>
              <a:srgbClr val="40458c"/>
            </a:solidFill>
            <a:ln w="64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1262880" y="3373920"/>
              <a:ext cx="94680" cy="58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26"/>
                  </a:moveTo>
                  <a:lnTo>
                    <a:pt x="0" y="2426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174"/>
                  </a:lnTo>
                  <a:lnTo>
                    <a:pt x="0" y="19174"/>
                  </a:lnTo>
                  <a:lnTo>
                    <a:pt x="16748" y="10800"/>
                  </a:lnTo>
                  <a:lnTo>
                    <a:pt x="0" y="2426"/>
                  </a:lnTo>
                  <a:close/>
                </a:path>
              </a:pathLst>
            </a:custGeom>
            <a:solidFill>
              <a:srgbClr val="40458c"/>
            </a:solidFill>
            <a:ln w="64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6200000">
              <a:off x="1262880" y="3270960"/>
              <a:ext cx="95040" cy="58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26"/>
                  </a:moveTo>
                  <a:lnTo>
                    <a:pt x="0" y="2426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174"/>
                  </a:lnTo>
                  <a:lnTo>
                    <a:pt x="0" y="19174"/>
                  </a:lnTo>
                  <a:lnTo>
                    <a:pt x="16748" y="10800"/>
                  </a:lnTo>
                  <a:lnTo>
                    <a:pt x="0" y="2426"/>
                  </a:lnTo>
                  <a:close/>
                </a:path>
              </a:pathLst>
            </a:custGeom>
            <a:solidFill>
              <a:srgbClr val="40458c"/>
            </a:solidFill>
            <a:ln w="64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12"/>
          <p:cNvSpPr/>
          <p:nvPr/>
        </p:nvSpPr>
        <p:spPr>
          <a:xfrm rot="16200000">
            <a:off x="407520" y="2395440"/>
            <a:ext cx="17686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ffffff"/>
              </a:buClr>
              <a:buSzPct val="110000"/>
              <a:buFont typeface="Times"/>
              <a:buChar char="•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 “</a:t>
            </a: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MARKET </a:t>
            </a:r>
            <a:r>
              <a:rPr b="1" lang="de-DE" sz="1200" spc="-1" strike="noStrike">
                <a:solidFill>
                  <a:srgbClr val="40458c"/>
                </a:solidFill>
                <a:latin typeface="Verdana"/>
              </a:rPr>
              <a:t>MAKER</a:t>
            </a: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12"/>
          <p:cNvSpPr/>
          <p:nvPr/>
        </p:nvSpPr>
        <p:spPr>
          <a:xfrm rot="16200000">
            <a:off x="344520" y="2457000"/>
            <a:ext cx="176868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ffffff"/>
              </a:buClr>
              <a:buSzPct val="110000"/>
              <a:buFont typeface="Times"/>
              <a:buChar char="•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 “</a:t>
            </a: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MARKET </a:t>
            </a:r>
            <a:r>
              <a:rPr b="0" lang="de-DE" sz="300" spc="-1" strike="noStrike">
                <a:solidFill>
                  <a:srgbClr val="40458c"/>
                </a:solidFill>
                <a:latin typeface="Verdana"/>
              </a:rPr>
              <a:t>MAKER</a:t>
            </a: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”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12"/>
          <p:cNvSpPr/>
          <p:nvPr/>
        </p:nvSpPr>
        <p:spPr>
          <a:xfrm rot="16200000">
            <a:off x="578520" y="4304160"/>
            <a:ext cx="1505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ffffff"/>
              </a:buClr>
              <a:buSzPct val="110000"/>
              <a:buFont typeface="Times"/>
              <a:buChar char="•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“</a:t>
            </a:r>
            <a:r>
              <a:rPr b="1" lang="de-DE" sz="1200" spc="-1" strike="noStrike">
                <a:solidFill>
                  <a:srgbClr val="40458c"/>
                </a:solidFill>
                <a:latin typeface="Verdana"/>
              </a:rPr>
              <a:t>STAZIONE APPALTANT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08160" y="620280"/>
            <a:ext cx="8254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Strumenti attuali e ruolo della centrale di committenz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065240" y="33336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Considerazioni gene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04880" y="1628640"/>
            <a:ext cx="8907480" cy="53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Le amministrazioni centrali e periferiche dello Stato sono obbligate per legge (Finanziaria 2007) ad utilizzar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sistema non ha costi per le amministrazioni e per le imprese che si abilitano e lo utilizz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Consente di valorizzare le PMI e il rapporto tra Pa e territo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E’ in fase di stipula un accordo di collaborazione con la Regione Toscana per promuovere e valorizzare l’ambito lo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suo utilizzo consente di semplificare o delegare a carico di Consip, alcuni degli adempimenti richiesti alle stazioni appaltanti dal Codice sugli appalti per gli acquisti sottosogl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64680" y="588960"/>
            <a:ext cx="6560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Arial"/>
              </a:rPr>
              <a:t>Considerazioni generali sul Mercato Elettro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352520" y="1412640"/>
            <a:ext cx="7704000" cy="4608360"/>
          </a:xfrm>
          <a:prstGeom prst="rect">
            <a:avLst/>
          </a:prstGeom>
          <a:solidFill>
            <a:srgbClr val="ff9900">
              <a:alpha val="62000"/>
            </a:srgbClr>
          </a:solidFill>
          <a:ln w="4140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85 M di valore del transato nel 2007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1300 imprese abilita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16 iniziative merceologich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6000 punti ordinanti registrat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5 articoli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7 Arpa registrate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"/>
          <p:cNvSpPr/>
          <p:nvPr/>
        </p:nvSpPr>
        <p:spPr>
          <a:xfrm>
            <a:off x="1167840" y="662040"/>
            <a:ext cx="7017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Arial"/>
              </a:rPr>
              <a:t>Considerazioni generali sul Mercato elettronico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85920" y="1433520"/>
            <a:ext cx="9362880" cy="3960720"/>
          </a:xfrm>
          <a:prstGeom prst="rect">
            <a:avLst/>
          </a:prstGeom>
          <a:solidFill>
            <a:srgbClr val="f3f3f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187280" y="692280"/>
            <a:ext cx="86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Le categorie merceologiche sul MEPA: le offerte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84080" y="1751040"/>
            <a:ext cx="8628120" cy="2772360"/>
            <a:chOff x="784080" y="1751040"/>
            <a:chExt cx="8628120" cy="2772360"/>
          </a:xfrm>
        </p:grpSpPr>
        <p:sp>
          <p:nvSpPr>
            <p:cNvPr id="680" name=""/>
            <p:cNvSpPr/>
            <p:nvPr/>
          </p:nvSpPr>
          <p:spPr>
            <a:xfrm>
              <a:off x="831852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08400" y="175104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73640" y="175104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132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08000" y="317016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73240" y="317016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4028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0696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7220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5184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1708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4312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0980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504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4172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5" name="" descr=""/>
            <p:cNvPicPr/>
            <p:nvPr/>
          </p:nvPicPr>
          <p:blipFill>
            <a:blip r:embed="rId1"/>
            <a:stretch/>
          </p:blipFill>
          <p:spPr>
            <a:xfrm>
              <a:off x="857160" y="1865160"/>
              <a:ext cx="88740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785880" y="2546280"/>
              <a:ext cx="1152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Arredi e complementi di arredo: 27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2560" y="240984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Prodotti e accessori informatici: 80.0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8" name="" descr=""/>
            <p:cNvPicPr/>
            <p:nvPr/>
          </p:nvPicPr>
          <p:blipFill>
            <a:blip r:embed="rId2"/>
            <a:stretch/>
          </p:blipFill>
          <p:spPr>
            <a:xfrm>
              <a:off x="2052720" y="1789200"/>
              <a:ext cx="64764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917800" y="268272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Cancelleria: 220.0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3"/>
            <a:stretch/>
          </p:blipFill>
          <p:spPr>
            <a:xfrm>
              <a:off x="3086280" y="181764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984480" y="254628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Area Specifica Sanità: 27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51520" y="240984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Dispositivi di protezione individuale:   3.3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16760" y="254628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nutenzione Impianti Elettrici: 1.75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" descr=""/>
            <p:cNvPicPr/>
            <p:nvPr/>
          </p:nvPicPr>
          <p:blipFill>
            <a:blip r:embed="rId4"/>
            <a:stretch/>
          </p:blipFill>
          <p:spPr>
            <a:xfrm>
              <a:off x="4299120" y="1824120"/>
              <a:ext cx="48564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5"/>
            <a:stretch/>
          </p:blipFill>
          <p:spPr>
            <a:xfrm>
              <a:off x="5207040" y="1824120"/>
              <a:ext cx="79200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6"/>
            <a:stretch/>
          </p:blipFill>
          <p:spPr>
            <a:xfrm>
              <a:off x="6269040" y="1849320"/>
              <a:ext cx="79200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725328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261280" y="268272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Formazione:  6.1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7"/>
            <a:stretch/>
          </p:blipFill>
          <p:spPr>
            <a:xfrm>
              <a:off x="7396200" y="1822320"/>
              <a:ext cx="7192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194600" y="254628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nutenzione Impianti Elevatori: 10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" descr=""/>
            <p:cNvPicPr/>
            <p:nvPr/>
          </p:nvPicPr>
          <p:blipFill>
            <a:blip r:embed="rId8"/>
            <a:stretch/>
          </p:blipFill>
          <p:spPr>
            <a:xfrm>
              <a:off x="8404200" y="1820880"/>
              <a:ext cx="8510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784080" y="3946680"/>
              <a:ext cx="115272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Erogazione gas e servizi connessi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51120" y="396540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teriale Elettrico:      7.3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16360" y="396540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teriale Igienico Sanitario:      13.7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83040" y="39654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Prodotti per l’ufficio:      41.5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86280" y="4032360"/>
              <a:ext cx="13557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5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nutenzi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Termoidraulici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 </a:t>
              </a: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85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14960" y="4102200"/>
              <a:ext cx="11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Telefonia:     5.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59840" y="397368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Servizi di Igiene Ambientale:  27.2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92800" y="4102200"/>
              <a:ext cx="11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Segnaletica:     8.6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0" name="" descr=""/>
            <p:cNvPicPr/>
            <p:nvPr/>
          </p:nvPicPr>
          <p:blipFill>
            <a:blip r:embed="rId9"/>
            <a:stretch/>
          </p:blipFill>
          <p:spPr>
            <a:xfrm>
              <a:off x="985680" y="326232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10"/>
            <a:stretch/>
          </p:blipFill>
          <p:spPr>
            <a:xfrm>
              <a:off x="2055960" y="3271680"/>
              <a:ext cx="7236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1"/>
            <a:stretch/>
          </p:blipFill>
          <p:spPr>
            <a:xfrm>
              <a:off x="3041640" y="3236760"/>
              <a:ext cx="86364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12"/>
            <a:stretch/>
          </p:blipFill>
          <p:spPr>
            <a:xfrm>
              <a:off x="4233960" y="3235320"/>
              <a:ext cx="7142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13"/>
            <a:stretch/>
          </p:blipFill>
          <p:spPr>
            <a:xfrm>
              <a:off x="6362640" y="3198960"/>
              <a:ext cx="62244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14"/>
            <a:stretch/>
          </p:blipFill>
          <p:spPr>
            <a:xfrm>
              <a:off x="7324560" y="3262320"/>
              <a:ext cx="86364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15"/>
            <a:stretch/>
          </p:blipFill>
          <p:spPr>
            <a:xfrm>
              <a:off x="8429760" y="3263760"/>
              <a:ext cx="804600" cy="58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30400" y="0"/>
            <a:ext cx="852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l Programma -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rincipi car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12529" t="4336" r="17517" b="58741"/>
          <a:stretch/>
        </p:blipFill>
        <p:spPr>
          <a:xfrm>
            <a:off x="1789200" y="1087560"/>
            <a:ext cx="7495920" cy="3133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90760" y="1557360"/>
            <a:ext cx="8034120" cy="4124160"/>
          </a:xfrm>
          <a:prstGeom prst="rect">
            <a:avLst/>
          </a:prstGeom>
          <a:solidFill>
            <a:srgbClr val="eaeae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440" y="3468600"/>
            <a:ext cx="803268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99120" y="3546360"/>
            <a:ext cx="25318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62640" y="3622680"/>
            <a:ext cx="20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orr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72480" y="3546360"/>
            <a:ext cx="25318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72480" y="3622680"/>
            <a:ext cx="24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spar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8120" y="3546360"/>
            <a:ext cx="25322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90840" y="3622680"/>
            <a:ext cx="25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no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14960" y="4475160"/>
            <a:ext cx="25272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reri Autorità Gar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rtecipazione P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35040" y="4475160"/>
            <a:ext cx="265284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onsulenza e tecno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E-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1662120" y="4133520"/>
            <a:ext cx="2417760" cy="230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59240" y="4135320"/>
            <a:ext cx="2417760" cy="230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7012080" y="4135320"/>
            <a:ext cx="2417760" cy="230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66000" y="4465800"/>
            <a:ext cx="258912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ubblicità iniz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rtale Acquisti in 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F679-6538-4B55-9399-E598513DD2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568520" y="1192320"/>
            <a:ext cx="7870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863640" y="1397160"/>
          <a:ext cx="8388360" cy="5133960"/>
        </p:xfrm>
        <a:graphic>
          <a:graphicData uri="http://schemas.openxmlformats.org/drawingml/2006/table">
            <a:tbl>
              <a:tblPr/>
              <a:tblGrid>
                <a:gridCol w="1177920"/>
                <a:gridCol w="772920"/>
                <a:gridCol w="935280"/>
                <a:gridCol w="831600"/>
                <a:gridCol w="863640"/>
                <a:gridCol w="1024200"/>
                <a:gridCol w="2782800"/>
              </a:tblGrid>
              <a:tr h="44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8                     (al 31/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iziative merceologic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Focus sulle categorie merceologiche chiav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 ATTI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5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.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.5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 </a:t>
                      </a: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PO registrati maggio 2008 : 7.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Catalog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ilit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1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.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Oltre l’89% è rappresentato da PMI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e la categoria “micro”  (&lt; 7 dipendenti) è la più numerosa (47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icoli on 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13.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90.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26.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32.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44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86%  degli articoli appartiene alla  macro categoria ICT/Office supply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74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nsazi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.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9.6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1.4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8.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8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82% su 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8% su 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(% calcolata su 20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 12.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4.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52.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71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ns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8,3 mio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9,8 mio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mio € 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mio €8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mio €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4% su 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66% su 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(% calcolata su 20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medio mobile OdA: 1.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medio mobile RdO: 10.5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medio mobile transazione: 2.9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(per valore medio mobile si intende il valore relativo ai 12 mesi precedenti il mese in questione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38,1 mio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mio € 7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mio €15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mio €2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1568520" y="476280"/>
            <a:ext cx="62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337b"/>
                </a:solidFill>
                <a:latin typeface="Verdana"/>
              </a:rPr>
              <a:t>Principali risultati del il M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5240" y="630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Verdana"/>
              </a:rPr>
              <a:t>MEPA: Utilizzo delle ARPA regionali nel 2007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transato è stato di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450.000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€, con un ricorso alle Richieste d’offerta e a gli  Ordini diretti, equamente suddiviso al 50%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Le categorie merceologiche  più utilizzate sono Hardware e software, materiale di consumo per ufficio ed arred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5165640" y="1484280"/>
          <a:ext cx="474048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5640" y="1484280"/>
                    <a:ext cx="47404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66560" y="-27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it-IT" sz="2400" spc="-1" strike="noStrike">
                <a:solidFill>
                  <a:srgbClr val="40458c"/>
                </a:solidFill>
                <a:latin typeface="Verdana"/>
              </a:rPr>
              <a:t>MEPA: Utilizzo delle ARPA regionali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nei primi mesi 2008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170028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transato è di 200.000 €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Le categorie merceologiche  maggiormente utilizzate sono hardware e software, materiale di consumo, ed arredi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4881600" y="1916280"/>
          <a:ext cx="4887720" cy="33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1600" y="1916280"/>
                    <a:ext cx="48877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8151840" y="1522440"/>
            <a:ext cx="10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06/07 – 05/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96920" y="6308640"/>
            <a:ext cx="797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i="1" lang="en-US" sz="1200" spc="-1" strike="noStrike">
                <a:solidFill>
                  <a:srgbClr val="40458c"/>
                </a:solidFill>
                <a:latin typeface="Arial"/>
              </a:rPr>
              <a:t>NB: Nelle computo vendite dei fornitori non sono conteggiati 2.068.080 € fatturati da aziende est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1076400" y="1758960"/>
            <a:ext cx="7870680" cy="426708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06200" y="917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Verdana"/>
              </a:rPr>
              <a:t>Rapporto tra acquisti e vendite nelle regioni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857240" y="527040"/>
            <a:ext cx="5688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I nuovi strumenti introdotti dal Codice </a:t>
            </a:r>
            <a:endParaRPr b="0" lang="en-US" sz="20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43" name=""/>
          <p:cNvSpPr/>
          <p:nvPr/>
        </p:nvSpPr>
        <p:spPr>
          <a:xfrm>
            <a:off x="9328320" y="19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209600" y="981000"/>
            <a:ext cx="7488000" cy="5753160"/>
            <a:chOff x="1209600" y="981000"/>
            <a:chExt cx="7488000" cy="5753160"/>
          </a:xfrm>
        </p:grpSpPr>
        <p:sp>
          <p:nvSpPr>
            <p:cNvPr id="745" name=""/>
            <p:cNvSpPr/>
            <p:nvPr/>
          </p:nvSpPr>
          <p:spPr>
            <a:xfrm>
              <a:off x="4024080" y="1293840"/>
              <a:ext cx="4673520" cy="4463640"/>
            </a:xfrm>
            <a:prstGeom prst="rect">
              <a:avLst/>
            </a:prstGeom>
            <a:solidFill>
              <a:srgbClr val="d9d9ff"/>
            </a:soli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1224360" y="6094440"/>
              <a:ext cx="7154280" cy="639720"/>
              <a:chOff x="1224360" y="6094440"/>
              <a:chExt cx="7154280" cy="639720"/>
            </a:xfrm>
          </p:grpSpPr>
          <p:sp>
            <p:nvSpPr>
              <p:cNvPr id="747" name=""/>
              <p:cNvSpPr/>
              <p:nvPr/>
            </p:nvSpPr>
            <p:spPr>
              <a:xfrm>
                <a:off x="4626360" y="6094440"/>
                <a:ext cx="37522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uovi Strumenti/Processi di acquisizione  a disposizione delle PP.AA. “tramite” Cons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224360" y="6094440"/>
                <a:ext cx="33354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ggiornamento” di uno strumento          di negozia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tilizzabile da CONS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 rot="5400000">
              <a:off x="2440080" y="723240"/>
              <a:ext cx="844920" cy="218844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2188440"/>
                <a:gd name="textAreaBottom" fmla="*/ 2188800 h 21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sta elettro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0680" y="2273400"/>
              <a:ext cx="22212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mento di negoziazion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(tecnica di aggiudicazione)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 consente una classificazione automatica delle offer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utilizzabile nelle procedure aperte, procedure aperte, ristrette o negoziate con  pubblicazione del bando, nell’ambito del sistema dinamico di acquisizione, nel  rilancio del confronto competitivo in caso di accordo qua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400000">
              <a:off x="4783680" y="723960"/>
              <a:ext cx="844920" cy="218700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2187000"/>
                <a:gd name="textAreaBottom" fmla="*/ 2187360 h 21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ccordo Quad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20200" y="2273400"/>
              <a:ext cx="2221200" cy="20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ordo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cluso tra una o più amministrazioni aggiudicatrici e uno o più operatori economici il cui scopo è quello di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bilire le clausole relative agli appalti da aggiudicare durante un dato periodo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in particolare per quanto riguarda i prezzi e se del caso, le quantità previ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210680" y="2298240"/>
              <a:ext cx="455400" cy="2133000"/>
              <a:chOff x="1210680" y="2298240"/>
              <a:chExt cx="455400" cy="2133000"/>
            </a:xfrm>
          </p:grpSpPr>
          <p:sp>
            <p:nvSpPr>
              <p:cNvPr id="754" name=""/>
              <p:cNvSpPr/>
              <p:nvPr/>
            </p:nvSpPr>
            <p:spPr>
              <a:xfrm rot="16200000">
                <a:off x="371880" y="3137040"/>
                <a:ext cx="2133000" cy="45540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6200000">
                <a:off x="368640" y="3262320"/>
                <a:ext cx="2111040" cy="21348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Descri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rot="5400000">
              <a:off x="7064280" y="723960"/>
              <a:ext cx="844920" cy="218700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2187000"/>
                <a:gd name="textAreaBottom" fmla="*/ 2187360 h 21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istema Dinamic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’Acqui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10160" y="2273400"/>
              <a:ext cx="222084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stema elettronico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 l’acquisto di beni e servizi di utilizzazione corrente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permanentemente aperto agli offerenti interessati che presentino una “offerta indicativ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” che sia valutata conforme al capitolato d’one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1209600" y="4539240"/>
              <a:ext cx="455040" cy="1047960"/>
              <a:chOff x="1209600" y="4539240"/>
              <a:chExt cx="455040" cy="1047960"/>
            </a:xfrm>
          </p:grpSpPr>
          <p:sp>
            <p:nvSpPr>
              <p:cNvPr id="759" name=""/>
              <p:cNvSpPr/>
              <p:nvPr/>
            </p:nvSpPr>
            <p:spPr>
              <a:xfrm rot="16200000">
                <a:off x="912960" y="4835520"/>
                <a:ext cx="1047960" cy="45504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6200000">
                <a:off x="904320" y="4958640"/>
                <a:ext cx="1037160" cy="21348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Ruolo attor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1750680" y="463932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ip negozia il contrat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65800" y="5046120"/>
              <a:ext cx="673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50680" y="5247720"/>
              <a:ext cx="195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e PP.AA. ordina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20200" y="464076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ip aggiudica Accordo Qua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20200" y="524916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e PP.AA. aggiudicano Accordo Speci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45160" y="4608000"/>
              <a:ext cx="195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ip istituisce  D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45160" y="521640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e PP.AA. negoziano e aggiudic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064240" y="5775480"/>
              <a:ext cx="1637640" cy="28764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333399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4400" y="5799240"/>
              <a:ext cx="1638000" cy="28764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333399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0" name=""/>
            <p:cNvCxnSpPr>
              <a:stCxn id="749" idx="0"/>
              <a:endCxn id="756" idx="0"/>
            </p:cNvCxnSpPr>
            <p:nvPr/>
          </p:nvCxnSpPr>
          <p:spPr>
            <a:xfrm flipH="1" rot="16200000">
              <a:off x="5175000" y="-925920"/>
              <a:ext cx="2160" cy="4625640"/>
            </a:xfrm>
            <a:prstGeom prst="bentConnector3">
              <a:avLst>
                <a:gd name="adj1" fmla="val -13800000"/>
              </a:avLst>
            </a:prstGeom>
            <a:ln w="38160">
              <a:solidFill>
                <a:srgbClr val="cc6666"/>
              </a:solidFill>
              <a:prstDash val="sysDot"/>
              <a:miter/>
              <a:tailEnd len="med" type="triangle" w="lg"/>
            </a:ln>
          </p:spPr>
        </p:cxnSp>
        <p:cxnSp>
          <p:nvCxnSpPr>
            <p:cNvPr id="771" name=""/>
            <p:cNvCxnSpPr>
              <a:stCxn id="749" idx="1"/>
              <a:endCxn id="751" idx="0"/>
            </p:cNvCxnSpPr>
            <p:nvPr/>
          </p:nvCxnSpPr>
          <p:spPr>
            <a:xfrm flipH="1" rot="16200000">
              <a:off x="4034880" y="214200"/>
              <a:ext cx="2160" cy="2345040"/>
            </a:xfrm>
            <a:prstGeom prst="bentConnector3">
              <a:avLst>
                <a:gd name="adj1" fmla="val -13800000"/>
              </a:avLst>
            </a:prstGeom>
            <a:ln w="38160">
              <a:solidFill>
                <a:srgbClr val="cc6666"/>
              </a:solidFill>
              <a:prstDash val="sysDot"/>
              <a:miter/>
              <a:tailEnd len="med" type="triangle" w="lg"/>
            </a:ln>
          </p:spPr>
        </p:cxnSp>
        <p:sp>
          <p:nvSpPr>
            <p:cNvPr id="772" name=""/>
            <p:cNvSpPr/>
            <p:nvPr/>
          </p:nvSpPr>
          <p:spPr>
            <a:xfrm>
              <a:off x="3379680" y="981000"/>
              <a:ext cx="350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ta elettronica utilizzabile anche nell’ambito di AQ e D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034B-F53A-4643-850D-8C98E07BD19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775800" y="1268280"/>
            <a:ext cx="81378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Oggetto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ervizi e fornit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avori: lavori di manutenzione o connotati da serialità e caratteristiche esecutive standardizza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No per progettazione e altri servizi intellettual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Durata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 max 4 anni (salvo eccezioni motivate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Valore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 max stimato, netto IVA, del complesso degli appalti previsti per la durata dell’accordo-quadr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Immodificabilità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sostanziale delle condizioni fissate nell’accordo quadro in sede di aggiudicazione degli appalti pubblici basati sull’accord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74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44520" y="1484280"/>
            <a:ext cx="9145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76160" y="793800"/>
            <a:ext cx="7848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ACCORDO QUADRO - caratteristiche gene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0C94-134B-49BB-AABA-8784B6BA07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2532240" y="2382840"/>
            <a:ext cx="5445000" cy="155268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30840" y="3357720"/>
            <a:ext cx="1079640" cy="431640"/>
            <a:chOff x="5730840" y="3357720"/>
            <a:chExt cx="1079640" cy="431640"/>
          </a:xfrm>
        </p:grpSpPr>
        <p:sp>
          <p:nvSpPr>
            <p:cNvPr id="779" name=""/>
            <p:cNvSpPr/>
            <p:nvPr/>
          </p:nvSpPr>
          <p:spPr>
            <a:xfrm>
              <a:off x="5730840" y="3357720"/>
              <a:ext cx="1079640" cy="431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32720" y="3390840"/>
              <a:ext cx="956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più fornit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fis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484520" y="2924280"/>
            <a:ext cx="1082520" cy="431640"/>
            <a:chOff x="4484520" y="2924280"/>
            <a:chExt cx="1082520" cy="431640"/>
          </a:xfrm>
        </p:grpSpPr>
        <p:sp>
          <p:nvSpPr>
            <p:cNvPr id="782" name=""/>
            <p:cNvSpPr/>
            <p:nvPr/>
          </p:nvSpPr>
          <p:spPr>
            <a:xfrm>
              <a:off x="4484520" y="2924280"/>
              <a:ext cx="1082520" cy="431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90360" y="2957400"/>
              <a:ext cx="948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1 forni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ape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823080" y="2600280"/>
            <a:ext cx="1081080" cy="432000"/>
            <a:chOff x="6823080" y="2600280"/>
            <a:chExt cx="1081080" cy="432000"/>
          </a:xfrm>
        </p:grpSpPr>
        <p:sp>
          <p:nvSpPr>
            <p:cNvPr id="785" name=""/>
            <p:cNvSpPr/>
            <p:nvPr/>
          </p:nvSpPr>
          <p:spPr>
            <a:xfrm>
              <a:off x="6823080" y="2600280"/>
              <a:ext cx="1081080" cy="432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89680" y="2633760"/>
              <a:ext cx="948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più fornit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ape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4339440" y="2637000"/>
            <a:ext cx="15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rdi Qu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13280" y="1592280"/>
            <a:ext cx="2055960" cy="82872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743440" y="1714680"/>
            <a:ext cx="219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nam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 Acqui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363760" y="1233360"/>
            <a:ext cx="0" cy="3637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355840" y="4869000"/>
            <a:ext cx="7356600" cy="14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727440" y="4941720"/>
            <a:ext cx="374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ffe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1675080" y="4795200"/>
            <a:ext cx="2331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Verdana"/>
              </a:rPr>
              <a:t>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208160" y="2852640"/>
            <a:ext cx="111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o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40160" y="3498840"/>
            <a:ext cx="1836720" cy="118908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832480" y="4092480"/>
            <a:ext cx="125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n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936880" y="3537000"/>
            <a:ext cx="1081080" cy="539640"/>
            <a:chOff x="2936880" y="3537000"/>
            <a:chExt cx="1081080" cy="539640"/>
          </a:xfrm>
        </p:grpSpPr>
        <p:sp>
          <p:nvSpPr>
            <p:cNvPr id="798" name=""/>
            <p:cNvSpPr/>
            <p:nvPr/>
          </p:nvSpPr>
          <p:spPr>
            <a:xfrm>
              <a:off x="2936880" y="3537000"/>
              <a:ext cx="1081080" cy="539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9520" y="3546360"/>
              <a:ext cx="956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AQ con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1 forni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fis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285920" y="203040"/>
            <a:ext cx="608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lazione tra strumenti e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46240" y="4616280"/>
            <a:ext cx="117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720" y="1163520"/>
            <a:ext cx="150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Personalizz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12840" y="4933800"/>
            <a:ext cx="18702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Concent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Caratteristiche generiche del forni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396280" y="4905360"/>
            <a:ext cx="137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Framment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Caratteristiche specifiche del forni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389240" y="5681520"/>
            <a:ext cx="828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1137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58c"/>
                </a:solidFill>
                <a:latin typeface="Verdana"/>
              </a:rPr>
              <a:t>Il ricorso ai diversi strumenti di acquisto è funzionale alle caratteristiche dell’offerta (struttura del mercato di riferimento) e della doman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137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58c"/>
                </a:solidFill>
                <a:latin typeface="Verdana"/>
              </a:rPr>
              <a:t>Sarà rimesso alla strategia della Centrale di committenza valutare con quale strumento aggredire le singole merceologie, in funzione della domanda che si intende intercett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724880" y="1233360"/>
            <a:ext cx="1620720" cy="68292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229600" y="1438200"/>
            <a:ext cx="6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208160" y="620280"/>
            <a:ext cx="8254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Nuovi strumenti e ruolo della centrale di committenz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41800" y="5827680"/>
            <a:ext cx="265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modalità di erogazione del servizio di fornitura (ad es. modalità di consegna del bene/servizio ec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3160" y="561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26320" y="3306600"/>
            <a:ext cx="233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durata dei singoli contratti stipulati tra le P.A. ed il forni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48560" y="3867120"/>
            <a:ext cx="3906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46760" y="5106960"/>
            <a:ext cx="2730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quantitativi massimi e le caratteristiche degli ordinativi del bene/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46760" y="5178600"/>
            <a:ext cx="3906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4560" y="3306600"/>
            <a:ext cx="2728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oggetto della Convenzione (ovvero i beni/servizi oggetto della fornitu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66680" y="3882960"/>
            <a:ext cx="3891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17960" y="2932200"/>
            <a:ext cx="2886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tempi di esecuzione e la durata della Conven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2920" y="3449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2880" y="5106960"/>
            <a:ext cx="2338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responsabili del servizio di forn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781080" y="5249880"/>
            <a:ext cx="3906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72040" y="3809880"/>
            <a:ext cx="2574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68600" y="257040"/>
            <a:ext cx="90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37b"/>
                </a:solidFill>
                <a:latin typeface="Trebuchet MS"/>
              </a:rPr>
              <a:t>Il sistema delle Convenzioni – Cos’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30400" y="765000"/>
            <a:ext cx="8775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onvenzioni sono contratti quadro stipulati – attraverso Consip - dal Ministero dell’Economia e delle Finanze. Stipulate a seguito di una procedura di gara tradizionale o telematica, tale strumento d’acquisto mette a disposizione delle Amministrazioni beni e servizi, individuati attraverso l’analisi delle esigenze della P.A., e offrono alle Imprese l’opportunità di soddisfare la domanda pubblica assicurando il rispetto dei principi di concorrenza e trasparen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onvenzioni pongono in essere un “sistema di impegni”  caratterizzato principalmente 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426200" y="4025880"/>
            <a:ext cx="1991160" cy="939240"/>
            <a:chOff x="4426200" y="4025880"/>
            <a:chExt cx="1991160" cy="9392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5029560" y="4025880"/>
              <a:ext cx="68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426200" y="450540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venzio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251240" y="4962600"/>
            <a:ext cx="249480" cy="230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43480" y="532440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35720" y="401148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35720" y="4962600"/>
            <a:ext cx="249120" cy="230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35400" y="402732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3480" y="365112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0B76-682D-4F09-8A8E-91E7C422EC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01840" y="5300640"/>
            <a:ext cx="694224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1989000"/>
            <a:ext cx="5148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8160" y="2052720"/>
            <a:ext cx="3079800" cy="31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30400" y="765000"/>
            <a:ext cx="877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 un punto di vista contrattuale il sistema presenta diverse novità finalizzate al superamento del modello di acquisto precedentemente adot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0400" y="2762280"/>
            <a:ext cx="3120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izzazione di Convenzioni aventi le caratteristiche di u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ratto quadr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vver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er ades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07120" y="1773360"/>
            <a:ext cx="3699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tengono tutte le clausole contrattuali necessarie a regolare completamente sia i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apporti tra la Consip ed il Fornitor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sia quelli tra il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nitore e le Amministr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02440" y="3149640"/>
            <a:ext cx="37036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Amministrazioni si limitano a stipulare i loro singoli contratti mediant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’invio del solo Ordinativo di forn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02440" y="4454640"/>
            <a:ext cx="37036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tti così conclusi sono disciplinati per inter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delle clausole contenute nella Conven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76760" y="4641840"/>
            <a:ext cx="23508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84520" y="3357720"/>
            <a:ext cx="235080" cy="21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76760" y="2206800"/>
            <a:ext cx="235080" cy="21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11840" y="2328840"/>
            <a:ext cx="3906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9600" y="3502080"/>
            <a:ext cx="1482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726080"/>
            <a:ext cx="3906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68600" y="260280"/>
            <a:ext cx="908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337b"/>
                </a:solidFill>
                <a:latin typeface="Trebuchet MS"/>
              </a:rPr>
              <a:t>Il sistema delle Convenzioni – Cos’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09600" y="4869000"/>
            <a:ext cx="218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 pertan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7760" y="5492880"/>
            <a:ext cx="62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Amministrazioni conservano la propria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utonomi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ella determinazione della politica degli acquisti di beni e servi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7760" y="6067440"/>
            <a:ext cx="682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Amministrazioni possono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sufruire velocemente e tempestivamente dei beni e dei serviz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di cui effettivamente necessit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2620-35A8-4B2E-8FEC-61A71E72FAA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392640" y="2924280"/>
            <a:ext cx="0" cy="129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003480" y="2924280"/>
            <a:ext cx="0" cy="129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62640" y="2708280"/>
            <a:ext cx="2184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03800" y="2433600"/>
            <a:ext cx="27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eportistica sul vend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93760" y="3321000"/>
            <a:ext cx="1695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trumenti di monitoragg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7440" y="3321000"/>
            <a:ext cx="175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s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Livello di soddisf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84520" y="2924280"/>
            <a:ext cx="4332600" cy="2112840"/>
          </a:xfrm>
          <a:custGeom>
            <a:avLst/>
            <a:gdLst/>
            <a:ahLst/>
            <a:rect l="l" t="t" r="r" b="b"/>
            <a:pathLst>
              <a:path w="2746" h="1312">
                <a:moveTo>
                  <a:pt x="0" y="1311"/>
                </a:moveTo>
                <a:lnTo>
                  <a:pt x="2745" y="1311"/>
                </a:lnTo>
                <a:lnTo>
                  <a:pt x="27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0240" y="4767120"/>
            <a:ext cx="6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Forn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20080" y="359100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07200" y="1874880"/>
            <a:ext cx="2427480" cy="98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1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562640" y="2130480"/>
            <a:ext cx="2149200" cy="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84520" y="2852640"/>
            <a:ext cx="3276720" cy="1728720"/>
          </a:xfrm>
          <a:custGeom>
            <a:avLst/>
            <a:gdLst/>
            <a:ahLst/>
            <a:rect l="l" t="t" r="r" b="b"/>
            <a:pathLst>
              <a:path w="2257" h="998">
                <a:moveTo>
                  <a:pt x="0" y="997"/>
                </a:moveTo>
                <a:lnTo>
                  <a:pt x="2256" y="997"/>
                </a:lnTo>
                <a:lnTo>
                  <a:pt x="225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13120" y="4253040"/>
            <a:ext cx="125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Ordini on-line/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11240" y="4471920"/>
            <a:ext cx="212436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9000" y="4416480"/>
            <a:ext cx="212436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48040" y="4365720"/>
            <a:ext cx="212400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mministr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99440" y="1820880"/>
            <a:ext cx="172224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42280" y="1785960"/>
            <a:ext cx="172224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51160" y="1916280"/>
            <a:ext cx="1720800" cy="85068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262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s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59480" y="1859040"/>
            <a:ext cx="172260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rn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0" y="838080"/>
            <a:ext cx="2838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62698"/>
                </a:solidFill>
                <a:latin typeface="Verdana"/>
                <a:ea typeface="Times New Roman"/>
              </a:rPr>
              <a:t>www.acquistinretepa.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23960"/>
            <a:ext cx="265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tipula contratti quadro e attivazione negozi elettron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36760" y="6135480"/>
            <a:ext cx="6240600" cy="2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36760" y="569268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456840" y="2285640"/>
            <a:ext cx="20520" cy="3800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243720" y="2282400"/>
            <a:ext cx="253800" cy="11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79920" y="5872320"/>
            <a:ext cx="194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ag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30080" y="212400"/>
            <a:ext cx="82551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337b"/>
                </a:solidFill>
                <a:latin typeface="Trebuchet MS"/>
              </a:rPr>
              <a:t>Il sistema delle Convenzioni – Come funziona</a:t>
            </a:r>
            <a:endParaRPr b="0" lang="en-US" sz="1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1" name=""/>
          <p:cNvSpPr/>
          <p:nvPr/>
        </p:nvSpPr>
        <p:spPr>
          <a:xfrm>
            <a:off x="2967120" y="285264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1240" y="4149720"/>
            <a:ext cx="777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69000" y="267480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89480" y="4543560"/>
            <a:ext cx="936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775720" y="285264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566100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87F6-277E-44F4-935C-7B048BC8B149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7280" y="88740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1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9" name=""/>
          <p:cNvSpPr/>
          <p:nvPr/>
        </p:nvSpPr>
        <p:spPr>
          <a:xfrm>
            <a:off x="8988480" y="2317680"/>
            <a:ext cx="127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rea I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45240" y="1986120"/>
            <a:ext cx="2268720" cy="372960"/>
          </a:xfrm>
          <a:prstGeom prst="rect">
            <a:avLst/>
          </a:prstGeom>
          <a:solidFill>
            <a:srgbClr val="0b33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S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71920" y="1986120"/>
            <a:ext cx="2173320" cy="372960"/>
          </a:xfrm>
          <a:prstGeom prst="rect">
            <a:avLst/>
          </a:prstGeom>
          <a:solidFill>
            <a:srgbClr val="0b33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ATEGORIA MERCEOLO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08160" y="1986120"/>
            <a:ext cx="3263760" cy="372960"/>
          </a:xfrm>
          <a:prstGeom prst="rect">
            <a:avLst/>
          </a:prstGeom>
          <a:solidFill>
            <a:srgbClr val="0b33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INIZI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45240" y="3352680"/>
            <a:ext cx="22687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71920" y="3352680"/>
            <a:ext cx="21733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8160" y="3352680"/>
            <a:ext cx="32637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r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45240" y="3684600"/>
            <a:ext cx="2268720" cy="333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71920" y="3684600"/>
            <a:ext cx="2173320" cy="333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08160" y="3684600"/>
            <a:ext cx="3263760" cy="333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Server Mid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45240" y="3022560"/>
            <a:ext cx="2268720" cy="33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71920" y="3022560"/>
            <a:ext cx="2173320" cy="33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0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08160" y="3022560"/>
            <a:ext cx="3263760" cy="33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c Portatili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45240" y="2359080"/>
            <a:ext cx="226872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71920" y="2359080"/>
            <a:ext cx="217332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2359080"/>
            <a:ext cx="326376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tocopiatrici in noleggio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45240" y="2690640"/>
            <a:ext cx="22687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71920" y="2690640"/>
            <a:ext cx="21733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08160" y="2690640"/>
            <a:ext cx="32637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rver entr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45240" y="4017960"/>
            <a:ext cx="22687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71920" y="4017960"/>
            <a:ext cx="21733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08160" y="4017960"/>
            <a:ext cx="32637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tampanti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08160" y="198612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8160" y="434988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08160" y="302256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08160" y="269064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08160" y="335268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08160" y="401796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8160" y="368460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08160" y="235908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58320" y="4448160"/>
            <a:ext cx="12240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A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Re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E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208160" y="4508640"/>
            <a:ext cx="7775640" cy="1393560"/>
            <a:chOff x="1208160" y="4508640"/>
            <a:chExt cx="7775640" cy="1393560"/>
          </a:xfrm>
        </p:grpSpPr>
        <p:sp>
          <p:nvSpPr>
            <p:cNvPr id="301" name=""/>
            <p:cNvSpPr/>
            <p:nvPr/>
          </p:nvSpPr>
          <p:spPr>
            <a:xfrm>
              <a:off x="6688080" y="4508640"/>
              <a:ext cx="2274840" cy="23616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10000" y="4508640"/>
              <a:ext cx="2278080" cy="23616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5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08160" y="4508640"/>
              <a:ext cx="3201840" cy="23616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8080" y="4744800"/>
              <a:ext cx="227484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0000" y="4744800"/>
              <a:ext cx="227808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l territo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08160" y="4744800"/>
              <a:ext cx="320184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tasto strad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8080" y="5118120"/>
              <a:ext cx="2274840" cy="42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0000" y="5118120"/>
              <a:ext cx="2278080" cy="42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immobi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08160" y="5118120"/>
              <a:ext cx="3201840" cy="42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7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estione integrata della sicurezza 6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88080" y="5543640"/>
              <a:ext cx="2274840" cy="35028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65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0000" y="5543640"/>
              <a:ext cx="2278080" cy="35028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immobi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08160" y="5543640"/>
              <a:ext cx="3201840" cy="35028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7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Facility Management Uffi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ssistenza ai Contratti di F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10000" y="4508640"/>
              <a:ext cx="0" cy="13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88080" y="4508640"/>
              <a:ext cx="0" cy="13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08160" y="5543640"/>
              <a:ext cx="775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08160" y="5118120"/>
              <a:ext cx="775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08160" y="4508640"/>
              <a:ext cx="7754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08160" y="4508640"/>
              <a:ext cx="0" cy="138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75880" y="4508640"/>
              <a:ext cx="0" cy="138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08160" y="4744800"/>
              <a:ext cx="775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08160" y="5902200"/>
              <a:ext cx="77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9DCD-6C22-43AC-ACC6-478E297FC9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883720" y="2354400"/>
            <a:ext cx="132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rea T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065240" y="1816200"/>
            <a:ext cx="7759800" cy="3023640"/>
            <a:chOff x="1065240" y="1816200"/>
            <a:chExt cx="7759800" cy="3023640"/>
          </a:xfrm>
        </p:grpSpPr>
        <p:sp>
          <p:nvSpPr>
            <p:cNvPr id="325" name=""/>
            <p:cNvSpPr/>
            <p:nvPr/>
          </p:nvSpPr>
          <p:spPr>
            <a:xfrm>
              <a:off x="1163520" y="2388240"/>
              <a:ext cx="7489800" cy="2574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40480" y="2486880"/>
              <a:ext cx="2284560" cy="439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52760" y="2486880"/>
              <a:ext cx="2187720" cy="439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0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65240" y="2486880"/>
              <a:ext cx="3287520" cy="439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Servizio di trasmissione dati via satell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0480" y="1816200"/>
              <a:ext cx="2284560" cy="3391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52760" y="1816200"/>
              <a:ext cx="2187720" cy="3391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5240" y="1816200"/>
              <a:ext cx="3287520" cy="3391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40480" y="2926080"/>
              <a:ext cx="2284560" cy="436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52760" y="2926080"/>
              <a:ext cx="2187720" cy="436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65240" y="2926080"/>
              <a:ext cx="3287520" cy="436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Reti Locali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40480" y="3362760"/>
              <a:ext cx="2284560" cy="4370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2760" y="3362760"/>
              <a:ext cx="2187720" cy="4370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5240" y="3362760"/>
              <a:ext cx="3287520" cy="4370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entrali telefonich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40480" y="4234680"/>
              <a:ext cx="2284560" cy="6051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 Mob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attivazione centr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52760" y="4234680"/>
              <a:ext cx="2187720" cy="6051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65240" y="3790440"/>
              <a:ext cx="3287520" cy="4464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Telefonia fissa e trasporto da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40480" y="3800160"/>
              <a:ext cx="2284560" cy="434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52760" y="3800160"/>
              <a:ext cx="2187720" cy="434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5240" y="4237200"/>
              <a:ext cx="3286080" cy="602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40480" y="2155320"/>
              <a:ext cx="2284560" cy="3315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52760" y="2155320"/>
              <a:ext cx="2187720" cy="3315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5240" y="2155320"/>
              <a:ext cx="3287520" cy="3315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Telefonia mobil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65240" y="1816200"/>
              <a:ext cx="7759800" cy="2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5240" y="3362760"/>
              <a:ext cx="7759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2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1208880" y="4287960"/>
            <a:ext cx="222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fonia mobil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 Telefonich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79400" y="4216320"/>
            <a:ext cx="193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arati e servizi di telefonia 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smissione d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A002-4E28-4A7D-AB8A-31458E74BC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LAVORI%20IN%20CORSO:Consip:flash03" descr=""/>
          <p:cNvPicPr/>
          <p:nvPr/>
        </p:nvPicPr>
        <p:blipFill>
          <a:blip r:embed="rId1">
            <a:lum contrast="6000"/>
          </a:blip>
          <a:srcRect l="1879" t="0" r="44696" b="24200"/>
          <a:stretch/>
        </p:blipFill>
        <p:spPr>
          <a:xfrm>
            <a:off x="0" y="5105520"/>
            <a:ext cx="6705720" cy="1749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655120" y="1700280"/>
            <a:ext cx="162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rea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30400" y="1471680"/>
            <a:ext cx="7456320" cy="3960720"/>
            <a:chOff x="1130400" y="1471680"/>
            <a:chExt cx="7456320" cy="3960720"/>
          </a:xfrm>
        </p:grpSpPr>
        <p:sp>
          <p:nvSpPr>
            <p:cNvPr id="355" name=""/>
            <p:cNvSpPr/>
            <p:nvPr/>
          </p:nvSpPr>
          <p:spPr>
            <a:xfrm>
              <a:off x="6394320" y="4741920"/>
              <a:ext cx="2190960" cy="3445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4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9040" y="4741920"/>
              <a:ext cx="2195280" cy="3445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0400" y="4741920"/>
              <a:ext cx="3068640" cy="3445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buranti extra rete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94320" y="4398840"/>
              <a:ext cx="2190960" cy="34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99040" y="4398840"/>
              <a:ext cx="2195280" cy="34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l territo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30400" y="4398840"/>
              <a:ext cx="3068640" cy="34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o lu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94320" y="5086440"/>
              <a:ext cx="2190960" cy="3427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4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99040" y="5086440"/>
              <a:ext cx="2195280" cy="3427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30400" y="5086440"/>
              <a:ext cx="3068640" cy="3427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asolio da riscaldament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94320" y="1816200"/>
              <a:ext cx="2190960" cy="379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9040" y="1816200"/>
              <a:ext cx="2195280" cy="379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30400" y="1816200"/>
              <a:ext cx="3068640" cy="379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Biodiesel da riscaldament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94320" y="1471680"/>
              <a:ext cx="2190960" cy="34452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99040" y="1471680"/>
              <a:ext cx="2195280" cy="34452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5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30400" y="1471680"/>
              <a:ext cx="3068640" cy="34452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94320" y="3321000"/>
              <a:ext cx="2190960" cy="349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9040" y="3321000"/>
              <a:ext cx="2195280" cy="349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5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Energia elettrica e gas natur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30400" y="3321000"/>
              <a:ext cx="3068640" cy="349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Energia elettrica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94320" y="4024440"/>
              <a:ext cx="2190960" cy="37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7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99040" y="4024440"/>
              <a:ext cx="2195280" cy="37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30400" y="4024440"/>
              <a:ext cx="3068640" cy="37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asolio da riscaldament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94320" y="3670200"/>
              <a:ext cx="2190960" cy="354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9040" y="3670200"/>
              <a:ext cx="2195280" cy="354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30400" y="3670200"/>
              <a:ext cx="3068640" cy="354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o Integrato 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94320" y="2949480"/>
              <a:ext cx="2190960" cy="371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9040" y="2949480"/>
              <a:ext cx="2195280" cy="371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30400" y="2949480"/>
              <a:ext cx="3068640" cy="371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asolio da riscaldament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94320" y="2576520"/>
              <a:ext cx="219096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9040" y="2576520"/>
              <a:ext cx="219528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0400" y="2576520"/>
              <a:ext cx="306864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Carburanti rete – buoni acquisto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94320" y="2195640"/>
              <a:ext cx="219096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99040" y="2195640"/>
              <a:ext cx="219528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30400" y="2195640"/>
              <a:ext cx="306864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buranti extra ret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30400" y="1471680"/>
              <a:ext cx="7454880" cy="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30400" y="2576520"/>
              <a:ext cx="7454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30400" y="2949480"/>
              <a:ext cx="745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30400" y="3321000"/>
              <a:ext cx="7454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30400" y="402444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30400" y="4398840"/>
              <a:ext cx="745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400" y="5429160"/>
              <a:ext cx="7454880" cy="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99040" y="1471680"/>
              <a:ext cx="1440" cy="39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94320" y="1471680"/>
              <a:ext cx="1800" cy="39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0400" y="3670200"/>
              <a:ext cx="745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0400" y="1471680"/>
              <a:ext cx="1440" cy="395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585280" y="1471680"/>
              <a:ext cx="1440" cy="395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30400" y="181620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30400" y="219564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30400" y="4741920"/>
              <a:ext cx="7454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0400" y="508644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8515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3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05" name=""/>
          <p:cNvSpPr/>
          <p:nvPr/>
        </p:nvSpPr>
        <p:spPr>
          <a:xfrm>
            <a:off x="4232160" y="4653000"/>
            <a:ext cx="23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uranti, combustibili e lubrific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0880" y="501336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uranti, combustibili e lubrific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60880" y="3716280"/>
            <a:ext cx="223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ergia elettrica e gas natu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365B-70BD-4BEF-92F7-44AD86ED8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8840880" y="2001960"/>
            <a:ext cx="100800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rea Be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e Servizi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1484280"/>
            <a:ext cx="7640640" cy="4203360"/>
            <a:chOff x="992160" y="1484280"/>
            <a:chExt cx="7640640" cy="4203360"/>
          </a:xfrm>
        </p:grpSpPr>
        <p:sp>
          <p:nvSpPr>
            <p:cNvPr id="411" name=""/>
            <p:cNvSpPr/>
            <p:nvPr/>
          </p:nvSpPr>
          <p:spPr>
            <a:xfrm>
              <a:off x="6561000" y="3341520"/>
              <a:ext cx="2071800" cy="4172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47960" y="3341520"/>
              <a:ext cx="1913040" cy="4172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7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per l’I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92160" y="3341520"/>
              <a:ext cx="3655800" cy="4172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Ottimizzazione di beni e servizi TLC e supporto specialist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61000" y="5319720"/>
              <a:ext cx="2071800" cy="3679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47960" y="5319720"/>
              <a:ext cx="1913040" cy="3679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dumenti ed access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92160" y="5319720"/>
              <a:ext cx="3655800" cy="3679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Dispositivi di protezione individuale e access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61000" y="2925720"/>
              <a:ext cx="2071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7960" y="2925720"/>
              <a:ext cx="191304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Macchine, apparecchiature tecnico sanitar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92160" y="2925720"/>
              <a:ext cx="3655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ntisettici e disinfetta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61000" y="1484280"/>
              <a:ext cx="2071800" cy="311760"/>
            </a:xfrm>
            <a:prstGeom prst="rect">
              <a:avLst/>
            </a:prstGeom>
            <a:solidFill>
              <a:srgbClr val="0b337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47960" y="1484280"/>
              <a:ext cx="1913040" cy="311760"/>
            </a:xfrm>
            <a:prstGeom prst="rect">
              <a:avLst/>
            </a:prstGeom>
            <a:solidFill>
              <a:srgbClr val="0b337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2160" y="1484280"/>
              <a:ext cx="3655800" cy="311760"/>
            </a:xfrm>
            <a:prstGeom prst="rect">
              <a:avLst/>
            </a:prstGeom>
            <a:solidFill>
              <a:srgbClr val="0b337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61000" y="4590360"/>
              <a:ext cx="2071800" cy="36468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7960" y="4590360"/>
              <a:ext cx="1913040" cy="36468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6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Alimenti e ristor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2160" y="4590360"/>
              <a:ext cx="3655800" cy="36468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Prodotti ortofrutticoli freschi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61000" y="4955040"/>
              <a:ext cx="2071800" cy="3643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47960" y="4955040"/>
              <a:ext cx="1913040" cy="3643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8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Alimenti e ristor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92160" y="4955040"/>
              <a:ext cx="3655800" cy="3643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Derrate alimentari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61000" y="1796040"/>
              <a:ext cx="2071800" cy="3999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7960" y="1796040"/>
              <a:ext cx="1913040" cy="3999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 assicurativi e finanzi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92160" y="1796040"/>
              <a:ext cx="3655800" cy="3999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ssicurazioni RC dirige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61000" y="2196360"/>
              <a:ext cx="2071800" cy="417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7960" y="2196360"/>
              <a:ext cx="1913040" cy="417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92160" y="2196360"/>
              <a:ext cx="3655800" cy="417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Microsoft 7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61000" y="4174560"/>
              <a:ext cx="2071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47960" y="4174560"/>
              <a:ext cx="191304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 assicurativi e finanzi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2160" y="4174560"/>
              <a:ext cx="3655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te di credi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61000" y="3758760"/>
              <a:ext cx="2071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7960" y="3758760"/>
              <a:ext cx="191304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dumenti ed access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92160" y="3758760"/>
              <a:ext cx="3655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lzature da lavo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61000" y="2613960"/>
              <a:ext cx="2071800" cy="3117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47960" y="2613960"/>
              <a:ext cx="1913040" cy="3117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per l’I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92160" y="2613960"/>
              <a:ext cx="3655800" cy="3117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58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oluzioni e servizi di Contact Ce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92160" y="29257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92160" y="41745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92160" y="45903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796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6100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92160" y="26139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2160" y="21963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92160" y="53197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2160" y="49550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92160" y="148428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92160" y="33415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9216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216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4796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6100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3280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3280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9216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4796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6100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3280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92160" y="37587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9216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796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6100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3280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7280" y="81612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4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FBF3-D3C1-4316-8ACE-208440BC1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20:28Z</dcterms:created>
  <dc:creator>mnd</dc:creator>
  <dc:description/>
  <dc:language>en-US</dc:language>
  <cp:lastModifiedBy>isabella.rapisarda</cp:lastModifiedBy>
  <cp:lastPrinted>2006-09-12T16:34:06Z</cp:lastPrinted>
  <dcterms:modified xsi:type="dcterms:W3CDTF">2008-06-26T08:07:01Z</dcterms:modified>
  <cp:revision>431</cp:revision>
  <dc:subject/>
  <dc:title>Il mercato elettronico della P.A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90477332</vt:r8>
  </property>
  <property fmtid="{D5CDD505-2E9C-101B-9397-08002B2CF9AE}" pid="3" name="_AuthorEmail">
    <vt:lpwstr>anna.vidoni@tesoro.it</vt:lpwstr>
  </property>
  <property fmtid="{D5CDD505-2E9C-101B-9397-08002B2CF9AE}" pid="4" name="_AuthorEmailDisplayName">
    <vt:lpwstr>Anna Vidoni</vt:lpwstr>
  </property>
  <property fmtid="{D5CDD505-2E9C-101B-9397-08002B2CF9AE}" pid="5" name="_EmailSubject">
    <vt:lpwstr>ppt nuovi strumenti</vt:lpwstr>
  </property>
  <property fmtid="{D5CDD505-2E9C-101B-9397-08002B2CF9AE}" pid="6" name="_ReviewingToolsShownOnce">
    <vt:lpwstr/>
  </property>
</Properties>
</file>